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7.jpeg" ContentType="image/jpeg"/>
  <Override PartName="/ppt/media/image23.gif" ContentType="image/gif"/>
  <Override PartName="/ppt/media/image22.gif" ContentType="image/gif"/>
  <Override PartName="/ppt/media/image21.jpeg" ContentType="image/jpeg"/>
  <Override PartName="/ppt/media/image24.png" ContentType="image/png"/>
  <Override PartName="/ppt/media/image1.gif" ContentType="image/gif"/>
  <Override PartName="/ppt/media/image31.gif" ContentType="image/gif"/>
  <Override PartName="/ppt/media/image19.gif" ContentType="image/gif"/>
  <Override PartName="/ppt/media/image41.jpeg" ContentType="image/jpeg"/>
  <Override PartName="/ppt/media/image16.gif" ContentType="image/gif"/>
  <Override PartName="/ppt/media/image17.png" ContentType="image/png"/>
  <Override PartName="/ppt/media/image14.gif" ContentType="image/gif"/>
  <Override PartName="/ppt/media/image8.jpeg" ContentType="image/jpeg"/>
  <Override PartName="/ppt/media/image35.jpeg" ContentType="image/jpeg"/>
  <Override PartName="/ppt/media/image10.jpeg" ContentType="image/jpeg"/>
  <Override PartName="/ppt/media/image25.gif" ContentType="image/gif"/>
  <Override PartName="/ppt/media/image2.gif" ContentType="image/gif"/>
  <Override PartName="/ppt/media/image42.jpeg" ContentType="image/jpeg"/>
  <Override PartName="/ppt/media/image11.gif" ContentType="image/gif"/>
  <Override PartName="/ppt/media/image30.jpeg" ContentType="image/jpeg"/>
  <Override PartName="/ppt/media/image12.gif" ContentType="image/gif"/>
  <Override PartName="/ppt/media/image3.jpeg" ContentType="image/jpeg"/>
  <Override PartName="/ppt/media/image33.gif" ContentType="image/gif"/>
  <Override PartName="/ppt/media/image34.jpeg" ContentType="image/jpeg"/>
  <Override PartName="/ppt/media/image32.png" ContentType="image/png"/>
  <Override PartName="/ppt/media/image4.gif" ContentType="image/gif"/>
  <Override PartName="/ppt/media/image36.jpeg" ContentType="image/jpeg"/>
  <Override PartName="/ppt/media/image40.gif" ContentType="image/gif"/>
  <Override PartName="/ppt/media/image43.jpeg" ContentType="image/jpeg"/>
  <Override PartName="/ppt/media/image39.gif" ContentType="image/gif"/>
  <Override PartName="/ppt/media/image9.gif" ContentType="image/gif"/>
  <Override PartName="/ppt/media/image13.jpeg" ContentType="image/jpeg"/>
  <Override PartName="/ppt/media/image18.gif" ContentType="image/gif"/>
  <Override PartName="/ppt/media/image20.gif" ContentType="image/gif"/>
  <Override PartName="/ppt/media/image37.gif" ContentType="image/gif"/>
  <Override PartName="/ppt/media/image7.gif" ContentType="image/gif"/>
  <Override PartName="/ppt/media/image26.jpeg" ContentType="image/jpeg"/>
  <Override PartName="/ppt/media/image38.jpeg" ContentType="image/jpeg"/>
  <Override PartName="/ppt/media/image5.gif" ContentType="image/gif"/>
  <Override PartName="/ppt/media/image28.gif" ContentType="image/gi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F6E4-83D8-4301-8C48-0BB48151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2108-223D-448D-A70D-2A0A356E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FC96-A17E-442A-84DD-98175C07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781B-645D-48AE-AB33-73494271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1C85-7954-4B30-A689-86363532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2256-A60F-4AB6-A235-A37394A0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10F2-841F-489C-B7CD-3FEC8E5D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F929-E5C9-4FEC-859D-9D5CAEA8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BE18-678A-41FE-9E41-C4E16322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EC16-6A94-40F4-B656-B1FAC86D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B41-9DB3-4109-A58B-84AE387B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16C5-7564-4E5E-86F0-BA1E7B2D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2C8A-652C-4B8F-A6FC-8571C0655A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hotos-e.ak.facebook.com/photos-ak-sf2p/v256/235/49/645697225/n645697225_481660_8674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g222.imageshack.us/img222/2082/photo65xe3.gif" TargetMode="External"/><Relationship Id="rId4" Type="http://schemas.openxmlformats.org/officeDocument/2006/relationships/image" Target="../media/image4.gif"/><Relationship Id="rId5" Type="http://schemas.openxmlformats.org/officeDocument/2006/relationships/hyperlink" Target="http://www3.0zz0.com/2008/05/14/14/434229615.gif" TargetMode="External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3.0zz0.com/2008/05/14/14/976956110.gif" TargetMode="External"/><Relationship Id="rId2" Type="http://schemas.openxmlformats.org/officeDocument/2006/relationships/image" Target="../media/image6.png"/><Relationship Id="rId3" Type="http://schemas.openxmlformats.org/officeDocument/2006/relationships/hyperlink" Target="http://www3.0zz0.com/2008/05/14/14/976956110.gif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www3.0zz0.com/2008/05/14/14/632963771.gif" TargetMode="External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229160" cy="4454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284720" y="3068640"/>
            <a:ext cx="2087640" cy="302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508720" y="6524640"/>
            <a:ext cx="36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كنيسة الشهيد العظيم مارجرجس بسمادو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504720" y="652464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خدمة خوارس سمادو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979640" y="189000"/>
            <a:ext cx="4681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إنما قلبي لقد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24000" y="5229360"/>
            <a:ext cx="4794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أقسمت ألا تدخليه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5616360" cy="3762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661080" y="4076640"/>
            <a:ext cx="647640" cy="1079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619280" y="4076640"/>
            <a:ext cx="647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332000" y="1916280"/>
            <a:ext cx="1944720" cy="2736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-108000" y="115920"/>
            <a:ext cx="423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أنا لا أملك قلبي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108000" y="5230800"/>
            <a:ext cx="4248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و كذا لن تملكيه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24000" y="1844640"/>
            <a:ext cx="1800000" cy="494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و قد 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إستودعني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020000" y="189000"/>
            <a:ext cx="194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ن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ملك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لربى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60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473200" y="5465880"/>
            <a:ext cx="447516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هوذا قلبي اسأليه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627280" y="260280"/>
            <a:ext cx="4095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عبثا قربك منه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95560" y="1339920"/>
            <a:ext cx="7048440" cy="4537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24036" t="0" r="54258" b="77295"/>
          <a:stretch/>
        </p:blipFill>
        <p:spPr>
          <a:xfrm>
            <a:off x="4211640" y="2781360"/>
            <a:ext cx="1008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473200" y="5465880"/>
            <a:ext cx="447516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هوذا قلبي اسأليه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627280" y="260280"/>
            <a:ext cx="4095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عبثا قربك منه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95560" y="1339920"/>
            <a:ext cx="7048440" cy="4537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24036" t="0" r="54258" b="77295"/>
          <a:stretch/>
        </p:blipFill>
        <p:spPr>
          <a:xfrm>
            <a:off x="4211640" y="2781360"/>
            <a:ext cx="1008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02560" y="2278080"/>
            <a:ext cx="1873080" cy="57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زوجك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لغائب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قد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أعهدني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4000" y="2421000"/>
            <a:ext cx="201600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مال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و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عرض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700360" y="0"/>
            <a:ext cx="38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rot="19296600">
            <a:off x="3398400" y="5549400"/>
            <a:ext cx="2468520" cy="1911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948360" y="0"/>
            <a:ext cx="1667160" cy="1666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68360" y="-27000"/>
            <a:ext cx="16668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9640" y="262080"/>
            <a:ext cx="324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بل و قد ملكني في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66720" y="5300640"/>
            <a:ext cx="3184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بيته طولا و عرض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496728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18889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02560" y="2278080"/>
            <a:ext cx="1873080" cy="57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زوجك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لغائب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قد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أعهدني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2421000"/>
            <a:ext cx="201600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مال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و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عرض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700360" y="0"/>
            <a:ext cx="38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19296600">
            <a:off x="3398400" y="5549400"/>
            <a:ext cx="2468520" cy="1911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948360" y="0"/>
            <a:ext cx="1667160" cy="1666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68360" y="-27000"/>
            <a:ext cx="16668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9640" y="262080"/>
            <a:ext cx="324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بل و قد ملكني في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66720" y="5300640"/>
            <a:ext cx="3184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بيته طولا و عرض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496728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18889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57880" y="260280"/>
            <a:ext cx="30304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نه عهد وثي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024520" y="5302080"/>
            <a:ext cx="3502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كيف أهوى فيه نقض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996160" y="2133720"/>
            <a:ext cx="18889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اضغط على الصورة لرؤيتها بالحجم الطبيعي">
            <a:hlinkClick r:id="rId1"/>
          </p:cNvPr>
          <p:cNvPicPr/>
          <p:nvPr/>
        </p:nvPicPr>
        <p:blipFill>
          <a:blip r:embed="rId2"/>
          <a:srcRect l="11201" t="5634" r="3698" b="1850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اضغط على الصورة لرؤيتها بالحجم الطبيعي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65800" y="4005360"/>
            <a:ext cx="4066920" cy="2852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اضغط على الصورة لرؤيتها بالحجم الطبيعي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11800" y="400536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093080" y="331920"/>
            <a:ext cx="143964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و إذ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ما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كنت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خوان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39607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539640" y="620640"/>
            <a:ext cx="136836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أخون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لعهد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فرض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122960" y="4869000"/>
            <a:ext cx="1409760" cy="1989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95280" y="4881600"/>
            <a:ext cx="14097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357880" y="260280"/>
            <a:ext cx="30304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نه عهد وثي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024520" y="5302080"/>
            <a:ext cx="3502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كيف أهوى فيه نقض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996160" y="2133720"/>
            <a:ext cx="18889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7093080" y="331920"/>
            <a:ext cx="143964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و إذ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ما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كنت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خوان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396072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539640" y="620640"/>
            <a:ext cx="136836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أخون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لعهد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فرض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122960" y="4869000"/>
            <a:ext cx="1409760" cy="1989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95280" y="4881600"/>
            <a:ext cx="14097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45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5459400" y="3933720"/>
            <a:ext cx="3000240" cy="16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كيف أعصي الله ربى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42880" y="4221000"/>
            <a:ext cx="2733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و بهذا الشر أرضى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0" y="0"/>
            <a:ext cx="5580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ناسيا عقلي و ديني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76720" y="5562720"/>
            <a:ext cx="5724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طارحا تقواي أرض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37480" y="907920"/>
            <a:ext cx="57600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45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5459400" y="3933720"/>
            <a:ext cx="3000240" cy="16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كيف أعصي الله ربى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42880" y="4221000"/>
            <a:ext cx="2733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و بهذا الشر أرضى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0" y="0"/>
            <a:ext cx="5580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ناسيا عقلي و ديني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5562720"/>
            <a:ext cx="5724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طارحا تقواي أرض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837480" y="907920"/>
            <a:ext cx="57600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979640" y="333360"/>
            <a:ext cx="5329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فابعدي عنى دعيني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052720" y="5589720"/>
            <a:ext cx="51800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إن أخلاقك مرضى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79640" y="1411200"/>
            <a:ext cx="6877080" cy="3889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101080" y="5286240"/>
            <a:ext cx="714240" cy="1571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324000" y="5300640"/>
            <a:ext cx="7142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588000" y="979560"/>
            <a:ext cx="1871640" cy="61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أي فخر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لك في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ثوبي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8000" y="1844640"/>
            <a:ext cx="237636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و قد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أخلعتني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32338" t="0" r="27337" b="34877"/>
          <a:stretch/>
        </p:blipFill>
        <p:spPr>
          <a:xfrm>
            <a:off x="2484360" y="765000"/>
            <a:ext cx="4103640" cy="5156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55640" y="5013360"/>
            <a:ext cx="893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588000" y="979560"/>
            <a:ext cx="1871640" cy="61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أي فخر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لك في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ثوبي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8000" y="1844640"/>
            <a:ext cx="237636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و قد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أخلعتني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32338" t="0" r="27337" b="34877"/>
          <a:stretch/>
        </p:blipFill>
        <p:spPr>
          <a:xfrm>
            <a:off x="2484360" y="765000"/>
            <a:ext cx="4103640" cy="5156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55640" y="5013360"/>
            <a:ext cx="893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اضغط على الصورة لرؤيتها بالحجم الطبيعي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اضغط على الصورة لرؤيتها بالحجم الطبيعي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0" y="5877000"/>
            <a:ext cx="9144000" cy="1052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اضغط على الصورة لرؤيتها بالحجم الطبيعي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5640" y="476280"/>
            <a:ext cx="7632720" cy="4897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330200" y="1052640"/>
            <a:ext cx="669780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DecoType Naskh Special"/>
              </a:rPr>
              <a:t>قصيدة 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DecoType Naskh Special"/>
              <a:ea typeface="DecoType Naskh Spec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DecoType Naskh Special"/>
              </a:rPr>
              <a:t>هوذا الثوب خذيه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DecoType Naskh Special"/>
              <a:ea typeface="DecoType Naskh Spec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56000" y="4797360"/>
            <a:ext cx="4029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لقداسة البابا شنوده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435640" y="333360"/>
            <a:ext cx="32400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آه لو تدرين ما أعل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291280" y="4869000"/>
            <a:ext cx="3313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عن آبرام جدي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8" name="" descr="اضغط لتكبيـر الصورة"/>
          <p:cNvPicPr/>
          <p:nvPr/>
        </p:nvPicPr>
        <p:blipFill>
          <a:blip r:embed="rId1"/>
          <a:stretch/>
        </p:blipFill>
        <p:spPr>
          <a:xfrm>
            <a:off x="0" y="1197000"/>
            <a:ext cx="4572000" cy="4608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 rot="19296600">
            <a:off x="1116000" y="-282600"/>
            <a:ext cx="2468520" cy="1911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 rot="19296600">
            <a:off x="1116000" y="5478120"/>
            <a:ext cx="246852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03360" y="333360"/>
            <a:ext cx="3105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قصة الطاعة و المذبح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2920" y="5302080"/>
            <a:ext cx="2376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و الابن المعدِ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3" name="" descr="اضغط لتكبيـر الصورة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1944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4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435640" y="333360"/>
            <a:ext cx="32400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آه لو تدرين ما أعل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291280" y="4869000"/>
            <a:ext cx="3313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عن آبرام جدي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7" name="" descr="اضغط لتكبيـر الصورة"/>
          <p:cNvPicPr/>
          <p:nvPr/>
        </p:nvPicPr>
        <p:blipFill>
          <a:blip r:embed="rId1"/>
          <a:stretch/>
        </p:blipFill>
        <p:spPr>
          <a:xfrm>
            <a:off x="0" y="1197000"/>
            <a:ext cx="4572000" cy="4608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 rot="19296600">
            <a:off x="1116000" y="-282600"/>
            <a:ext cx="2468520" cy="19112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 rot="19296600">
            <a:off x="1116000" y="5478120"/>
            <a:ext cx="246852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03360" y="333360"/>
            <a:ext cx="3105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قصة الطاعة و المذبح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42920" y="5302080"/>
            <a:ext cx="2376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و الابن المعدِ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82" name="" descr="اضغط لتكبيـر الصورة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1944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4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اضغط لتكبيـر الصورة"/>
          <p:cNvPicPr/>
          <p:nvPr/>
        </p:nvPicPr>
        <p:blipFill>
          <a:blip r:embed="rId1"/>
          <a:stretch/>
        </p:blipFill>
        <p:spPr>
          <a:xfrm>
            <a:off x="2268360" y="0"/>
            <a:ext cx="687564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 rot="20680200">
            <a:off x="2268360" y="404640"/>
            <a:ext cx="3616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طاعة غنى بها العال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8200" y="2422440"/>
            <a:ext cx="1297080" cy="55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من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عهد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لعهدِ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اضغط لتكبيـر الصورة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4354560" y="46080"/>
            <a:ext cx="410508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طاعة أورثتها قد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8000" y="981000"/>
            <a:ext cx="31622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75757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أصبحت عنوان مجدي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757575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اضغط لتكبيـر الصورة"/>
          <p:cNvPicPr/>
          <p:nvPr/>
        </p:nvPicPr>
        <p:blipFill>
          <a:blip r:embed="rId1"/>
          <a:stretch/>
        </p:blipFill>
        <p:spPr>
          <a:xfrm>
            <a:off x="2268360" y="0"/>
            <a:ext cx="687564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 rot="20680200">
            <a:off x="2268360" y="404640"/>
            <a:ext cx="3616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طاعة غنى بها العال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38200" y="2422440"/>
            <a:ext cx="1297080" cy="55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من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عهد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لعهدِ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اضغط لتكبيـر الصورة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4354560" y="46080"/>
            <a:ext cx="410508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طاعة أورثتها قد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8000" y="981000"/>
            <a:ext cx="31622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75757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أصبحت عنوان مجدي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757575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556000" y="190440"/>
            <a:ext cx="404640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طاعة لله لا للشر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411280" y="5661000"/>
            <a:ext cx="42451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إن الشر يردى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981080" y="1268280"/>
            <a:ext cx="5327640" cy="4208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-31680" y="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5000760" y="404640"/>
            <a:ext cx="4025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طاعة للروح لا للجس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156360" y="2349360"/>
            <a:ext cx="2870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إن الجسم عبدي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788000" y="333360"/>
            <a:ext cx="4066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هو ذا الثوب خذيه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859280" y="5300640"/>
            <a:ext cx="3745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إن قلبي ليس فيه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867280" y="1916280"/>
            <a:ext cx="1944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556000" y="190440"/>
            <a:ext cx="404640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طاعة لله لا للشر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411280" y="5661000"/>
            <a:ext cx="42451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إن الشر يردى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981080" y="1268280"/>
            <a:ext cx="5327640" cy="42087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-31680" y="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5000760" y="404640"/>
            <a:ext cx="4025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طاعة للروح لا للجس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156360" y="2349360"/>
            <a:ext cx="2870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إن الجسم عبدي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6372360" y="1125360"/>
            <a:ext cx="2181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100000">
                      <a:srgbClr val="993300">
                        <a:alpha val="50196"/>
                      </a:srgbClr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سأطيع الله حتى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990000"/>
                  </a:gs>
                  <a:gs pos="100000">
                    <a:srgbClr val="993300">
                      <a:alpha val="50196"/>
                    </a:srgbClr>
                  </a:gs>
                </a:gsLst>
                <a:lin ang="135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50920" y="1268280"/>
            <a:ext cx="2735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990000">
                        <a:alpha val="50196"/>
                      </a:srgbClr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لو أطعت الله وحدي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993300"/>
                  </a:gs>
                  <a:gs pos="100000">
                    <a:srgbClr val="990000">
                      <a:alpha val="50196"/>
                    </a:srgbClr>
                  </a:gs>
                </a:gsLst>
                <a:lin ang="135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1908000" y="0"/>
            <a:ext cx="511344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كيف أعصي الله منقادا 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627280" y="5516640"/>
            <a:ext cx="3600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لذا الشر الكريه</a:t>
            </a:r>
            <a:endParaRPr b="0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1908000" y="0"/>
            <a:ext cx="511344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كيف أعصي الله منقادا 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627280" y="5516640"/>
            <a:ext cx="3600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لذا الشر الكريه</a:t>
            </a:r>
            <a:endParaRPr b="0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788000" y="333360"/>
            <a:ext cx="4066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هو ذا الثوب خذيه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859280" y="5300640"/>
            <a:ext cx="3745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إن قلبي ليس فيه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867280" y="1916280"/>
            <a:ext cx="1944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4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788000" y="333360"/>
            <a:ext cx="4066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هو ذا الثوب خذيه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859280" y="5300640"/>
            <a:ext cx="3745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إن قلبي ليس فيه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867280" y="1916280"/>
            <a:ext cx="1944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4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788000" y="333360"/>
            <a:ext cx="4066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هو ذا الثوب خذيه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859280" y="5300640"/>
            <a:ext cx="3745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إن قلبي ليس فيه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867280" y="1916280"/>
            <a:ext cx="1944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99880" y="-27000"/>
            <a:ext cx="3552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أنا لا املك هذا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6360" y="5229360"/>
            <a:ext cx="3959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لثوب بل لا أدعيه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2428920" cy="2733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740720" y="1413000"/>
            <a:ext cx="5047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4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4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692360" y="-27000"/>
            <a:ext cx="5759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هو من مالك أنت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92360" y="5557680"/>
            <a:ext cx="5832360" cy="262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لك أن تسترجعي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3792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50920" y="5438880"/>
            <a:ext cx="923760" cy="1419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028000" y="5438880"/>
            <a:ext cx="923760" cy="1419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395280" y="189000"/>
            <a:ext cx="923760" cy="1419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7956720" y="189000"/>
            <a:ext cx="9237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948120" y="115920"/>
            <a:ext cx="4944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فانزعي الثوب إذا شئت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-61920" y="5589720"/>
            <a:ext cx="4849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و إن شئت اتركيه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6360" y="1422360"/>
            <a:ext cx="7416720" cy="4022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23280" y="1484280"/>
            <a:ext cx="1620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48120" y="115920"/>
            <a:ext cx="4944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فانزعي الثوب إذا شئت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-61920" y="5589720"/>
            <a:ext cx="4849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و إن شئت اتركيه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6360" y="1422360"/>
            <a:ext cx="7416720" cy="4022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523280" y="1484280"/>
            <a:ext cx="1620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20:47:31Z</dcterms:created>
  <dc:creator>USER</dc:creator>
  <dc:description/>
  <dc:language>en-US</dc:language>
  <cp:lastModifiedBy>USER</cp:lastModifiedBy>
  <dcterms:modified xsi:type="dcterms:W3CDTF">2010-05-03T15:06:26Z</dcterms:modified>
  <cp:revision>13</cp:revision>
  <dc:subject/>
  <dc:title>Slide 1</dc:title>
</cp:coreProperties>
</file>