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23.gif" ContentType="image/gif"/>
  <Override PartName="/ppt/media/image22.gif" ContentType="image/gif"/>
  <Override PartName="/ppt/media/image21.jpeg" ContentType="image/jpeg"/>
  <Override PartName="/ppt/media/image24.png" ContentType="image/png"/>
  <Override PartName="/ppt/media/image1.gif" ContentType="image/gif"/>
  <Override PartName="/ppt/media/image31.gif" ContentType="image/gif"/>
  <Override PartName="/ppt/media/image19.gif" ContentType="image/gif"/>
  <Override PartName="/ppt/media/image41.jpeg" ContentType="image/jpeg"/>
  <Override PartName="/ppt/media/image16.gif" ContentType="image/gif"/>
  <Override PartName="/ppt/media/image17.png" ContentType="image/png"/>
  <Override PartName="/ppt/media/image14.gif" ContentType="image/gif"/>
  <Override PartName="/ppt/media/image8.jpeg" ContentType="image/jpeg"/>
  <Override PartName="/ppt/media/image35.jpeg" ContentType="image/jpeg"/>
  <Override PartName="/ppt/media/image10.jpeg" ContentType="image/jpeg"/>
  <Override PartName="/ppt/media/image25.gif" ContentType="image/gif"/>
  <Override PartName="/ppt/media/image2.gif" ContentType="image/gif"/>
  <Override PartName="/ppt/media/image42.jpeg" ContentType="image/jpeg"/>
  <Override PartName="/ppt/media/image11.gif" ContentType="image/gif"/>
  <Override PartName="/ppt/media/image30.jpeg" ContentType="image/jpeg"/>
  <Override PartName="/ppt/media/image12.gif" ContentType="image/gif"/>
  <Override PartName="/ppt/media/image3.jpeg" ContentType="image/jpeg"/>
  <Override PartName="/ppt/media/image33.gif" ContentType="image/gif"/>
  <Override PartName="/ppt/media/image34.jpeg" ContentType="image/jpeg"/>
  <Override PartName="/ppt/media/image32.png" ContentType="image/png"/>
  <Override PartName="/ppt/media/image4.gif" ContentType="image/gif"/>
  <Override PartName="/ppt/media/image36.jpeg" ContentType="image/jpeg"/>
  <Override PartName="/ppt/media/image40.gif" ContentType="image/gif"/>
  <Override PartName="/ppt/media/image43.jpeg" ContentType="image/jpeg"/>
  <Override PartName="/ppt/media/image39.gif" ContentType="image/gif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37.gif" ContentType="image/gif"/>
  <Override PartName="/ppt/media/image7.gif" ContentType="image/gif"/>
  <Override PartName="/ppt/media/image26.jpeg" ContentType="image/jpeg"/>
  <Override PartName="/ppt/media/image38.jpeg" ContentType="image/jpeg"/>
  <Override PartName="/ppt/media/image5.gif" ContentType="image/gif"/>
  <Override PartName="/ppt/media/image28.gif" ContentType="image/gi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961-A665-4847-814D-B27B5F2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0B3-C7AD-4940-893A-84E1C507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9DC-8712-4FC9-99E7-3A04AF63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A17-2154-4843-857D-27FDBEBD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BFE-9D2C-4B67-B35C-39D9D98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1F2-9D89-44CC-BBA3-4A34614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AF-20F1-4B15-BB83-FD8E2714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D6F-855B-4890-AF3C-16737548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57A-9045-49AB-9CDF-501826E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3A8-CA47-4D00-9713-A66EA25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2B1-BA71-41A7-9F53-6B3A545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2FD-604C-4DA3-9C4C-79E880B2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B6D-1879-4B1A-B92F-A8500F1659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-e.ak.facebook.com/photos-ak-sf2p/v256/235/49/645697225/n645697225_481660_867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222.imageshack.us/img222/2082/photo65xe3.gif" TargetMode="External"/><Relationship Id="rId4" Type="http://schemas.openxmlformats.org/officeDocument/2006/relationships/image" Target="../media/image4.gif"/><Relationship Id="rId5" Type="http://schemas.openxmlformats.org/officeDocument/2006/relationships/hyperlink" Target="http://www3.0zz0.com/2008/05/14/14/434229615.gif" TargetMode="Externa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3.0zz0.com/2008/05/14/14/976956110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3.0zz0.com/2008/05/14/14/976956110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3.0zz0.com/2008/05/14/14/632963771.gif" TargetMode="Externa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229160" cy="445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208764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08720" y="652464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نيسة الشهيد العظيم مارجرجس بسمادو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504720" y="6524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خدمة خوارس سمادو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18900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ما قلبي ل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4000" y="5229360"/>
            <a:ext cx="479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قسمت ألا تدخل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376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61080" y="4076640"/>
            <a:ext cx="64764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19280" y="4076640"/>
            <a:ext cx="647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1944720" cy="27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-108000" y="115920"/>
            <a:ext cx="423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نا لا أملك قلب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08000" y="5230800"/>
            <a:ext cx="42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كذا لن تمل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844640"/>
            <a:ext cx="1800000" cy="494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 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ستودعني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020000" y="189000"/>
            <a:ext cx="194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ل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ربى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473200" y="5465880"/>
            <a:ext cx="44751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ذا قلبي اسأليه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27280" y="260280"/>
            <a:ext cx="4095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بثا قربك من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95560" y="1339920"/>
            <a:ext cx="7048440" cy="453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24036" t="0" r="54258" b="77295"/>
          <a:stretch/>
        </p:blipFill>
        <p:spPr>
          <a:xfrm>
            <a:off x="4211640" y="2781360"/>
            <a:ext cx="100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473200" y="5465880"/>
            <a:ext cx="44751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ذا قلبي اسأليه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27280" y="260280"/>
            <a:ext cx="4095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بثا قربك من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95560" y="1339920"/>
            <a:ext cx="704844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4036" t="0" r="54258" b="77295"/>
          <a:stretch/>
        </p:blipFill>
        <p:spPr>
          <a:xfrm>
            <a:off x="4211640" y="2781360"/>
            <a:ext cx="100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02560" y="2278080"/>
            <a:ext cx="187308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زوج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غائ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عهد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2421000"/>
            <a:ext cx="2016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ل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19296600">
            <a:off x="3398400" y="5549400"/>
            <a:ext cx="2468520" cy="191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-270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208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ل و قد ملكني ف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6720" y="5300640"/>
            <a:ext cx="318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يته طولا و 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02560" y="2278080"/>
            <a:ext cx="1873080" cy="57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زوج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غائ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عهد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421000"/>
            <a:ext cx="2016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ل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9296600">
            <a:off x="3398400" y="5549400"/>
            <a:ext cx="2468520" cy="191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68360" y="-270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26208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ل و قد ملكني ف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6720" y="5300640"/>
            <a:ext cx="318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يته طولا و ع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57880" y="260280"/>
            <a:ext cx="303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 عهد وثي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24520" y="5302080"/>
            <a:ext cx="350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هوى فيه نق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9616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اضغط على الصورة لرؤيتها بالحجم الطبيعي">
            <a:hlinkClick r:id="rId1"/>
          </p:cNvPr>
          <p:cNvPicPr/>
          <p:nvPr/>
        </p:nvPicPr>
        <p:blipFill>
          <a:blip r:embed="rId2"/>
          <a:srcRect l="11201" t="5634" r="3698" b="185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اضغط على الصورة لرؤيتها بالحجم الطبيعي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65800" y="4005360"/>
            <a:ext cx="4066920" cy="28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اضغط على الصورة لرؤيتها بالحجم الطبيعي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1800" y="4005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093080" y="331920"/>
            <a:ext cx="14396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ذ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خوان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620640"/>
            <a:ext cx="1368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و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عه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22960" y="4869000"/>
            <a:ext cx="140976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5280" y="4881600"/>
            <a:ext cx="1409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57880" y="260280"/>
            <a:ext cx="303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نه عهد وثي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24520" y="5302080"/>
            <a:ext cx="350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هوى فيه نق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96160" y="2133720"/>
            <a:ext cx="188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093080" y="331920"/>
            <a:ext cx="14396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ذ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ا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خوان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39640" y="620640"/>
            <a:ext cx="1368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و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عهد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22960" y="4869000"/>
            <a:ext cx="1409760" cy="198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5280" y="4881600"/>
            <a:ext cx="1409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459400" y="3933720"/>
            <a:ext cx="30002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رب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2880" y="422100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بهذا الشر أ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0"/>
            <a:ext cx="558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ناسيا عقلي و د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76720" y="5562720"/>
            <a:ext cx="57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رحا تقواي أ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37480" y="907920"/>
            <a:ext cx="576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459400" y="3933720"/>
            <a:ext cx="30002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رب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422100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بهذا الشر أ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0" y="0"/>
            <a:ext cx="558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ناسيا عقلي و د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5562720"/>
            <a:ext cx="57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رحا تقواي أرض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37480" y="907920"/>
            <a:ext cx="576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979640" y="333360"/>
            <a:ext cx="532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بعدي عنى دعين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52720" y="5589720"/>
            <a:ext cx="51800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أخلاقك مرض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79640" y="1411200"/>
            <a:ext cx="6877080" cy="3889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101080" y="5286240"/>
            <a:ext cx="71424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7142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88000" y="979560"/>
            <a:ext cx="18716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ي فخر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ف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ثوب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844640"/>
            <a:ext cx="237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لعتن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2338" t="0" r="27337" b="34877"/>
          <a:stretch/>
        </p:blipFill>
        <p:spPr>
          <a:xfrm>
            <a:off x="2484360" y="765000"/>
            <a:ext cx="4103640" cy="5156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89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88000" y="979560"/>
            <a:ext cx="18716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ي فخر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في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ثوب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000" y="1844640"/>
            <a:ext cx="237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خلعتن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32338" t="0" r="27337" b="34877"/>
          <a:stretch/>
        </p:blipFill>
        <p:spPr>
          <a:xfrm>
            <a:off x="2484360" y="765000"/>
            <a:ext cx="4103640" cy="5156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89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اضغط على الصورة لرؤيتها بالحجم الطبيعي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اضغط على الصورة لرؤيتها بالحجم الطبيعي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587700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اضغط على الصورة لرؤيتها بالحجم الطبيعي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76280"/>
            <a:ext cx="763272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30200" y="1052640"/>
            <a:ext cx="66978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DecoType Naskh Special"/>
              </a:rPr>
              <a:t>قصيدة 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DecoType Naskh Special"/>
              <a:ea typeface="DecoType Naskh Spec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DecoType Naskh Special"/>
              </a:rPr>
              <a:t>هوذا الثوب خذي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DecoType Naskh Special"/>
              <a:ea typeface="DecoType Naskh Spec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4797360"/>
            <a:ext cx="4029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لقداسة البابا شنود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435640" y="333360"/>
            <a:ext cx="324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آه لو تدرين ما أع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91280" y="4869000"/>
            <a:ext cx="331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ن آبرام ج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9296600">
            <a:off x="1116000" y="-282600"/>
            <a:ext cx="2468520" cy="1911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 rot="19296600">
            <a:off x="1116000" y="5478120"/>
            <a:ext cx="2468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3360" y="333360"/>
            <a:ext cx="310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صة الطاعة و المذبح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5302080"/>
            <a:ext cx="23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الابن المع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3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4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435640" y="333360"/>
            <a:ext cx="324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آه لو تدرين ما أع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91280" y="4869000"/>
            <a:ext cx="331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ن آبرام ج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7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19296600">
            <a:off x="1116000" y="-282600"/>
            <a:ext cx="2468520" cy="191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19296600">
            <a:off x="1116000" y="5478120"/>
            <a:ext cx="24685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3360" y="333360"/>
            <a:ext cx="310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قصة الطاعة و المذبح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5302080"/>
            <a:ext cx="23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الابن المع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2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4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 rot="20680200">
            <a:off x="2268360" y="404640"/>
            <a:ext cx="361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غنى بها العا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8200" y="2422440"/>
            <a:ext cx="1297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ه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عه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354560" y="46080"/>
            <a:ext cx="4105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أورثتها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981000"/>
            <a:ext cx="31622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صبحت عنوان مجدي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 rot="20680200">
            <a:off x="2268360" y="404640"/>
            <a:ext cx="361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غنى بها العال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8200" y="2422440"/>
            <a:ext cx="1297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ن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عه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عهدِ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اضغط لتكبيـر الصورة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354560" y="46080"/>
            <a:ext cx="4105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أورثتها ق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981000"/>
            <a:ext cx="31622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صبحت عنوان مجدي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56000" y="190440"/>
            <a:ext cx="40464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ه لا للش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11280" y="5661000"/>
            <a:ext cx="424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شر يرد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81080" y="1268280"/>
            <a:ext cx="5327640" cy="4208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-31680" y="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000760" y="404640"/>
            <a:ext cx="402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روح لا للجس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56360" y="2349360"/>
            <a:ext cx="2870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جسم عب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56000" y="190440"/>
            <a:ext cx="40464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ه لا للش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411280" y="5661000"/>
            <a:ext cx="424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شر يرد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81080" y="1268280"/>
            <a:ext cx="5327640" cy="4208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-31680" y="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5000760" y="404640"/>
            <a:ext cx="402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طاعة للروح لا للجس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56360" y="2349360"/>
            <a:ext cx="2870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الجسم عب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6372360" y="1125360"/>
            <a:ext cx="2181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99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سأطيع الله حتى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100000">
                    <a:srgbClr val="99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1268280"/>
            <a:ext cx="273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9900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و أطعت الله وحد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9900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908000" y="0"/>
            <a:ext cx="5113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منقادا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27280" y="551664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ذا الشر الكريه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908000" y="0"/>
            <a:ext cx="5113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كيف أعصي الله منقادا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27280" y="551664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ذا الشر الكريه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788000" y="333360"/>
            <a:ext cx="40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ذا الثوب خذ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300640"/>
            <a:ext cx="37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إن قلبي ليس ف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194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9880" y="-27000"/>
            <a:ext cx="3552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أنا لا املك هذا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360" y="5229360"/>
            <a:ext cx="39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ثوب بل لا أدع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428920" cy="2733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740720" y="1413000"/>
            <a:ext cx="5047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92360" y="-27000"/>
            <a:ext cx="57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هو من مالك أن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92360" y="5557680"/>
            <a:ext cx="5832360" cy="26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لك أن تسترجعي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79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543888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28000" y="543888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923760" cy="1419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956720" y="189000"/>
            <a:ext cx="923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48120" y="115920"/>
            <a:ext cx="494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نزعي الثوب إذا شئ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61920" y="5589720"/>
            <a:ext cx="4849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ن شئت اتر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6360" y="1422360"/>
            <a:ext cx="7416720" cy="4022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3280" y="1484280"/>
            <a:ext cx="162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8120" y="115920"/>
            <a:ext cx="494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فانزعي الثوب إذا شئت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61920" y="5589720"/>
            <a:ext cx="4849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و إن شئت اتركيه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1422360"/>
            <a:ext cx="7416720" cy="402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3280" y="1484280"/>
            <a:ext cx="162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7:31Z</dcterms:created>
  <dc:creator>USER</dc:creator>
  <dc:description/>
  <dc:language>en-US</dc:language>
  <cp:lastModifiedBy>USER</cp:lastModifiedBy>
  <dcterms:modified xsi:type="dcterms:W3CDTF">2010-05-03T15:06:26Z</dcterms:modified>
  <cp:revision>13</cp:revision>
  <dc:subject/>
  <dc:title>Slide 1</dc:title>
</cp:coreProperties>
</file>