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653-31D4-4010-9526-593AD004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23A-0C49-4E74-9E9D-22AEA8B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8ED-C105-4AFF-9D3D-3274A4A9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770-3003-4A84-8FC9-46C074D6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3BC-7E59-4D93-A237-757F642F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E8E-6845-4CEA-9E0A-C5DBA74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D28-3456-4210-B16E-A490D86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DC6-0056-4A42-8401-22CE61D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0FB-029C-4102-9AE8-69D9674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787-0132-48E2-BA0E-16B6495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5A1-C28F-48E7-93C7-4BBA381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955-7094-435E-8848-F7C7612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94B8-A7E9-4641-B224-C490674118F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slide" Target="slide5.xml"/><Relationship Id="rId5" Type="http://schemas.openxmlformats.org/officeDocument/2006/relationships/image" Target="../media/image3.jpeg"/><Relationship Id="rId6" Type="http://schemas.openxmlformats.org/officeDocument/2006/relationships/slide" Target="slide2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85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 ندعوك تحضـ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فـي وســطـنــ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ندعـوكَ يا ي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05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أُمـحُ خـطـايـان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سامحنا يـا ي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6606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ندعوك تحضر                 فـي وســطــــن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ندعـوكَ يا يـ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533520" y="15080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أ</a:t>
            </a: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لمِس قلوبنـا                طهر نفــوســـنـا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باركنا يا يـسـ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366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ea typeface="AF_Najed"/>
              </a:rPr>
              <a:t> ندعوك تحضر                  فـي وسطــنـــ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Simplified Arabic"/>
                <a:cs typeface="AF_Najed"/>
              </a:rPr>
              <a:t>ندعـوكَ يا يـسـ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لمس قلوب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ندعوك تحضر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مح خطاي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8:32:13Z</dcterms:created>
  <dc:creator>Rahif Abboud</dc:creator>
  <dc:description/>
  <dc:language>en-US</dc:language>
  <cp:lastModifiedBy>ZonaNet</cp:lastModifiedBy>
  <dcterms:modified xsi:type="dcterms:W3CDTF">2008-09-19T10:35:17Z</dcterms:modified>
  <cp:revision>40</cp:revision>
  <dc:subject/>
  <dc:title>No Slide Title</dc:title>
</cp:coreProperties>
</file>