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FFF-7EB5-44DC-8D93-4EB21738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03F-5085-4945-8E32-BBC9AB8A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BE0-13C5-481F-8DFB-8BBC0DBB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21E-EA4B-468A-9F2F-4A672F61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17A-DA73-463C-AA40-508ADCBC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E4D-FF73-4B09-B8C3-EF1D2B62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3B9-F274-46D8-9B20-B7A0A2C6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CAD-603E-4D23-816D-D9278351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DB2-5EFA-4755-BFF2-B6A37878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D52-690D-4483-99D8-A95DCEB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CD9-CDB5-490B-9EA9-F39E0C73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FE1-E8BC-44E5-BBED-6C90795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FECE-E552-42D3-8F6A-F4E39369709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jpeg"/><Relationship Id="rId4" Type="http://schemas.openxmlformats.org/officeDocument/2006/relationships/slide" Target="slide5.xml"/><Relationship Id="rId5" Type="http://schemas.openxmlformats.org/officeDocument/2006/relationships/image" Target="../media/image3.jpeg"/><Relationship Id="rId6" Type="http://schemas.openxmlformats.org/officeDocument/2006/relationships/slide" Target="slide2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985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 ندعوك تحضـ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فـي وســطـنـــ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ندعـوكَ يا يس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05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أُمـحُ خـطـايـانـ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سامحنا يـا يس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6606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ندعوك تحضر                 فـي وســطــــنـ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ندعـوكَ يا يـس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533520" y="15080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أ</a:t>
            </a: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لمِس قلوبنـا                طهر نفــوســـنـا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باركنا يا يـسـ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366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ندعوك تحضر                  فـي وسطــنـــ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ندعـوكَ يا يـس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لمس قلوب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ندعوك تحضر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مح خطاي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8:32:13Z</dcterms:created>
  <dc:creator>Rahif Abboud</dc:creator>
  <dc:description/>
  <dc:language>en-US</dc:language>
  <cp:lastModifiedBy>ZonaNet</cp:lastModifiedBy>
  <dcterms:modified xsi:type="dcterms:W3CDTF">2008-09-19T10:35:17Z</dcterms:modified>
  <cp:revision>40</cp:revision>
  <dc:subject/>
  <dc:title>No Slide Title</dc:title>
</cp:coreProperties>
</file>