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1D-5958-44F9-952F-BF148F16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059-DF19-4A22-B827-6EA12A7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921-3902-4630-B1ED-DACAC11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D71-58A7-4812-B33C-D3B4FC67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67A-74EE-4F14-B082-19B8AC5A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26B2-7457-4432-875D-BB64E162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742-3BE2-4881-B0B2-BD201206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E6E6-7A6B-494D-8239-018A2D5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9EDC-8403-41CA-AB57-7FCAEFE3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557E-2646-4989-9114-4C434A52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E2CC-5D83-453E-80ED-240EF57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8CD-7D82-4D92-9E0F-0A70C4A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E0B0-1296-45D4-8BA8-41355A3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F10C-AD7A-4B07-9BEF-BEAFE45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2D67-8455-4406-BD36-4769AA6B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21DD-A5E0-453B-BC0F-C659C06D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3EAD-2D74-4B66-B98D-A584BFA3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462-188E-4D77-BF73-A24517C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0EC-1A04-4E30-8061-EECDEF77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879-876F-4764-984D-B3F3DF6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4FB-06BC-4B9A-B98E-03107B4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26D-F79B-4F30-A60E-2228F2C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1A7-DF32-4058-8472-68D153A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70C-AF93-4687-8D5C-10C1BCAF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EED9-64F9-4DBB-8EF7-AB1DEF67FE7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F93B-E4EA-4373-8878-F136384FA4C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Georgia"/>
              </a:rPr>
              <a:t>PERCEP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39625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fer to the process by which you become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aware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of objects, events and people through the sens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1" name="Picture 6" descr="http://www.merlinean.com/inspirational/images/perception.jpg"/>
          <p:cNvPicPr/>
          <p:nvPr/>
        </p:nvPicPr>
        <p:blipFill>
          <a:blip r:embed="rId1"/>
          <a:stretch/>
        </p:blipFill>
        <p:spPr>
          <a:xfrm>
            <a:off x="5410080" y="685800"/>
            <a:ext cx="3235320" cy="5546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533520" y="838080"/>
            <a:ext cx="48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8f8f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Perception is an active proces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8f8f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t exist from your experience, desire, needs, wants, love, hatreds even from your outside world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http://img.slate.msn.com/media/1/123125/2081802/2081827/2082482/030502_GeorgeSoros.jpg"/>
          <p:cNvPicPr/>
          <p:nvPr/>
        </p:nvPicPr>
        <p:blipFill>
          <a:blip r:embed="rId1"/>
          <a:stretch/>
        </p:blipFill>
        <p:spPr>
          <a:xfrm>
            <a:off x="4724280" y="68580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http://www.bbc.co.uk/religion/religions/islam/history/images/naseem_hamed.jpg"/>
          <p:cNvPicPr/>
          <p:nvPr/>
        </p:nvPicPr>
        <p:blipFill>
          <a:blip r:embed="rId2"/>
          <a:stretch/>
        </p:blipFill>
        <p:spPr>
          <a:xfrm>
            <a:off x="1447920" y="38862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http://4.bp.blogspot.com/_D0gq0TtvHls/TLMU-eulGvI/AAAAAAAAEZ0/HD9uVsKCXTI/s400/tun+mahathir+mohamad.jpg"/>
          <p:cNvPicPr/>
          <p:nvPr/>
        </p:nvPicPr>
        <p:blipFill>
          <a:blip r:embed="rId3"/>
          <a:stretch/>
        </p:blipFill>
        <p:spPr>
          <a:xfrm>
            <a:off x="611280" y="620640"/>
            <a:ext cx="2628720" cy="2664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3.bp.blogspot.com/_k6BZ6v0UcC0/TMuUu8Y6Z1I/AAAAAAAABpk/2b73FFZA4Z0/s400/obama-angry.jpg"/>
          <p:cNvPicPr/>
          <p:nvPr/>
        </p:nvPicPr>
        <p:blipFill>
          <a:blip r:embed="rId4"/>
          <a:stretch/>
        </p:blipFill>
        <p:spPr>
          <a:xfrm>
            <a:off x="5580000" y="3284640"/>
            <a:ext cx="2914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609480" y="76212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2.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Self-Fulfilling Prophec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occurs when you make a prediction that come true because you act on it as if it were tr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it can also occurs when you make a prediction about yourself and fulfill the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0" y="32004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3.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Primary-Recenc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the relative influences of stimuli according to when they occur in tim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*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Primary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:- what occurs first exert greater influenc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*</a:t>
            </a:r>
            <a:r>
              <a:rPr b="1" lang="en-US" sz="2400" spc="-1" strike="noStrike">
                <a:solidFill>
                  <a:srgbClr val="ff3300"/>
                </a:solidFill>
                <a:latin typeface="Garamond"/>
              </a:rPr>
              <a:t>Recency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:- what occurs most recently exert greater influence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609480" y="6094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Stereotyp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a fixed impression of a group of people through which we then perceive specific individuals.It can be a negative impression and sometimes positive too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stereotyping can lead a person to ignore an individual’s unique characteristic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62120" y="34290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5.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Attribution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the process which we attempt to understand the behavior of others ( sometime our own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* Mostly we try to understand the reasons for these behavior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04920" y="45720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Potential Attribution Erro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elf-serving bias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– error made designed to preserve your self-esteem by taking credit for the positive and denying responsibility for the negativ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590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Overattribution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–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endency to single out obvious characteristics of a person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tributes everything that person does to the one &amp; two characteristic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42670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undamental Attribution Error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– the tendency to conclude that people do what they do because this is the kind of people they are not because of the situation they are i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04156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843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457200" y="54864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creasing perception accuracy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57200" y="137160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Analyze your percep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Check your percep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duce your uncertaint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ncrease your cultural awarene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8" descr="http://www.forwardamerica.com/thinking.jpg"/>
          <p:cNvPicPr/>
          <p:nvPr/>
        </p:nvPicPr>
        <p:blipFill>
          <a:blip r:embed="rId1"/>
          <a:stretch/>
        </p:blipFill>
        <p:spPr>
          <a:xfrm>
            <a:off x="6477120" y="1600200"/>
            <a:ext cx="1863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0" y="57150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971800" y="533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5 Stages of percep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553080" y="1523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Stimul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43600" y="29718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Organiz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657600" y="41148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nterpretation/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evalu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600200" y="297180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Memor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295280" y="15238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cal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Oval 17"/>
          <p:cNvSpPr/>
          <p:nvPr/>
        </p:nvSpPr>
        <p:spPr>
          <a:xfrm>
            <a:off x="685800" y="1219320"/>
            <a:ext cx="2209680" cy="114300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3505320" y="3657600"/>
            <a:ext cx="2514600" cy="177804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1066680" y="2666880"/>
            <a:ext cx="2514600" cy="121464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5715000" y="2666880"/>
            <a:ext cx="2362320" cy="121932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248520" y="1219320"/>
            <a:ext cx="2286000" cy="1143000"/>
          </a:xfrm>
          <a:prstGeom prst="ellipse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8534520" y="198108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Line 28"/>
          <p:cNvSpPr/>
          <p:nvPr/>
        </p:nvSpPr>
        <p:spPr>
          <a:xfrm flipH="1">
            <a:off x="8077320" y="312408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Line 29"/>
          <p:cNvSpPr/>
          <p:nvPr/>
        </p:nvSpPr>
        <p:spPr>
          <a:xfrm>
            <a:off x="6781680" y="3886200"/>
            <a:ext cx="0" cy="838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Line 30"/>
          <p:cNvSpPr/>
          <p:nvPr/>
        </p:nvSpPr>
        <p:spPr>
          <a:xfrm flipH="1">
            <a:off x="6019920" y="472428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Line 31"/>
          <p:cNvSpPr/>
          <p:nvPr/>
        </p:nvSpPr>
        <p:spPr>
          <a:xfrm flipH="1">
            <a:off x="2438280" y="4648320"/>
            <a:ext cx="1067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Line 32"/>
          <p:cNvSpPr/>
          <p:nvPr/>
        </p:nvSpPr>
        <p:spPr>
          <a:xfrm flipV="1">
            <a:off x="2438280" y="3885840"/>
            <a:ext cx="0" cy="7621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Line 33"/>
          <p:cNvSpPr/>
          <p:nvPr/>
        </p:nvSpPr>
        <p:spPr>
          <a:xfrm flipH="1">
            <a:off x="685800" y="3276720"/>
            <a:ext cx="3808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Line 34"/>
          <p:cNvSpPr/>
          <p:nvPr/>
        </p:nvSpPr>
        <p:spPr>
          <a:xfrm flipV="1">
            <a:off x="685800" y="213336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3"/>
          <p:cNvSpPr/>
          <p:nvPr/>
        </p:nvSpPr>
        <p:spPr>
          <a:xfrm>
            <a:off x="-21420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1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) stimul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57160" y="1214280"/>
            <a:ext cx="594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Selective perception (attention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you attend to things that you anticipate will fulfill your needs and will prove enjoyable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    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For eg: Daydreaming in cla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Selective exposu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you expose yourself to messages &amp; people that will confirm your existing beliefs and objectives and also satisfact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For example: Buying a ca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2"/>
          <p:cNvSpPr/>
          <p:nvPr/>
        </p:nvSpPr>
        <p:spPr>
          <a:xfrm>
            <a:off x="609480" y="762120"/>
            <a:ext cx="769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Organization by rul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proximity : physical closenes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similarity : things that belong together, look alik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contrast : don’t belong together, too differen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Organization by schema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mental templates or structures that help you organize information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Organization by script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organized body of information about some action, events or procedur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-38088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) organiz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685800" y="4343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this steps are subjective to personal ability and experiences, needs, wants, values about the things are or should be, expectation and et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-30492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) interpret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Picture 28" descr="http://www.teachnet.com/graphics/powertools/puzzles/illusion1.gif"/>
          <p:cNvPicPr/>
          <p:nvPr/>
        </p:nvPicPr>
        <p:blipFill>
          <a:blip r:embed="rId1"/>
          <a:stretch/>
        </p:blipFill>
        <p:spPr>
          <a:xfrm>
            <a:off x="3124080" y="380880"/>
            <a:ext cx="28353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8" descr="http://www.aspectmedical.com/assets/Images/photos/right_column/thinking.jpg"/>
          <p:cNvPicPr/>
          <p:nvPr/>
        </p:nvPicPr>
        <p:blipFill>
          <a:blip r:embed="rId1"/>
          <a:stretch/>
        </p:blipFill>
        <p:spPr>
          <a:xfrm>
            <a:off x="2666880" y="1905120"/>
            <a:ext cx="350532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0"/>
          <p:cNvSpPr/>
          <p:nvPr/>
        </p:nvSpPr>
        <p:spPr>
          <a:xfrm>
            <a:off x="533520" y="10666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storage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information, for the purpose of retrieving it late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Text Box 81"/>
          <p:cNvSpPr/>
          <p:nvPr/>
        </p:nvSpPr>
        <p:spPr>
          <a:xfrm>
            <a:off x="685800" y="609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Memor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4191120" y="44197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access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the information that you have stored in your memo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84"/>
          <p:cNvSpPr/>
          <p:nvPr/>
        </p:nvSpPr>
        <p:spPr>
          <a:xfrm>
            <a:off x="7620120" y="40384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Recall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Rectangle 86"/>
          <p:cNvSpPr/>
          <p:nvPr/>
        </p:nvSpPr>
        <p:spPr>
          <a:xfrm>
            <a:off x="214200" y="5715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ION :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,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)memory &amp; recal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AutoShape 11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PERCEPTION :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erceptual process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457200" y="457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Implicit Personality Theor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(subconscious personality theory)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- the system of rules that tell a person which characteristics of an individual go with other characteristic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Rectangle 56"/>
          <p:cNvSpPr/>
          <p:nvPr/>
        </p:nvSpPr>
        <p:spPr>
          <a:xfrm>
            <a:off x="533520" y="205740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halo effect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:-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f you believe a person has some positive qualities, you are likely to believe that the person also possesses other positive qualiti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Rectangle 57"/>
          <p:cNvSpPr/>
          <p:nvPr/>
        </p:nvSpPr>
        <p:spPr>
          <a:xfrm>
            <a:off x="457200" y="388620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Garamond"/>
              </a:rPr>
              <a:t>reverse halo effect</a:t>
            </a:r>
            <a:r>
              <a:rPr b="1" lang="en-US" sz="2400" spc="-1" strike="noStrike" u="sng">
                <a:solidFill>
                  <a:srgbClr val="f8f8f8"/>
                </a:solidFill>
                <a:uFillTx/>
                <a:latin typeface="Garamond"/>
              </a:rPr>
              <a:t> :-</a:t>
            </a: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Garamond"/>
              </a:rPr>
              <a:t>if you believe a person has some negative qualities, you are likely to believe that the person also possesses other negative qualiti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http://3.bp.blogspot.com/_rTDL5UDqoEk/TAdycawsIlI/AAAAAAAAAuY/BS8HlYj0Dn0/s1600/lisa+surihani+profile-2.jpg"/>
          <p:cNvPicPr/>
          <p:nvPr/>
        </p:nvPicPr>
        <p:blipFill>
          <a:blip r:embed="rId1"/>
          <a:stretch/>
        </p:blipFill>
        <p:spPr>
          <a:xfrm>
            <a:off x="3276720" y="2139840"/>
            <a:ext cx="2543040" cy="381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ttp://a4.sphotos.ak.fbcdn.net/hphotos-ak-snc4/35266_1329369322274_1472215896_30653402_156805_n.jpg"/>
          <p:cNvPicPr/>
          <p:nvPr/>
        </p:nvPicPr>
        <p:blipFill>
          <a:blip r:embed="rId2"/>
          <a:stretch/>
        </p:blipFill>
        <p:spPr>
          <a:xfrm>
            <a:off x="6084720" y="620640"/>
            <a:ext cx="2519640" cy="376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http://1.bp.blogspot.com/_OF1ujtg2gW0/TSVoQWw0vxI/AAAAAAAAAf4/XDvoA3KE4J4/s1600/nora-danish.jpg"/>
          <p:cNvPicPr/>
          <p:nvPr/>
        </p:nvPicPr>
        <p:blipFill>
          <a:blip r:embed="rId3"/>
          <a:stretch/>
        </p:blipFill>
        <p:spPr>
          <a:xfrm>
            <a:off x="541440" y="620640"/>
            <a:ext cx="2446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ttp://www.dvdmoviereviews.com.au/wp-content/uploads/2010/09/zac_efron17_again2.jpg"/>
          <p:cNvPicPr/>
          <p:nvPr/>
        </p:nvPicPr>
        <p:blipFill>
          <a:blip r:embed="rId1"/>
          <a:stretch/>
        </p:blipFill>
        <p:spPr>
          <a:xfrm>
            <a:off x="611280" y="836640"/>
            <a:ext cx="25081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1.gstatic.com/images?q=tbn:ANd9GcQhBcw6cRkUJDExXyKVVz4G4sDPLJpM41RkFOGUy5FGl-oK2jv-8ccpLg"/>
          <p:cNvPicPr/>
          <p:nvPr/>
        </p:nvPicPr>
        <p:blipFill>
          <a:blip r:embed="rId2"/>
          <a:stretch/>
        </p:blipFill>
        <p:spPr>
          <a:xfrm>
            <a:off x="3419640" y="2421000"/>
            <a:ext cx="2676240" cy="3733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3.bp.blogspot.com/_lldXyYToLxg/S6d-2klvKZI/AAAAAAAAANY/mlPhOiA7vlM/s320/farid-kamil.jpg"/>
          <p:cNvPicPr/>
          <p:nvPr/>
        </p:nvPicPr>
        <p:blipFill>
          <a:blip r:embed="rId3"/>
          <a:stretch/>
        </p:blipFill>
        <p:spPr>
          <a:xfrm>
            <a:off x="6300720" y="81288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5:23:06Z</dcterms:created>
  <dc:creator>NODES</dc:creator>
  <dc:description/>
  <dc:language>en-US</dc:language>
  <cp:lastModifiedBy>Wan Mohd Hafiz</cp:lastModifiedBy>
  <dcterms:modified xsi:type="dcterms:W3CDTF">2011-02-09T16:13:56Z</dcterms:modified>
  <cp:revision>24</cp:revision>
  <dc:subject/>
  <dc:title>PERCEPTION</dc:title>
</cp:coreProperties>
</file>