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A52-172C-4929-9E9C-BDE27E0F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DAD-9ECA-4423-BD3D-83EC4800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3B2-3F48-41B7-B948-D7889319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B17-6813-4B6A-9E4E-9D16FD17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128B-03BF-4F7A-92C2-1DC20D44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2BC4-DD88-4632-A1E1-85889C90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ED38-E972-4D56-8E7F-3A3299B4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8FA9-D81C-418F-ACAA-21D09F68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321F-34A1-4AB3-BC58-55FFD51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64DC-ACED-4B60-8F32-A2C12889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F1AD-92F9-4E22-8A33-43408A0D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DA6-7B45-42BD-AC6D-2FF5DE1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124B-A320-4636-B6B1-7CB34CD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FC28-79A4-4107-9891-524198D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80C2-B71A-45EA-A30B-644F93D2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ACA4-4C30-4A9B-B0D8-701ACBB2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38EE-D5C3-4552-95ED-4C7749F2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148-F708-4B4C-931A-F2DCC8F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A9E-8877-429C-985B-EC672F42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9E4-1C70-4083-9021-11526FB6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7FD-D99D-40BE-9F1A-DE4FDB96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9E7-1CEE-4B32-A446-AAB90710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C6F-29F9-45B2-BC79-3E8166FE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FBD-1A21-4426-9D7C-3DB82F5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1EFC-A1B8-4C47-8D10-C794F0D56A9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65B5-BFB6-42CC-9FFA-B74C3F034A1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eorgia"/>
              </a:rPr>
              <a:t>PERCEP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39625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fer to the process by which you become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aware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of objects, events and people through the sens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1" name="Picture 6" descr="http://www.merlinean.com/inspirational/images/perception.jpg"/>
          <p:cNvPicPr/>
          <p:nvPr/>
        </p:nvPicPr>
        <p:blipFill>
          <a:blip r:embed="rId1"/>
          <a:stretch/>
        </p:blipFill>
        <p:spPr>
          <a:xfrm>
            <a:off x="5410080" y="685800"/>
            <a:ext cx="3235320" cy="5546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533520" y="838080"/>
            <a:ext cx="481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8f8f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Perception is an active proces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8f8f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t exist from your experience, desire, needs, wants, love, hatreds even from your outside world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http://img.slate.msn.com/media/1/123125/2081802/2081827/2082482/030502_GeorgeSoros.jpg"/>
          <p:cNvPicPr/>
          <p:nvPr/>
        </p:nvPicPr>
        <p:blipFill>
          <a:blip r:embed="rId1"/>
          <a:stretch/>
        </p:blipFill>
        <p:spPr>
          <a:xfrm>
            <a:off x="4724280" y="68580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http://www.bbc.co.uk/religion/religions/islam/history/images/naseem_hamed.jpg"/>
          <p:cNvPicPr/>
          <p:nvPr/>
        </p:nvPicPr>
        <p:blipFill>
          <a:blip r:embed="rId2"/>
          <a:stretch/>
        </p:blipFill>
        <p:spPr>
          <a:xfrm>
            <a:off x="1447920" y="38862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://4.bp.blogspot.com/_D0gq0TtvHls/TLMU-eulGvI/AAAAAAAAEZ0/HD9uVsKCXTI/s400/tun+mahathir+mohamad.jpg"/>
          <p:cNvPicPr/>
          <p:nvPr/>
        </p:nvPicPr>
        <p:blipFill>
          <a:blip r:embed="rId3"/>
          <a:stretch/>
        </p:blipFill>
        <p:spPr>
          <a:xfrm>
            <a:off x="611280" y="620640"/>
            <a:ext cx="2628720" cy="2664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3.bp.blogspot.com/_k6BZ6v0UcC0/TMuUu8Y6Z1I/AAAAAAAABpk/2b73FFZA4Z0/s400/obama-angry.jpg"/>
          <p:cNvPicPr/>
          <p:nvPr/>
        </p:nvPicPr>
        <p:blipFill>
          <a:blip r:embed="rId4"/>
          <a:stretch/>
        </p:blipFill>
        <p:spPr>
          <a:xfrm>
            <a:off x="5580000" y="3284640"/>
            <a:ext cx="2914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609480" y="762120"/>
            <a:ext cx="769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Self-Fulfilling Prophec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occurs when you make a prediction that come true because you act on it as if it were tr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it can also occurs when you make a prediction about yourself and fulfill the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0" y="32004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Primary-Recenc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the relative influences of stimuli according to when they occur in tim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*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Primary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:- what occurs first exert greater influenc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*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Recency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:- what occurs most recently exert greater influence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609480" y="6094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Stereotyp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a fixed impression of a group of people through which we then perceive specific individuals.It can be a negative impression and sometimes positive to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*stereotyping can lead a person to ignore an individual’s unique characteristic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62120" y="34290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Attribution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the process which we attempt to understand the behavior of others ( sometime our own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* Mostly we try to understand the reasons for these behavior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04920" y="45720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Potential Attribution Erro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elf-serving bias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– error made designed to preserve your self-esteem by taking credit for the positive and denying responsibility for the negativ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590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Overattribution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–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endency to single out obvious characteristics of a person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tributes everything that person does to the one &amp; two characteristic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4267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undamental Attribution Error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– the tendency to conclude that people do what they do because this is the kind of people they are not because of the situation they are i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4156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843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457200" y="54864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creasing perception accuracy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57200" y="137160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Analyze your percep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Check your percep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duce your uncertain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ncrease your cultural awarene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8" descr="http://www.forwardamerica.com/thinking.jpg"/>
          <p:cNvPicPr/>
          <p:nvPr/>
        </p:nvPicPr>
        <p:blipFill>
          <a:blip r:embed="rId1"/>
          <a:stretch/>
        </p:blipFill>
        <p:spPr>
          <a:xfrm>
            <a:off x="6477120" y="1600200"/>
            <a:ext cx="1863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0" y="57150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971800" y="5335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5 Stages of percep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553080" y="1523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Stimul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43600" y="29718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Organiz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657600" y="4114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nterpretation/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evalu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600200" y="297180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Memor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295280" y="15238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cal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685800" y="1219320"/>
            <a:ext cx="2209680" cy="114300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3505320" y="3657600"/>
            <a:ext cx="2514600" cy="177804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1066680" y="2666880"/>
            <a:ext cx="2514600" cy="121464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5715000" y="2666880"/>
            <a:ext cx="2362320" cy="121932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248520" y="1219320"/>
            <a:ext cx="2286000" cy="114300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8534520" y="198108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Line 28"/>
          <p:cNvSpPr/>
          <p:nvPr/>
        </p:nvSpPr>
        <p:spPr>
          <a:xfrm flipH="1">
            <a:off x="8077320" y="3124080"/>
            <a:ext cx="4572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Line 29"/>
          <p:cNvSpPr/>
          <p:nvPr/>
        </p:nvSpPr>
        <p:spPr>
          <a:xfrm>
            <a:off x="6781680" y="3886200"/>
            <a:ext cx="0" cy="838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Line 30"/>
          <p:cNvSpPr/>
          <p:nvPr/>
        </p:nvSpPr>
        <p:spPr>
          <a:xfrm flipH="1">
            <a:off x="6019920" y="4724280"/>
            <a:ext cx="7617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Line 31"/>
          <p:cNvSpPr/>
          <p:nvPr/>
        </p:nvSpPr>
        <p:spPr>
          <a:xfrm flipH="1">
            <a:off x="2438280" y="4648320"/>
            <a:ext cx="1067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Line 32"/>
          <p:cNvSpPr/>
          <p:nvPr/>
        </p:nvSpPr>
        <p:spPr>
          <a:xfrm flipV="1">
            <a:off x="2438280" y="3885840"/>
            <a:ext cx="0" cy="7621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Line 33"/>
          <p:cNvSpPr/>
          <p:nvPr/>
        </p:nvSpPr>
        <p:spPr>
          <a:xfrm flipH="1">
            <a:off x="685800" y="3276720"/>
            <a:ext cx="3808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Line 34"/>
          <p:cNvSpPr/>
          <p:nvPr/>
        </p:nvSpPr>
        <p:spPr>
          <a:xfrm flipV="1">
            <a:off x="685800" y="213336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3"/>
          <p:cNvSpPr/>
          <p:nvPr/>
        </p:nvSpPr>
        <p:spPr>
          <a:xfrm>
            <a:off x="-21420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1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) stimul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57160" y="12142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Selective perception (attention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you attend to things that you anticipate will fulfill your needs and will prove enjoyable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For eg: Daydreaming in cla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Selective exposu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you expose yourself to messages &amp; people that will confirm your existing beliefs and objectives and also satisfactio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For example: Buying a ca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2"/>
          <p:cNvSpPr/>
          <p:nvPr/>
        </p:nvSpPr>
        <p:spPr>
          <a:xfrm>
            <a:off x="609480" y="762120"/>
            <a:ext cx="769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Organization by ru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proximity : physical closene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similarity : things that belong together, look alik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contrast : don’t belong together, too differ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Organization by schema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mental templates or structures that help you organize informatio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Organization by script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organized body of information about some action, events or procedu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-38088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) organiz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85800" y="4343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this steps are subjective to personal ability and experiences, needs, wants, values about the things are or should be, expectation and etc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-30492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) interpret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0" name="Picture 28" descr="http://www.teachnet.com/graphics/powertools/puzzles/illusion1.gif"/>
          <p:cNvPicPr/>
          <p:nvPr/>
        </p:nvPicPr>
        <p:blipFill>
          <a:blip r:embed="rId1"/>
          <a:stretch/>
        </p:blipFill>
        <p:spPr>
          <a:xfrm>
            <a:off x="3124080" y="380880"/>
            <a:ext cx="28353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8" descr="http://www.aspectmedical.com/assets/Images/photos/right_column/thinking.jpg"/>
          <p:cNvPicPr/>
          <p:nvPr/>
        </p:nvPicPr>
        <p:blipFill>
          <a:blip r:embed="rId1"/>
          <a:stretch/>
        </p:blipFill>
        <p:spPr>
          <a:xfrm>
            <a:off x="2666880" y="1905120"/>
            <a:ext cx="350532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0"/>
          <p:cNvSpPr/>
          <p:nvPr/>
        </p:nvSpPr>
        <p:spPr>
          <a:xfrm>
            <a:off x="533520" y="10666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storage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information, for the purpose of retrieving it late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Text Box 81"/>
          <p:cNvSpPr/>
          <p:nvPr/>
        </p:nvSpPr>
        <p:spPr>
          <a:xfrm>
            <a:off x="685800" y="609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Memor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4191120" y="44197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access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the information that you have stored in your memo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7620120" y="40384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cal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Rectangle 86"/>
          <p:cNvSpPr/>
          <p:nvPr/>
        </p:nvSpPr>
        <p:spPr>
          <a:xfrm>
            <a:off x="21420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ION :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,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)memory &amp; recal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AutoShape 11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Rectangle 54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457200" y="457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Implicit Personality Theor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(subconscious personality theory)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the system of rules that tell a person which characteristics of an individual go with other characteristic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Rectangle 56"/>
          <p:cNvSpPr/>
          <p:nvPr/>
        </p:nvSpPr>
        <p:spPr>
          <a:xfrm>
            <a:off x="533520" y="205740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halo effect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:-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f you believe a person has some positive qualities, you are likely to believe that the person also possesses other positive qualiti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Rectangle 57"/>
          <p:cNvSpPr/>
          <p:nvPr/>
        </p:nvSpPr>
        <p:spPr>
          <a:xfrm>
            <a:off x="457200" y="388620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reverse halo effect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 :-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f you believe a person has some negative qualities, you are likely to believe that the person also possesses other negative qualiti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http://3.bp.blogspot.com/_rTDL5UDqoEk/TAdycawsIlI/AAAAAAAAAuY/BS8HlYj0Dn0/s1600/lisa+surihani+profile-2.jpg"/>
          <p:cNvPicPr/>
          <p:nvPr/>
        </p:nvPicPr>
        <p:blipFill>
          <a:blip r:embed="rId1"/>
          <a:stretch/>
        </p:blipFill>
        <p:spPr>
          <a:xfrm>
            <a:off x="3276720" y="2139840"/>
            <a:ext cx="2543040" cy="381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a4.sphotos.ak.fbcdn.net/hphotos-ak-snc4/35266_1329369322274_1472215896_30653402_156805_n.jpg"/>
          <p:cNvPicPr/>
          <p:nvPr/>
        </p:nvPicPr>
        <p:blipFill>
          <a:blip r:embed="rId2"/>
          <a:stretch/>
        </p:blipFill>
        <p:spPr>
          <a:xfrm>
            <a:off x="6084720" y="620640"/>
            <a:ext cx="2519640" cy="376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http://1.bp.blogspot.com/_OF1ujtg2gW0/TSVoQWw0vxI/AAAAAAAAAf4/XDvoA3KE4J4/s1600/nora-danish.jpg"/>
          <p:cNvPicPr/>
          <p:nvPr/>
        </p:nvPicPr>
        <p:blipFill>
          <a:blip r:embed="rId3"/>
          <a:stretch/>
        </p:blipFill>
        <p:spPr>
          <a:xfrm>
            <a:off x="541440" y="620640"/>
            <a:ext cx="2446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ttp://www.dvdmoviereviews.com.au/wp-content/uploads/2010/09/zac_efron17_again2.jpg"/>
          <p:cNvPicPr/>
          <p:nvPr/>
        </p:nvPicPr>
        <p:blipFill>
          <a:blip r:embed="rId1"/>
          <a:stretch/>
        </p:blipFill>
        <p:spPr>
          <a:xfrm>
            <a:off x="611280" y="836640"/>
            <a:ext cx="250812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1.gstatic.com/images?q=tbn:ANd9GcQhBcw6cRkUJDExXyKVVz4G4sDPLJpM41RkFOGUy5FGl-oK2jv-8ccpLg"/>
          <p:cNvPicPr/>
          <p:nvPr/>
        </p:nvPicPr>
        <p:blipFill>
          <a:blip r:embed="rId2"/>
          <a:stretch/>
        </p:blipFill>
        <p:spPr>
          <a:xfrm>
            <a:off x="3419640" y="2421000"/>
            <a:ext cx="2676240" cy="3733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3.bp.blogspot.com/_lldXyYToLxg/S6d-2klvKZI/AAAAAAAAANY/mlPhOiA7vlM/s320/farid-kamil.jpg"/>
          <p:cNvPicPr/>
          <p:nvPr/>
        </p:nvPicPr>
        <p:blipFill>
          <a:blip r:embed="rId3"/>
          <a:stretch/>
        </p:blipFill>
        <p:spPr>
          <a:xfrm>
            <a:off x="6300720" y="81288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5:23:06Z</dcterms:created>
  <dc:creator>NODES</dc:creator>
  <dc:description/>
  <dc:language>en-US</dc:language>
  <cp:lastModifiedBy>Wan Mohd Hafiz</cp:lastModifiedBy>
  <dcterms:modified xsi:type="dcterms:W3CDTF">2011-02-09T16:13:56Z</dcterms:modified>
  <cp:revision>24</cp:revision>
  <dc:subject/>
  <dc:title>PERCEPTION</dc:title>
</cp:coreProperties>
</file>