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A5E83-5B7F-4A3F-92D8-803DA6D3B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C60A1-8C5B-4F37-BE7D-6A811FEA7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37C68-8623-4A9C-A6FB-E8C436AE3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097D1-A847-4F38-A5BE-9C758AE84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4BC12-83B3-4798-8235-FFD308DDC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EC47A-FE11-49B6-BCF6-8DA0F4972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48A74-4E24-4ECD-89FA-F0AF737BE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8AA49-B5C9-40CF-8A49-9AA4169BD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002C3-42DF-4B14-ADBA-47EAC1587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0C58-D37F-4319-B4D9-07D1A0335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D2646-DC65-4FD4-831E-B241AC561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A478B-798B-4FEF-AFD3-3FD832F7D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A425-37C3-44B7-835F-A1B89E6DD92C}"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3DAD-BC96-4CB3-BAF6-1994DF84F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nd European ns-2 Worksho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5840"/>
            <a:ext cx="6400800" cy="20574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y Huan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 Zurich</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tik.ee.ethz.ch/~huang</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il 18 &amp; 19, 2001</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2BB6D1-9D55-402B-AE97-130FDB93CC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Goa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upport </a:t>
            </a:r>
            <a:r>
              <a:rPr b="1" lang="en-US" sz="3200" spc="-1" strike="noStrike">
                <a:solidFill>
                  <a:srgbClr val="000000"/>
                </a:solidFill>
                <a:latin typeface="Times New Roman"/>
              </a:rPr>
              <a:t>collaborative</a:t>
            </a:r>
            <a:r>
              <a:rPr b="0" lang="en-US" sz="3200" spc="-1" strike="noStrike">
                <a:solidFill>
                  <a:srgbClr val="000000"/>
                </a:solidFill>
                <a:latin typeface="Times New Roman"/>
              </a:rPr>
              <a:t> simulation effor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 sharing</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porate recent simulation model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confidence in resul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regression test suit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ablish common referenc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and periodic availability of source code</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software is ns-2</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1C6160-1F0A-4DAE-BF6B-238DD00A90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s-2</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rete event simul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layer and 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d and wirele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ECBDE2-DBEB-4859-8B3E-F7DF87F030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ment Statu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umbia NEST</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CB REAL</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1</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2</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K lines of C++ code</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K lines of otcl support code</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K lines of test suite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K lines of document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57DDB5-870C-40C8-B054-791E7AE8B4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age and Releas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from approximate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institut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 countr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ic official relea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ghtly snapshots (probably compiles and works, but buyers bewa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le from USC/ISI or UK mirr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B1E1E4-A115-451D-9702-4095CC070A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form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UNIX and UNIX-like system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BSD or *BSD</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ux</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 Solari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P, SG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 95/98/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ulation only for FreeBSD for now</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9D14EB-2D5B-4FCF-A82C-5CB522FB66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Words of Cautio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we have considerable confidence in ns, ns is not a polished and finished product, but the result of an ongoing effort of research and development.  In particular, bugs in the software are still being discovered and corrected.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192F56-B1CE-46C3-B127-C6923BC47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Words of Caution</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of ns are responsible for verifying for themselves that their simulations are not invalidated by bugs.  We are working to help the user with this by significantly expanding and automating the validation tests and demos.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08486B-80E4-4A33-892B-395EA6417B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Words of Caution</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ly, users are responsible for verifying for themselves that their simulations are not invalidated because the model implemented in the simulator is not the model that they were expecting.  The ongoing ns Notes and Documentation should help in this proces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1401A8-11B9-4741-9BFB-165DC1FBBA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Goal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tion to be t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ing cap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and implementa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i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shar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F7F536-2E10-40DA-BC68-B3D311B408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This Morning</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 the software, the philosophy</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ftware architectur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and getting started</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l/otcl/ns-2 fundamental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tcl/otcl</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ns-2 simulation script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cript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 web traffic, RED, multicast, wirel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EFC89C-6C9B-418D-9CE6-234C31A739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come</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titude</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ence background</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oriented programming?</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l?</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ns-2 before?</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l, c, or  both?</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interes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CF9205-30A5-4C13-8DD8-5D6D2376B4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Oriented</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us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tainabil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eful planning ah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CCFEAC-2BE9-4A45-8418-9F8B22E4A9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 and otcl Separatio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or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 packet a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cl for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iodic or triggered a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omize between composibility and sp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amp; debugg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B593B6-11A8-45E6-9CE8-C2729CE75D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cl and C++: The Duality</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4419720"/>
            <a:ext cx="7772400" cy="1676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1523880" y="2057400"/>
            <a:ext cx="259092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676520" y="2514600"/>
            <a:ext cx="3808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905120" y="2209680"/>
            <a:ext cx="3808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09680" y="251460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1904760" y="23623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9680" y="23623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6880" y="304812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352680"/>
            <a:ext cx="3812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048120" y="3352680"/>
            <a:ext cx="3808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352680" y="365760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743200" y="3657600"/>
            <a:ext cx="3808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590560" y="320040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971800" y="320040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971440" y="35053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352680" y="35053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43400" y="2057400"/>
            <a:ext cx="259092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867280" y="388620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95880" y="3581280"/>
            <a:ext cx="3812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0800" y="3886200"/>
            <a:ext cx="3808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6095880" y="373392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373392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724280" y="228600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95680" y="2590920"/>
            <a:ext cx="3812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105520" y="2590920"/>
            <a:ext cx="3808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410080" y="2895480"/>
            <a:ext cx="3812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800600" y="2895480"/>
            <a:ext cx="3808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647960" y="24382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2438280"/>
            <a:ext cx="30492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5028840" y="274320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410080" y="274320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233760" y="2022480"/>
            <a:ext cx="72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6" name=""/>
          <p:cNvSpPr/>
          <p:nvPr/>
        </p:nvSpPr>
        <p:spPr>
          <a:xfrm>
            <a:off x="1584360" y="377496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cl</a:t>
            </a:r>
            <a:endParaRPr b="0" lang="en-US" sz="2400" spc="-1" strike="noStrike">
              <a:solidFill>
                <a:srgbClr val="000000"/>
              </a:solidFill>
              <a:latin typeface="Times New Roman"/>
            </a:endParaRPr>
          </a:p>
        </p:txBody>
      </p:sp>
      <p:sp>
        <p:nvSpPr>
          <p:cNvPr id="117" name=""/>
          <p:cNvSpPr/>
          <p:nvPr/>
        </p:nvSpPr>
        <p:spPr>
          <a:xfrm>
            <a:off x="3352680" y="2311560"/>
            <a:ext cx="1676520" cy="1041120"/>
          </a:xfrm>
          <a:custGeom>
            <a:avLst/>
            <a:gdLst/>
            <a:ahLst/>
            <a:rect l="l" t="t" r="r" b="b"/>
            <a:pathLst>
              <a:path w="1056" h="656">
                <a:moveTo>
                  <a:pt x="0" y="656"/>
                </a:moveTo>
                <a:cubicBezTo>
                  <a:pt x="104" y="408"/>
                  <a:pt x="208" y="160"/>
                  <a:pt x="384" y="80"/>
                </a:cubicBezTo>
                <a:cubicBezTo>
                  <a:pt x="560" y="0"/>
                  <a:pt x="944" y="160"/>
                  <a:pt x="1056" y="176"/>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048120" y="3124080"/>
            <a:ext cx="2158920" cy="1028880"/>
          </a:xfrm>
          <a:custGeom>
            <a:avLst/>
            <a:gdLst/>
            <a:ahLst/>
            <a:rect l="l" t="t" r="r" b="b"/>
            <a:pathLst>
              <a:path w="1360" h="648">
                <a:moveTo>
                  <a:pt x="0" y="432"/>
                </a:moveTo>
                <a:cubicBezTo>
                  <a:pt x="472" y="540"/>
                  <a:pt x="944" y="648"/>
                  <a:pt x="1152" y="576"/>
                </a:cubicBezTo>
                <a:cubicBezTo>
                  <a:pt x="1360" y="504"/>
                  <a:pt x="1232" y="96"/>
                  <a:pt x="1248" y="0"/>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657600" y="3124080"/>
            <a:ext cx="2082960" cy="1028880"/>
          </a:xfrm>
          <a:custGeom>
            <a:avLst/>
            <a:gdLst/>
            <a:ahLst/>
            <a:rect l="l" t="t" r="r" b="b"/>
            <a:pathLst>
              <a:path w="1312" h="648">
                <a:moveTo>
                  <a:pt x="0" y="432"/>
                </a:moveTo>
                <a:cubicBezTo>
                  <a:pt x="448" y="540"/>
                  <a:pt x="896" y="648"/>
                  <a:pt x="1104" y="576"/>
                </a:cubicBezTo>
                <a:cubicBezTo>
                  <a:pt x="1312" y="504"/>
                  <a:pt x="1280" y="252"/>
                  <a:pt x="1248" y="0"/>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14600" y="2235240"/>
            <a:ext cx="1905120" cy="1117440"/>
          </a:xfrm>
          <a:custGeom>
            <a:avLst/>
            <a:gdLst/>
            <a:ahLst/>
            <a:rect l="l" t="t" r="r" b="b"/>
            <a:pathLst>
              <a:path w="1200" h="704">
                <a:moveTo>
                  <a:pt x="0" y="704"/>
                </a:moveTo>
                <a:cubicBezTo>
                  <a:pt x="68" y="432"/>
                  <a:pt x="136" y="160"/>
                  <a:pt x="336" y="80"/>
                </a:cubicBezTo>
                <a:cubicBezTo>
                  <a:pt x="536" y="0"/>
                  <a:pt x="868" y="112"/>
                  <a:pt x="1200" y="224"/>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971800" y="2006640"/>
            <a:ext cx="1676520" cy="1041480"/>
          </a:xfrm>
          <a:custGeom>
            <a:avLst/>
            <a:gdLst/>
            <a:ahLst/>
            <a:rect l="l" t="t" r="r" b="b"/>
            <a:pathLst>
              <a:path w="1056" h="656">
                <a:moveTo>
                  <a:pt x="0" y="656"/>
                </a:moveTo>
                <a:cubicBezTo>
                  <a:pt x="80" y="408"/>
                  <a:pt x="160" y="160"/>
                  <a:pt x="336" y="80"/>
                </a:cubicBezTo>
                <a:cubicBezTo>
                  <a:pt x="512" y="0"/>
                  <a:pt x="784" y="88"/>
                  <a:pt x="1056" y="176"/>
                </a:cubicBezTo>
              </a:path>
            </a:pathLst>
          </a:custGeom>
          <a:noFill/>
          <a:ln w="936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5D39F1-E1CB-4FA3-9026-36BB45CEAA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l Interpreter With Extent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4419360"/>
            <a:ext cx="7772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cl: Object-oriented suppor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lcl: C++ and otcl linkag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rete event schedul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network components</a:t>
            </a:r>
            <a:endParaRPr b="0" lang="en-US" sz="2800" spc="-1" strike="noStrike">
              <a:solidFill>
                <a:srgbClr val="000000"/>
              </a:solidFill>
              <a:latin typeface="Times New Roman"/>
            </a:endParaRPr>
          </a:p>
        </p:txBody>
      </p:sp>
      <p:sp>
        <p:nvSpPr>
          <p:cNvPr id="124" name=""/>
          <p:cNvSpPr/>
          <p:nvPr/>
        </p:nvSpPr>
        <p:spPr>
          <a:xfrm>
            <a:off x="2819520" y="3809880"/>
            <a:ext cx="1066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8.0</a:t>
            </a:r>
            <a:endParaRPr b="0" lang="en-US" sz="2400" spc="-1" strike="noStrike">
              <a:solidFill>
                <a:srgbClr val="000000"/>
              </a:solidFill>
              <a:latin typeface="Times New Roman"/>
            </a:endParaRPr>
          </a:p>
        </p:txBody>
      </p:sp>
      <p:sp>
        <p:nvSpPr>
          <p:cNvPr id="125" name=""/>
          <p:cNvSpPr/>
          <p:nvPr/>
        </p:nvSpPr>
        <p:spPr>
          <a:xfrm>
            <a:off x="2819520" y="3276720"/>
            <a:ext cx="15238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819520" y="2743200"/>
            <a:ext cx="289548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819520" y="1828800"/>
            <a:ext cx="205740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819520" y="2743200"/>
            <a:ext cx="20574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429000" y="335268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cl</a:t>
            </a:r>
            <a:endParaRPr b="0" lang="en-US" sz="2400" spc="-1" strike="noStrike">
              <a:solidFill>
                <a:srgbClr val="000000"/>
              </a:solidFill>
              <a:latin typeface="Times New Roman"/>
            </a:endParaRPr>
          </a:p>
        </p:txBody>
      </p:sp>
      <p:sp>
        <p:nvSpPr>
          <p:cNvPr id="130" name=""/>
          <p:cNvSpPr/>
          <p:nvPr/>
        </p:nvSpPr>
        <p:spPr>
          <a:xfrm>
            <a:off x="4037760" y="2819520"/>
            <a:ext cx="70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cl</a:t>
            </a:r>
            <a:endParaRPr b="0" lang="en-US" sz="2400" spc="-1" strike="noStrike">
              <a:solidFill>
                <a:srgbClr val="000000"/>
              </a:solidFill>
              <a:latin typeface="Times New Roman"/>
            </a:endParaRPr>
          </a:p>
        </p:txBody>
      </p:sp>
      <p:sp>
        <p:nvSpPr>
          <p:cNvPr id="131" name=""/>
          <p:cNvSpPr/>
          <p:nvPr/>
        </p:nvSpPr>
        <p:spPr>
          <a:xfrm>
            <a:off x="2819520" y="1828800"/>
            <a:ext cx="28954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954320" y="19810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2</a:t>
            </a:r>
            <a:endParaRPr b="0" lang="en-US" sz="2400" spc="-1" strike="noStrike">
              <a:solidFill>
                <a:srgbClr val="000000"/>
              </a:solidFill>
              <a:latin typeface="Times New Roman"/>
            </a:endParaRPr>
          </a:p>
        </p:txBody>
      </p:sp>
      <p:sp>
        <p:nvSpPr>
          <p:cNvPr id="133" name=""/>
          <p:cNvSpPr/>
          <p:nvPr/>
        </p:nvSpPr>
        <p:spPr>
          <a:xfrm>
            <a:off x="3184560" y="1946160"/>
            <a:ext cx="140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er</a:t>
            </a:r>
            <a:endParaRPr b="0" lang="en-US" sz="2400" spc="-1" strike="noStrike">
              <a:solidFill>
                <a:srgbClr val="000000"/>
              </a:solidFill>
              <a:latin typeface="Times New Roman"/>
            </a:endParaRPr>
          </a:p>
        </p:txBody>
      </p:sp>
      <p:sp>
        <p:nvSpPr>
          <p:cNvPr id="134" name=""/>
          <p:cNvSpPr/>
          <p:nvPr/>
        </p:nvSpPr>
        <p:spPr>
          <a:xfrm rot="5400000">
            <a:off x="4560120" y="3209040"/>
            <a:ext cx="1604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A8AEF9-74DC-49A8-8CD0-B9A7519967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allation</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82844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the pie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l/tk8.0), otcl, tclcl, ns-2, (and nam-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isi.edu/nsnam/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users@isi.edu</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users-request@isi.ed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subscribe ns-users’ in body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announce@isi.ed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655529F-912C-4FA2-A254-184DFA8A0F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lo World - Interactive Mod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llow 71% </a:t>
            </a:r>
            <a:r>
              <a:rPr b="1" lang="en-US" sz="2400" spc="-1" strike="noStrike">
                <a:solidFill>
                  <a:srgbClr val="000000"/>
                </a:solidFill>
                <a:latin typeface="Arial"/>
              </a:rPr>
              <a:t>ns</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set ns [new Simulator]</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o3</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ns at 1 “puts \“Hello World!\””</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ns at 1.5 “exit”</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ns run</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lo World!</a:t>
            </a:r>
            <a:endParaRPr b="0" lang="en-US" sz="2400" spc="-1" strike="noStrike">
              <a:solidFill>
                <a:srgbClr val="000000"/>
              </a:solidFill>
              <a:latin typeface="Times New Roman"/>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allow 7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2AD516-1EE6-464A-8C7A-1F5C29742E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lo World - Passive Mode</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tcl</a:t>
            </a:r>
            <a:endParaRPr b="0" lang="en-US" sz="32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ns [new Simulator]</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 at 1 “puts \“Hello World!\””</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 at 1.5 “exit”</a:t>
            </a:r>
            <a:endParaRPr b="0" lang="en-US" sz="24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s run</a:t>
            </a:r>
            <a:endParaRPr b="0" lang="en-US" sz="24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llow 74% </a:t>
            </a:r>
            <a:r>
              <a:rPr b="1" lang="en-US" sz="2800" spc="-1" strike="noStrike">
                <a:solidFill>
                  <a:srgbClr val="000000"/>
                </a:solidFill>
                <a:latin typeface="Arial"/>
              </a:rPr>
              <a:t>ns simple.tcl</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lo World!</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allow 75%</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0595F4-96D6-4712-AC35-47A8C9B4A1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This Morning</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 the software, the philosophy</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architectur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and getting started</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cl/otcl/ns-2 fundamental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tcl/otcl</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ns-2 simulation script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cript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 web traffic, RED, multicast, wirel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049136-3A54-4C5E-B900-FD61D71DA1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damentals</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cl</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tp://ftp.tns.lcs.mit.edu/pub/otcl/doc/tutorial.html</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2</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si.edu/nsnam/ns/ns_doc.ps.gz</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si.edu/nsnam/ns/ns_doc.pd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isi.edu/nsnam/ns/doc/index.htm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1101F8-1D30-431B-A946-5A9EEFD4EF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tcl</a:t>
            </a:r>
            <a:endParaRPr b="0" lang="en-US" sz="4400" spc="-1" strike="noStrike">
              <a:solidFill>
                <a:srgbClr val="000000"/>
              </a:solidFill>
              <a:latin typeface="Times New Roman"/>
            </a:endParaRPr>
          </a:p>
        </p:txBody>
      </p:sp>
      <p:sp>
        <p:nvSpPr>
          <p:cNvPr id="146" name="PlaceHolder 2"/>
          <p:cNvSpPr>
            <a:spLocks noGrp="1"/>
          </p:cNvSpPr>
          <p:nvPr>
            <p:ph/>
          </p:nvPr>
        </p:nvSpPr>
        <p:spPr>
          <a:xfrm>
            <a:off x="762120" y="1371600"/>
            <a:ext cx="7772400" cy="510552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a:t>
            </a:r>
            <a:r>
              <a:rPr b="0" lang="en-US" sz="2000" spc="-1" strike="noStrike">
                <a:solidFill>
                  <a:srgbClr val="000000"/>
                </a:solidFill>
                <a:latin typeface="Arial"/>
              </a:rPr>
              <a:t> test {}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t</a:t>
            </a:r>
            <a:r>
              <a:rPr b="0" lang="en-US" sz="2000" spc="-1" strike="noStrike">
                <a:solidFill>
                  <a:srgbClr val="000000"/>
                </a:solidFill>
                <a:latin typeface="Arial"/>
              </a:rPr>
              <a:t> a 43</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t</a:t>
            </a:r>
            <a:r>
              <a:rPr b="0" lang="en-US" sz="2000" spc="-1" strike="noStrike">
                <a:solidFill>
                  <a:srgbClr val="000000"/>
                </a:solidFill>
                <a:latin typeface="Arial"/>
              </a:rPr>
              <a:t> b 27</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t</a:t>
            </a:r>
            <a:r>
              <a:rPr b="0" lang="en-US" sz="2000" spc="-1" strike="noStrike">
                <a:solidFill>
                  <a:srgbClr val="000000"/>
                </a:solidFill>
                <a:latin typeface="Arial"/>
              </a:rPr>
              <a:t> c [</a:t>
            </a:r>
            <a:r>
              <a:rPr b="1" lang="en-US" sz="2000" spc="-1" strike="noStrike">
                <a:solidFill>
                  <a:srgbClr val="000000"/>
                </a:solidFill>
                <a:latin typeface="Arial"/>
              </a:rPr>
              <a:t>expr</a:t>
            </a:r>
            <a:r>
              <a:rPr b="0" lang="en-US" sz="2000" spc="-1" strike="noStrike">
                <a:solidFill>
                  <a:srgbClr val="000000"/>
                </a:solidFill>
                <a:latin typeface="Arial"/>
              </a:rPr>
              <a:t> $a + $b]</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et</a:t>
            </a:r>
            <a:r>
              <a:rPr b="0" lang="en-US" sz="2000" spc="-1" strike="noStrike">
                <a:solidFill>
                  <a:srgbClr val="000000"/>
                </a:solidFill>
                <a:latin typeface="Arial"/>
              </a:rPr>
              <a:t> d [</a:t>
            </a:r>
            <a:r>
              <a:rPr b="1" lang="en-US" sz="2000" spc="-1" strike="noStrike">
                <a:solidFill>
                  <a:srgbClr val="000000"/>
                </a:solidFill>
                <a:latin typeface="Arial"/>
              </a:rPr>
              <a:t>expr</a:t>
            </a:r>
            <a:r>
              <a:rPr b="0" lang="en-US" sz="2000" spc="-1" strike="noStrike">
                <a:solidFill>
                  <a:srgbClr val="000000"/>
                </a:solidFill>
                <a:latin typeface="Arial"/>
              </a:rPr>
              <a:t> [</a:t>
            </a:r>
            <a:r>
              <a:rPr b="1" lang="en-US" sz="2000" spc="-1" strike="noStrike">
                <a:solidFill>
                  <a:srgbClr val="000000"/>
                </a:solidFill>
                <a:latin typeface="Arial"/>
              </a:rPr>
              <a:t>expr</a:t>
            </a:r>
            <a:r>
              <a:rPr b="0" lang="en-US" sz="2000" spc="-1" strike="noStrike">
                <a:solidFill>
                  <a:srgbClr val="000000"/>
                </a:solidFill>
                <a:latin typeface="Arial"/>
              </a:rPr>
              <a:t> $a - $b] * $c]</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for</a:t>
            </a:r>
            <a:r>
              <a:rPr b="0" lang="en-US" sz="2000" spc="-1" strike="noStrike">
                <a:solidFill>
                  <a:srgbClr val="000000"/>
                </a:solidFill>
                <a:latin typeface="Arial"/>
              </a:rPr>
              <a:t> {</a:t>
            </a:r>
            <a:r>
              <a:rPr b="1" lang="en-US" sz="2000" spc="-1" strike="noStrike">
                <a:solidFill>
                  <a:srgbClr val="000000"/>
                </a:solidFill>
                <a:latin typeface="Arial"/>
              </a:rPr>
              <a:t>set</a:t>
            </a:r>
            <a:r>
              <a:rPr b="0" lang="en-US" sz="2000" spc="-1" strike="noStrike">
                <a:solidFill>
                  <a:srgbClr val="000000"/>
                </a:solidFill>
                <a:latin typeface="Arial"/>
              </a:rPr>
              <a:t> k 0} {$k &lt; 10} {</a:t>
            </a:r>
            <a:r>
              <a:rPr b="1" lang="en-US" sz="2000" spc="-1" strike="noStrike">
                <a:solidFill>
                  <a:srgbClr val="000000"/>
                </a:solidFill>
                <a:latin typeface="Arial"/>
              </a:rPr>
              <a:t>incr</a:t>
            </a:r>
            <a:r>
              <a:rPr b="0" lang="en-US" sz="2000" spc="-1" strike="noStrike">
                <a:solidFill>
                  <a:srgbClr val="000000"/>
                </a:solidFill>
                <a:latin typeface="Arial"/>
              </a:rPr>
              <a:t> k}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if</a:t>
            </a:r>
            <a:r>
              <a:rPr b="0" lang="en-US" sz="2000" spc="-1" strike="noStrike">
                <a:solidFill>
                  <a:srgbClr val="000000"/>
                </a:solidFill>
                <a:latin typeface="Arial"/>
              </a:rPr>
              <a:t> {$k &lt; 5}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uts</a:t>
            </a:r>
            <a:r>
              <a:rPr b="0" lang="en-US" sz="2000" spc="-1" strike="noStrike">
                <a:solidFill>
                  <a:srgbClr val="000000"/>
                </a:solidFill>
                <a:latin typeface="Arial"/>
              </a:rPr>
              <a:t> “k &lt; 5, pow= [</a:t>
            </a:r>
            <a:r>
              <a:rPr b="1" lang="en-US" sz="2000" spc="-1" strike="noStrike">
                <a:solidFill>
                  <a:srgbClr val="000000"/>
                </a:solidFill>
                <a:latin typeface="Arial"/>
              </a:rPr>
              <a:t>expr</a:t>
            </a:r>
            <a:r>
              <a:rPr b="0" lang="en-US" sz="2000" spc="-1" strike="noStrike">
                <a:solidFill>
                  <a:srgbClr val="000000"/>
                </a:solidFill>
                <a:latin typeface="Arial"/>
              </a:rPr>
              <a:t> pow($d, $k)]”</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else</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puts</a:t>
            </a:r>
            <a:r>
              <a:rPr b="0" lang="en-US" sz="2000" spc="-1" strike="noStrike">
                <a:solidFill>
                  <a:srgbClr val="000000"/>
                </a:solidFill>
                <a:latin typeface="Arial"/>
              </a:rPr>
              <a:t> “k &gt;= 5, mod= [</a:t>
            </a:r>
            <a:r>
              <a:rPr b="1" lang="en-US" sz="2000" spc="-1" strike="noStrike">
                <a:solidFill>
                  <a:srgbClr val="000000"/>
                </a:solidFill>
                <a:latin typeface="Arial"/>
              </a:rPr>
              <a:t>expr</a:t>
            </a:r>
            <a:r>
              <a:rPr b="0" lang="en-US" sz="2000" spc="-1" strike="noStrike">
                <a:solidFill>
                  <a:srgbClr val="000000"/>
                </a:solidFill>
                <a:latin typeface="Arial"/>
              </a:rPr>
              <a:t> $d % $k]”</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4A7BC9-FB7A-49B8-9ECA-C644505A09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shop Intensity</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audi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cover a wide ran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ers, developers, educato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PI &amp; inter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uld be too easy or too difficul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them as review or preview</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1BFD7F-05CC-4399-9DB0-0FCC8D9647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otcl</a:t>
            </a:r>
            <a:endParaRPr b="0" lang="en-US" sz="4400" spc="-1" strike="noStrike">
              <a:solidFill>
                <a:srgbClr val="000000"/>
              </a:solidFill>
              <a:latin typeface="Times New Roman"/>
            </a:endParaRPr>
          </a:p>
        </p:txBody>
      </p:sp>
      <p:sp>
        <p:nvSpPr>
          <p:cNvPr id="148"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0" lang="en-US" sz="2000" spc="-1" strike="noStrike">
                <a:solidFill>
                  <a:srgbClr val="000000"/>
                </a:solidFill>
                <a:latin typeface="Arial"/>
              </a:rPr>
              <a:t> mo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m </a:t>
            </a:r>
            <a:r>
              <a:rPr b="1" lang="en-US" sz="2000" spc="-1" strike="noStrike">
                <a:solidFill>
                  <a:srgbClr val="000000"/>
                </a:solidFill>
                <a:latin typeface="Arial"/>
              </a:rPr>
              <a:t>instproc</a:t>
            </a:r>
            <a:r>
              <a:rPr b="0" lang="en-US" sz="2000" spc="-1" strike="noStrike">
                <a:solidFill>
                  <a:srgbClr val="000000"/>
                </a:solidFill>
                <a:latin typeface="Arial"/>
              </a:rPr>
              <a:t> init {age}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self</a:t>
            </a:r>
            <a:r>
              <a:rPr b="0" lang="en-US" sz="2000" spc="-1" strike="noStrike">
                <a:solidFill>
                  <a:srgbClr val="000000"/>
                </a:solidFill>
                <a:latin typeface="Arial"/>
              </a:rPr>
              <a:t> </a:t>
            </a:r>
            <a:r>
              <a:rPr b="1" lang="en-US" sz="2000" spc="-1" strike="noStrike">
                <a:solidFill>
                  <a:srgbClr val="000000"/>
                </a:solidFill>
                <a:latin typeface="Arial"/>
              </a:rPr>
              <a:t>instvar</a:t>
            </a:r>
            <a:r>
              <a:rPr b="0" lang="en-US" sz="2000" spc="-1" strike="noStrike">
                <a:solidFill>
                  <a:srgbClr val="000000"/>
                </a:solidFill>
                <a:latin typeface="Arial"/>
              </a:rPr>
              <a:t> age_</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 age_ $ag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m </a:t>
            </a:r>
            <a:r>
              <a:rPr b="1" lang="en-US" sz="2000" spc="-1" strike="noStrike">
                <a:solidFill>
                  <a:srgbClr val="000000"/>
                </a:solidFill>
                <a:latin typeface="Arial"/>
              </a:rPr>
              <a:t>instproc</a:t>
            </a:r>
            <a:r>
              <a:rPr b="0" lang="en-US" sz="2000" spc="-1" strike="noStrike">
                <a:solidFill>
                  <a:srgbClr val="000000"/>
                </a:solidFill>
                <a:latin typeface="Arial"/>
              </a:rPr>
              <a:t> greet {} {</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self</a:t>
            </a:r>
            <a:r>
              <a:rPr b="0" lang="en-US" sz="2000" spc="-1" strike="noStrike">
                <a:solidFill>
                  <a:srgbClr val="000000"/>
                </a:solidFill>
                <a:latin typeface="Arial"/>
              </a:rPr>
              <a:t> </a:t>
            </a:r>
            <a:r>
              <a:rPr b="1" lang="en-US" sz="2000" spc="-1" strike="noStrike">
                <a:solidFill>
                  <a:srgbClr val="000000"/>
                </a:solidFill>
                <a:latin typeface="Arial"/>
              </a:rPr>
              <a:t>instvar</a:t>
            </a:r>
            <a:r>
              <a:rPr b="0" lang="en-US" sz="2000" spc="-1" strike="noStrike">
                <a:solidFill>
                  <a:srgbClr val="000000"/>
                </a:solidFill>
                <a:latin typeface="Arial"/>
              </a:rPr>
              <a:t> age_</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ts</a:t>
            </a:r>
            <a:r>
              <a:rPr b="0" lang="en-US" sz="2000" spc="-1" strike="noStrike">
                <a:solidFill>
                  <a:srgbClr val="000000"/>
                </a:solidFill>
                <a:latin typeface="Arial"/>
              </a:rPr>
              <a:t> “$age_ years old mom: How are you doing?”</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PlaceHolder 3"/>
          <p:cNvSpPr>
            <a:spLocks noGrp="1"/>
          </p:cNvSpPr>
          <p:nvPr>
            <p:ph/>
          </p:nvPr>
        </p:nvSpPr>
        <p:spPr>
          <a:xfrm>
            <a:off x="4647960" y="1904760"/>
            <a:ext cx="3809880" cy="4190760"/>
          </a:xfrm>
          <a:prstGeom prst="rect">
            <a:avLst/>
          </a:prstGeom>
          <a:noFill/>
          <a:ln w="0">
            <a:noFill/>
          </a:ln>
        </p:spPr>
        <p:txBody>
          <a:bodyPr lIns="90000" rIns="90000" tIns="46800" bIns="46800"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0" lang="en-US" sz="2000" spc="-1" strike="noStrike">
                <a:solidFill>
                  <a:srgbClr val="000000"/>
                </a:solidFill>
                <a:latin typeface="Arial"/>
              </a:rPr>
              <a:t> kid -</a:t>
            </a:r>
            <a:r>
              <a:rPr b="1" lang="en-US" sz="2000" spc="-1" strike="noStrike">
                <a:solidFill>
                  <a:srgbClr val="000000"/>
                </a:solidFill>
                <a:latin typeface="Arial"/>
              </a:rPr>
              <a:t>superclass</a:t>
            </a:r>
            <a:r>
              <a:rPr b="0" lang="en-US" sz="2000" spc="-1" strike="noStrike">
                <a:solidFill>
                  <a:srgbClr val="000000"/>
                </a:solidFill>
                <a:latin typeface="Arial"/>
              </a:rPr>
              <a:t> mom</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 </a:t>
            </a:r>
            <a:r>
              <a:rPr b="1" lang="en-US" sz="2000" spc="-1" strike="noStrike">
                <a:solidFill>
                  <a:srgbClr val="000000"/>
                </a:solidFill>
                <a:latin typeface="Arial"/>
              </a:rPr>
              <a:t>instproc</a:t>
            </a:r>
            <a:r>
              <a:rPr b="0" lang="en-US" sz="2000" spc="-1" strike="noStrike">
                <a:solidFill>
                  <a:srgbClr val="000000"/>
                </a:solidFill>
                <a:latin typeface="Arial"/>
              </a:rPr>
              <a:t> greet {}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self</a:t>
            </a:r>
            <a:r>
              <a:rPr b="0" lang="en-US" sz="2000" spc="-1" strike="noStrike">
                <a:solidFill>
                  <a:srgbClr val="000000"/>
                </a:solidFill>
                <a:latin typeface="Arial"/>
              </a:rPr>
              <a:t> </a:t>
            </a:r>
            <a:r>
              <a:rPr b="1" lang="en-US" sz="2000" spc="-1" strike="noStrike">
                <a:solidFill>
                  <a:srgbClr val="000000"/>
                </a:solidFill>
                <a:latin typeface="Arial"/>
              </a:rPr>
              <a:t>instvar</a:t>
            </a:r>
            <a:r>
              <a:rPr b="0" lang="en-US" sz="2000" spc="-1" strike="noStrike">
                <a:solidFill>
                  <a:srgbClr val="000000"/>
                </a:solidFill>
                <a:latin typeface="Arial"/>
              </a:rPr>
              <a:t> age_</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uts</a:t>
            </a:r>
            <a:r>
              <a:rPr b="0" lang="en-US" sz="2000" spc="-1" strike="noStrike">
                <a:solidFill>
                  <a:srgbClr val="000000"/>
                </a:solidFill>
                <a:latin typeface="Arial"/>
              </a:rPr>
              <a:t> “$age_ years old kid: What’s up, dud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a:t>
            </a:r>
            <a:r>
              <a:rPr b="0" lang="en-US" sz="2000" spc="-1" strike="noStrike">
                <a:solidFill>
                  <a:srgbClr val="000000"/>
                </a:solidFill>
                <a:latin typeface="Arial"/>
              </a:rPr>
              <a:t> a [</a:t>
            </a:r>
            <a:r>
              <a:rPr b="1" lang="en-US" sz="2000" spc="-1" strike="noStrike">
                <a:solidFill>
                  <a:srgbClr val="000000"/>
                </a:solidFill>
                <a:latin typeface="Arial"/>
              </a:rPr>
              <a:t>new</a:t>
            </a:r>
            <a:r>
              <a:rPr b="0" lang="en-US" sz="2000" spc="-1" strike="noStrike">
                <a:solidFill>
                  <a:srgbClr val="000000"/>
                </a:solidFill>
                <a:latin typeface="Arial"/>
              </a:rPr>
              <a:t> mom 45]</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a:t>
            </a:r>
            <a:r>
              <a:rPr b="0" lang="en-US" sz="2000" spc="-1" strike="noStrike">
                <a:solidFill>
                  <a:srgbClr val="000000"/>
                </a:solidFill>
                <a:latin typeface="Arial"/>
              </a:rPr>
              <a:t> b [</a:t>
            </a:r>
            <a:r>
              <a:rPr b="1" lang="en-US" sz="2000" spc="-1" strike="noStrike">
                <a:solidFill>
                  <a:srgbClr val="000000"/>
                </a:solidFill>
                <a:latin typeface="Arial"/>
              </a:rPr>
              <a:t>new</a:t>
            </a:r>
            <a:r>
              <a:rPr b="0" lang="en-US" sz="2000" spc="-1" strike="noStrike">
                <a:solidFill>
                  <a:srgbClr val="000000"/>
                </a:solidFill>
                <a:latin typeface="Arial"/>
              </a:rPr>
              <a:t> kid 15]</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reet</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greet</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4D9B252-4752-492E-A1E8-4F5040DEE8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ns-2</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he event schedul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network</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ing rout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connec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raffi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ing erro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5350A9-8571-4C92-8AAB-8AB97B8216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Event Scheduler</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schedu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ns [new Simulat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 ev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lt;time&gt; &lt;event&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event&gt;: any legitimate ns/tcl command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schedu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ru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49321E-DEF2-461F-8A6D-71DA9717A6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ing</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 packets on all links</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trace-all [open test.out w]</a:t>
            </a:r>
            <a:endParaRPr b="0" lang="en-US" sz="2800" spc="-1" strike="noStrike">
              <a:solidFill>
                <a:srgbClr val="000000"/>
              </a:solidFill>
              <a:latin typeface="Times New Roman"/>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t;event&gt; &lt;time&gt; &lt;from&gt; &lt;to&gt; &lt;pkt&gt; &lt;size&gt;--&lt;flowid&gt; &lt;src&gt; &lt;dst&gt; &lt;seqno&gt; &lt;aseqno&gt;</a:t>
            </a:r>
            <a:endParaRPr b="0" lang="en-US" sz="1200" spc="-1" strike="noStrike">
              <a:solidFill>
                <a:srgbClr val="000000"/>
              </a:solidFill>
              <a:latin typeface="Times New Roman"/>
            </a:endParaRPr>
          </a:p>
          <a:p>
            <a:pPr lvl="1" marL="690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1 0 2 cbr 210 ------- 0 0.0 3.1 0 0</a:t>
            </a:r>
            <a:endParaRPr b="0" lang="en-US" sz="1200" spc="-1" strike="noStrike">
              <a:solidFill>
                <a:srgbClr val="000000"/>
              </a:solidFill>
              <a:latin typeface="Times New Roman"/>
            </a:endParaRPr>
          </a:p>
          <a:p>
            <a:pPr lvl="1" marL="690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1 0 2 cbr 210 ------- 0 0.0 3.1 0 0</a:t>
            </a:r>
            <a:endParaRPr b="0" lang="en-US" sz="1200" spc="-1" strike="noStrike">
              <a:solidFill>
                <a:srgbClr val="000000"/>
              </a:solidFill>
              <a:latin typeface="Times New Roman"/>
            </a:endParaRPr>
          </a:p>
          <a:p>
            <a:pPr lvl="1" marL="690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 1.00234 0 2 cbr 210 ------- 0 0.0 3.1 0 0</a:t>
            </a:r>
            <a:endParaRPr b="0" lang="en-US" sz="1200" spc="-1" strike="noStrike">
              <a:solidFill>
                <a:srgbClr val="000000"/>
              </a:solidFill>
              <a:latin typeface="Times New Roman"/>
            </a:endParaRPr>
          </a:p>
          <a:p>
            <a:pPr lvl="1" marL="690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 packets on all links in nam-1 format</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namtrace-all [open test.nam w]</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after ‘set ns [new Simulat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09F815-9272-4AC8-9D1F-4673FD221C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Network</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n0 [$ns no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n1 [$ns nod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s &amp; Queu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duplex-link $n0 $n1 &lt;bandwidth&gt; &lt;delay&gt; &lt;queue_type&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queue_type&gt;: DropTail, RED, CBQ, FQ, SFQ, DR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880A20-409F-43D8-9F30-F11E64151E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ing Specific links</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trace-queue $n0 $n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namtrace-queue $n0 $n1</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E41B99-D7E7-4BAC-A566-0A66423A46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Network: LAN</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make-lan &lt;node_list&gt; &lt;bandwidth&gt; &lt;delay&gt; &lt;ll_type&gt; &lt;ifq_type&gt; &lt;mac_type&gt; &lt;channel_type&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ll_type&gt;: 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ifq_type&gt;: Queue/DropT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mac_type&gt;: MAC/802_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channel_type&gt;: Channe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C2F0EC-9DF9-4E6C-93CA-ECA21531F2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ing routes</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cas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rtproto &lt;type&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type&gt;: Static, Session, DV, cost, multi-path</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4544BA-679A-4E45-A97F-6649C33330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Connection: UDP</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udp [new Agent/UD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null [new Agent/NU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0 $ud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1 $nu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connect $udp $nul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54FE45-4C0D-4D53-9C0F-B275461E35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Connection: TCP</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cp [new Agent/T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cpsink [new Agent/TCPSin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0 $t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1 $tcpsin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connect $tcp $tcpsin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C4E4EE3-BB8A-4495-97A5-F62C36D994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 Toda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7000"/>
          </a:bodyPr>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9.50 overview/intro/essential/getting started</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0.50 tcl/otcl/ns-2 fundamentals</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11.50 examples - TCP, RED, multicast, web, wireless</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unch break</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0-2.20 lab 1 setup/running examples</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0-3.20 lab 2 tcl/otcl exercises</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0-4.20 lab 3 simple ns-2 exercise</a:t>
            </a:r>
            <a:endParaRPr b="0" lang="en-US" sz="2800" spc="-1" strike="noStrike">
              <a:solidFill>
                <a:srgbClr val="000000"/>
              </a:solidFill>
              <a:latin typeface="Times New Roman"/>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0-5.00 discussion/feedbac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4A0D4E-8D09-4A09-9DC9-3B6775E89C2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Traffic: On Top of TCP</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ftp [new Application/FT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tp attach-agent $t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lt;time&gt; “$ftp sta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n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elnet [new Application/Tel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net attach-agent $tc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91E347-514E-40B2-936E-984594665B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Traffic: On Top of UDP</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B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src [new Application/Traffic/CB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onential or Pareto on-off</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src [new Application/Traffic/Exponenti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src [new Application/Traffic/Pareto]</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FA4770-19C7-4E23-988B-5D459014FC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Traffic: Trace Driven</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 drive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file [new Tracefil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file filename &lt;file&g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src [new Application/Traffic/Trac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c attach-tracefile $tfile</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file&gt;:</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forma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packet time (msec) and packet size (byt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5BEA3A-4E5D-485B-A76D-0DD7DFAC64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erting Errors</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Erro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loss_module [new Error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_module set rate_ 0.0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_module unit pk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_module ranvar [new RandomVariable/Unifor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_module drop-target [new Agent/Nul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ing Error Modu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lossmodel $loss_module $n0 $n1</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51425B-8106-4399-B31C-C07DD21014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Dynamics</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fail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 changes reflected automatical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emulate node failu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578153-FAE1-4E89-8AC0-53A3050822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Models</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rtmodel-at &lt;time&gt; &lt;up|down&gt; $n0 $n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rtmodel Trace &lt;config_file&gt; $n0 $n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rtmodel &lt;model&gt; &lt;params&gt; $n0 $n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model&gt;: Deterministic, Exponenti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params&gt;: [&lt;start&gt;] &lt;up_interval&gt; &lt;down_interval&gt; [&lt;finish&g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58C883-69A1-4784-BEAD-F3B049F3D3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s</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ting Star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ndamental tcl, otcl and ns-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e Studies - TCP, web traffic, RE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905696-3B04-4914-A893-E0E0BA3B756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tcp.t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web.tcl &amp; dumbbell.t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uing - RED (red.tc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AE4701-B0DC-4134-968B-9465DEBB73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Visualization Tool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nam-1 (Network AniMator Version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xgraph</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BD2D88-9505-4970-8CBE-43A98EC377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ns-2: Special Topics</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level supp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suppo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5970BC-B19D-4F25-A4FD-F7314CC4EB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 Tomorrow</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9.50 recap/wired internal</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0.50 wireless internal/making change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11.50 extending ns-2/case studies</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unch break</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0-2.20 lab 4 intermediate ns-2 exercise</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0-3.20 lab 5 getting data you want</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0-4.20 lab 6 advanced topic (TBD)</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0-5.00 discussion/feedbac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D54817-5177-48B1-B2B0-34C5AC005A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cast - 5 components</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e multicast cap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e multicast rou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multicast group/sen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multicast receiv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ach traffic sour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98C74C-143C-4B91-9830-9D74E6C6D7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abling multicast capability</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ns [new Simulator -multicast 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ns multicast (right after [new Simulat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4D0BAE-77D4-4ECC-BFAA-769BEF4C5D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multicast routing</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mrtproto &lt;type&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type&gt;: CtrMcast, DM, ST, BS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0CC619-289D-416B-A43A-001384D4D8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multicast group</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udp [new Agent/UD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attach-agent $n0 $ud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group [Node allocadd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set dst_addr_ $grou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8BEFE4-C67B-4126-B1AF-6C2E30F294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a multicast receiver</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rcvr [new Agent/NU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attach-agent $n1 $rcv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at &lt;time&gt; “$n1 join-group $rcvr $grou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0C8979-F69C-4F26-A4E3-26906597E7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taching a traffic source</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cbr [new Application/Traffic/CB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br attach-agent $udp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at &lt;time&gt; “$cbr star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C5E0695-3A34-4463-8DC4-4947C43249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 2 components</a:t>
            </a: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way TC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TcpApp</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9E8CB5-F2A9-409F-A35C-200BF60A7D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wo-way TCP</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llTcp conn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cp1 [new Agent/TCP/FullT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tcp2 [new Agent/TCP/FullT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1 $tcp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tach-agent $n2 $tcp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connect $tcp1 $tcp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2 liste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9A5485-F62C-4A8F-BC62-2406DFF732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ication: TcpApp</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data transf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app1 [new Application/TcpApp $tcp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app2 [new Application/TcpApp $tcp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1 connect $app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1.0 “$app1 send &lt;data_byte&gt; \”&lt;ns-2 command&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ns-2 command&gt;: will be executed when received at the receiver TcpAp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D0700B-F55A-4B5C-A677-8316E4D786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 5 components</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configu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yer 3-2, layer 1, tracing, energ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coordin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mov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 trac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341E7B-2D1D-48E1-AA71-711C92B2C4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 This Morning</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ject, the software, the philosophy</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ftware architectur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llation and getting started</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l/otcl/ns-2 fundamental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tcl/otcl</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ing ns-2 simulation script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script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 web traffic, RED, multicast, wireles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D32E4D-D68A-4C0F-8D03-E8748524897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up</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ns [new Simul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topo [new Topograp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o load_flatgrid &lt;length&gt; &lt;width&g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2EEB1C-8736-4BC7-BF96-D20DA6F5C6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Configuration: Layer 3-2</a:t>
            </a: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node-config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hocRouting &lt;adhoc routing type&gt;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lType LL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qType Queue/DropTail/PriQueue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qLen &lt;queue length&gt; </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Type Mac/802_11 </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adhoc routing type&gt;: DSDV, DSR, TORA, AODV</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4379C7-7D30-4403-8271-C03B7F5834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Configuring: Layer 1</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node-config </a:t>
            </a:r>
            <a:endParaRPr b="0" lang="en-US" sz="32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Type Phy/WirelessPhy </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Type Antenna/OmniAntenna </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Type &lt;propagation model&gt; </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nelType Channel/WirelessChannel </a:t>
            </a:r>
            <a:endParaRPr b="0" lang="en-US" sz="2800" spc="-1" strike="noStrike">
              <a:solidFill>
                <a:srgbClr val="000000"/>
              </a:solidFill>
              <a:latin typeface="Times New Roman"/>
            </a:endParaRPr>
          </a:p>
          <a:p>
            <a:pPr lvl="1" marL="646200" indent="-24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oInstance $topo </a:t>
            </a:r>
            <a:endParaRPr b="0" lang="en-US" sz="28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t;propagation model&gt;: Propagation/TwoRayGround, Propagation/FrissSpaceAttenu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646FAD-3C5A-4C45-A871-170B73125B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Configuration: Tracing</a:t>
            </a: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node-config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tTrace &lt;ON or OFF&g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Trace &lt;ON or OFF&g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Trace &lt;ON or OFF&g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43D690-0CED-4EA6-98EF-07D690509D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Configuration: Energy</a:t>
            </a:r>
            <a:endParaRPr b="0" lang="en-US" sz="44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 node-confi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Model EnergyMod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Energy &lt;total energy&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Power &lt;energy to transmit&g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xPower &lt;energy to receive&g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8F0BC8-5C2F-4E54-BED5-E7BF4279ADA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ating Nodes</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mnode [$ns nod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138BBF-A308-4FAB-B24F-71E7B98292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Coordinates</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node set X_ &lt;x&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node set Y_ &lt;y&g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node set Z_ 0</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AF2DD7-820B-4DB5-8BAC-6EED31CD39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Movement</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ble random mo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node random-motion 0</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1.0 “$mnode setdest &lt;x&gt; &lt;y&gt; &lt;speed&g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1.0 “$mnode star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E1B3ED-A49A-4EAE-BE62-4C6186642A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cing</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beginn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namtrace-all-wireless [open test.nam w] &lt;length&gt; &lt;width&g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ize no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initial_node_position $mnode 20</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 at &lt;end time&gt; “$ns nam-end-wireless &lt;end time&g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DF5A23-264C-4B15-A86E-904487F00C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ies</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cast (mcast.t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wireless-udp.tcl, wireless-tcp.tc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07CFCD-F498-45F7-A92B-2D01165540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VINT Projec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rtual InterNet Testb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mmon platform for network resear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 on multi-protocol interactions and sca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netweb.usc.edu/vi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up projec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AN: scenario and perform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ER: educational us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581530-0D0B-44E5-88C0-462DBD34AD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ns-2: Not Covered</a:t>
            </a:r>
            <a:endParaRPr b="0" lang="en-US" sz="4400" spc="-1" strike="noStrike">
              <a:solidFill>
                <a:srgbClr val="0000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elli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Serv</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ulati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3978D3-888B-4D65-B2B3-4BEBD5D568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Times New Roman"/>
              </a:rPr>
              <a:t>Lab Exercises</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Bookma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http://www.tik.ee.ethz.ch/~huang/ns-tutorial/ftw-tutorial.htm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Set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ork under these 1/ 2/,...2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exec nam -a out.na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FE5DE8-FE5F-445C-A079-7F6A46E8F401}"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state collabora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amp;T Resear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rence Berkeley National Laborato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C Berkel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C/IS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erox PAR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 TIK</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6BD923-23C4-420B-BBAC-FD80F8B153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NT Peopl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leads and co-PI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e Breslau (AT&amp;T Labs-Resear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borah Estrin (USC/I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vin Fall (UC Berkele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ly Floyd (AT&amp;T/ACIR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 Handley (AT&amp;T/ACIR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Heidemann (USC/I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tt Shenker (AT&amp;T/ACIRI)</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duate students and staff member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9656BE-2BAB-4426-B98A-D6DBDCB8B0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8T17:31:36Z</dcterms:created>
  <dc:creator>Polly Huang</dc:creator>
  <dc:description/>
  <dc:language>en-US</dc:language>
  <cp:lastModifiedBy>k000afda</cp:lastModifiedBy>
  <cp:lastPrinted>2000-02-29T15:29:00Z</cp:lastPrinted>
  <dcterms:modified xsi:type="dcterms:W3CDTF">2001-04-18T11:53:47Z</dcterms:modified>
  <cp:revision>949</cp:revision>
  <dc:subject/>
  <dc:title>Beginning ns-2</dc:title>
</cp:coreProperties>
</file>