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0510D-CD93-4D80-AF63-D75D2F801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06070-AB0C-4B1C-B84F-CCD23275B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986E6-0F36-436C-B42E-3937E3B77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71015-AA92-4732-9D54-0E8A20F2E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61ADA-17EC-4FAF-B083-4736CCD2B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A09E7-954E-4362-9A14-8AB7A6B2B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C824E-BB0B-4D90-AD73-44D0F1939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0F5E3-9860-44FE-8D9F-078F601D4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88DDE-C7E1-48AA-963B-8A6AA0A80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EAEBB-8918-456B-8FE2-AE20786B7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F1587-734C-43FD-A56B-ACF1E6FAD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2636C-D4A6-4E60-A350-3350CCD36B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20A74-2680-4C8B-AC5C-96B6A9FD36C8}"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10A20-FA41-4848-990E-F9E5CFC4AF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nd European ns-2 Workshop</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5840"/>
            <a:ext cx="6400800" cy="20574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y Huang</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H Zurich</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tik.ee.ethz.ch/~huang</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il 18 &amp; 19, 2001</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FF152F-F6A3-420B-8262-F1EDB63E03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 Goal</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support </a:t>
            </a:r>
            <a:r>
              <a:rPr b="1" lang="en-US" sz="3200" spc="-1" strike="noStrike">
                <a:solidFill>
                  <a:srgbClr val="000000"/>
                </a:solidFill>
                <a:latin typeface="Times New Roman"/>
              </a:rPr>
              <a:t>collaborative</a:t>
            </a:r>
            <a:r>
              <a:rPr b="0" lang="en-US" sz="3200" spc="-1" strike="noStrike">
                <a:solidFill>
                  <a:srgbClr val="000000"/>
                </a:solidFill>
                <a:latin typeface="Times New Roman"/>
              </a:rPr>
              <a:t> simulation effor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e sharing</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orporate recent simulation model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confidence in result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 regression test suite</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 common referenc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and periodic availability of source code</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 software is ns-2</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3D0005-2345-429F-B082-71A3A54D32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s-2</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rete event simula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lev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 layer and 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d and wireles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31548E-921F-4A9B-8BD3-B20AFF4633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velopment Statu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umbia NEST</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CB REAL</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1</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2</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K lines of C++ code</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0K lines of otcl support code</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K lines of test suites</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K lines of document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B49722-5D4A-490A-8291-4911DF4CA1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age and Release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s from approximatel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0 institute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 countri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ea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iodic official relea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ghtly snapshots (probably compiles and works, but buyers bewa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ailable from USC/ISI or UK mirro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0BB35A-C1D9-4351-96FA-4C2E58CEC7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form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UNIX and UNIX-like system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eBSD or *BSD</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ux</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n Solaris</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P, SGI</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dow 95/98/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ulation only for FreeBSD for now</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69B6A2-44E4-4DEF-9CFE-595B43C347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Words of Caution</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le we have considerable confidence in ns, ns is not a polished and finished product, but the result of an ongoing effort of research and development.  In particular, bugs in the software are still being discovered and corrected.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164B4F-D233-48E5-8CC3-D4ED5D485A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Words of Caution</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s of ns are responsible for verifying for themselves that their simulations are not invalidated by bugs.  We are working to help the user with this by significantly expanding and automating the validation tests and demo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DCB410-C177-4BB6-BA6D-D5D83E5AEC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Words of Caution</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ly, users are responsible for verifying for themselves that their simulations are not invalidated because the model implemented in the simulator is not the model that they were expecting.  The ongoing ns Notes and Documentation should help in this proces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443AEC-4B3F-4FF4-9778-BF36716DC3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shop Goal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tion to be ta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isting cap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 and implement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di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shar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2751F6-F45D-4F9D-8326-97B50C5543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This Morning</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ject, the software, the philosophy</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ftware architectur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llation and getting started</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l/otcl/ns-2 fundamental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ing tcl/otcl</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ing ns-2 simulation scripts</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script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P, web traffic, RED, multicast, wireles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CE839F-99E4-4255-9ACA-6604BEA480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shop Overview</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come</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titude</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dience background</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oriented programming?</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l?</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ns-2 before?</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l, c, or  both?</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 interes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F8C925-2AC5-4A3A-B2D7-854C2071EA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Oriented</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us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tainabili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eful planning ahe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an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7B30FF-2AE0-4B67-BA25-54F131CC97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 and otcl Separation</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for 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 packet ac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cl for contro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iodic or triggered ac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omize between composibility and sp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ing &amp; debugg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1F691E-2544-4178-AD66-3098A8B126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cl and C++: The Duality</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4419720"/>
            <a:ext cx="7772400" cy="167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
          <p:cNvSpPr/>
          <p:nvPr/>
        </p:nvSpPr>
        <p:spPr>
          <a:xfrm>
            <a:off x="1523880" y="2057400"/>
            <a:ext cx="2590920" cy="213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676520" y="2514600"/>
            <a:ext cx="3808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905120" y="2209680"/>
            <a:ext cx="3808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209680" y="2514600"/>
            <a:ext cx="3812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1904760" y="236232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09680" y="236232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666880" y="3048120"/>
            <a:ext cx="3812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352680"/>
            <a:ext cx="38124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048120" y="3352680"/>
            <a:ext cx="3808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352680" y="3657600"/>
            <a:ext cx="3812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743200" y="3657600"/>
            <a:ext cx="3808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590560" y="320040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971800" y="3200400"/>
            <a:ext cx="3049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2971440" y="350532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352680" y="350532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343400" y="2057400"/>
            <a:ext cx="2590920" cy="213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867280" y="3886200"/>
            <a:ext cx="3812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095880" y="3581280"/>
            <a:ext cx="38124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400800" y="3886200"/>
            <a:ext cx="3808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6095880" y="3733920"/>
            <a:ext cx="152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400800" y="373392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724280" y="2286000"/>
            <a:ext cx="3812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495680" y="2590920"/>
            <a:ext cx="3812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105520" y="2590920"/>
            <a:ext cx="3808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410080" y="2895480"/>
            <a:ext cx="38124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800600" y="2895480"/>
            <a:ext cx="3808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4647960" y="2438280"/>
            <a:ext cx="22860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029200" y="2438280"/>
            <a:ext cx="3049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5028840" y="274320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410080" y="274320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233760" y="2022480"/>
            <a:ext cx="72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16" name=""/>
          <p:cNvSpPr/>
          <p:nvPr/>
        </p:nvSpPr>
        <p:spPr>
          <a:xfrm>
            <a:off x="1584360" y="377496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cl</a:t>
            </a:r>
            <a:endParaRPr b="0" lang="en-US" sz="2400" spc="-1" strike="noStrike">
              <a:solidFill>
                <a:srgbClr val="000000"/>
              </a:solidFill>
              <a:latin typeface="Times New Roman"/>
            </a:endParaRPr>
          </a:p>
        </p:txBody>
      </p:sp>
      <p:sp>
        <p:nvSpPr>
          <p:cNvPr id="117" name=""/>
          <p:cNvSpPr/>
          <p:nvPr/>
        </p:nvSpPr>
        <p:spPr>
          <a:xfrm>
            <a:off x="3352680" y="2311560"/>
            <a:ext cx="1676520" cy="1041120"/>
          </a:xfrm>
          <a:custGeom>
            <a:avLst/>
            <a:gdLst/>
            <a:ahLst/>
            <a:rect l="l" t="t" r="r" b="b"/>
            <a:pathLst>
              <a:path w="1056" h="656">
                <a:moveTo>
                  <a:pt x="0" y="656"/>
                </a:moveTo>
                <a:cubicBezTo>
                  <a:pt x="104" y="408"/>
                  <a:pt x="208" y="160"/>
                  <a:pt x="384" y="80"/>
                </a:cubicBezTo>
                <a:cubicBezTo>
                  <a:pt x="560" y="0"/>
                  <a:pt x="944" y="160"/>
                  <a:pt x="1056" y="176"/>
                </a:cubicBezTo>
              </a:path>
            </a:pathLst>
          </a:custGeom>
          <a:noFill/>
          <a:ln w="9360">
            <a:solidFill>
              <a:srgbClr val="000000"/>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048120" y="3124080"/>
            <a:ext cx="2158920" cy="1028880"/>
          </a:xfrm>
          <a:custGeom>
            <a:avLst/>
            <a:gdLst/>
            <a:ahLst/>
            <a:rect l="l" t="t" r="r" b="b"/>
            <a:pathLst>
              <a:path w="1360" h="648">
                <a:moveTo>
                  <a:pt x="0" y="432"/>
                </a:moveTo>
                <a:cubicBezTo>
                  <a:pt x="472" y="540"/>
                  <a:pt x="944" y="648"/>
                  <a:pt x="1152" y="576"/>
                </a:cubicBezTo>
                <a:cubicBezTo>
                  <a:pt x="1360" y="504"/>
                  <a:pt x="1232" y="96"/>
                  <a:pt x="1248" y="0"/>
                </a:cubicBezTo>
              </a:path>
            </a:pathLst>
          </a:custGeom>
          <a:noFill/>
          <a:ln w="9360">
            <a:solidFill>
              <a:srgbClr val="000000"/>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657600" y="3124080"/>
            <a:ext cx="2082960" cy="1028880"/>
          </a:xfrm>
          <a:custGeom>
            <a:avLst/>
            <a:gdLst/>
            <a:ahLst/>
            <a:rect l="l" t="t" r="r" b="b"/>
            <a:pathLst>
              <a:path w="1312" h="648">
                <a:moveTo>
                  <a:pt x="0" y="432"/>
                </a:moveTo>
                <a:cubicBezTo>
                  <a:pt x="448" y="540"/>
                  <a:pt x="896" y="648"/>
                  <a:pt x="1104" y="576"/>
                </a:cubicBezTo>
                <a:cubicBezTo>
                  <a:pt x="1312" y="504"/>
                  <a:pt x="1280" y="252"/>
                  <a:pt x="1248" y="0"/>
                </a:cubicBezTo>
              </a:path>
            </a:pathLst>
          </a:custGeom>
          <a:noFill/>
          <a:ln w="9360">
            <a:solidFill>
              <a:srgbClr val="000000"/>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514600" y="2235240"/>
            <a:ext cx="1905120" cy="1117440"/>
          </a:xfrm>
          <a:custGeom>
            <a:avLst/>
            <a:gdLst/>
            <a:ahLst/>
            <a:rect l="l" t="t" r="r" b="b"/>
            <a:pathLst>
              <a:path w="1200" h="704">
                <a:moveTo>
                  <a:pt x="0" y="704"/>
                </a:moveTo>
                <a:cubicBezTo>
                  <a:pt x="68" y="432"/>
                  <a:pt x="136" y="160"/>
                  <a:pt x="336" y="80"/>
                </a:cubicBezTo>
                <a:cubicBezTo>
                  <a:pt x="536" y="0"/>
                  <a:pt x="868" y="112"/>
                  <a:pt x="1200" y="224"/>
                </a:cubicBezTo>
              </a:path>
            </a:pathLst>
          </a:custGeom>
          <a:noFill/>
          <a:ln w="9360">
            <a:solidFill>
              <a:srgbClr val="000000"/>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971800" y="2006640"/>
            <a:ext cx="1676520" cy="1041480"/>
          </a:xfrm>
          <a:custGeom>
            <a:avLst/>
            <a:gdLst/>
            <a:ahLst/>
            <a:rect l="l" t="t" r="r" b="b"/>
            <a:pathLst>
              <a:path w="1056" h="656">
                <a:moveTo>
                  <a:pt x="0" y="656"/>
                </a:moveTo>
                <a:cubicBezTo>
                  <a:pt x="80" y="408"/>
                  <a:pt x="160" y="160"/>
                  <a:pt x="336" y="80"/>
                </a:cubicBezTo>
                <a:cubicBezTo>
                  <a:pt x="512" y="0"/>
                  <a:pt x="784" y="88"/>
                  <a:pt x="1056" y="176"/>
                </a:cubicBezTo>
              </a:path>
            </a:pathLst>
          </a:custGeom>
          <a:noFill/>
          <a:ln w="9360">
            <a:solidFill>
              <a:srgbClr val="000000"/>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294F22-6059-4F04-B235-9F0AAE6301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l Interpreter With Extents</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4419360"/>
            <a:ext cx="7772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cl: Object-oriented suppor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lcl: C++ and otcl linkag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rete event scheduler</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network components</a:t>
            </a:r>
            <a:endParaRPr b="0" lang="en-US" sz="2800" spc="-1" strike="noStrike">
              <a:solidFill>
                <a:srgbClr val="000000"/>
              </a:solidFill>
              <a:latin typeface="Times New Roman"/>
            </a:endParaRPr>
          </a:p>
        </p:txBody>
      </p:sp>
      <p:sp>
        <p:nvSpPr>
          <p:cNvPr id="124" name=""/>
          <p:cNvSpPr/>
          <p:nvPr/>
        </p:nvSpPr>
        <p:spPr>
          <a:xfrm>
            <a:off x="2819520" y="3809880"/>
            <a:ext cx="10666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8.0</a:t>
            </a:r>
            <a:endParaRPr b="0" lang="en-US" sz="2400" spc="-1" strike="noStrike">
              <a:solidFill>
                <a:srgbClr val="000000"/>
              </a:solidFill>
              <a:latin typeface="Times New Roman"/>
            </a:endParaRPr>
          </a:p>
        </p:txBody>
      </p:sp>
      <p:sp>
        <p:nvSpPr>
          <p:cNvPr id="125" name=""/>
          <p:cNvSpPr/>
          <p:nvPr/>
        </p:nvSpPr>
        <p:spPr>
          <a:xfrm>
            <a:off x="2819520" y="3276720"/>
            <a:ext cx="15238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819520" y="2743200"/>
            <a:ext cx="289548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2819520" y="1828800"/>
            <a:ext cx="205740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819520" y="2743200"/>
            <a:ext cx="205740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429000" y="335268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cl</a:t>
            </a:r>
            <a:endParaRPr b="0" lang="en-US" sz="2400" spc="-1" strike="noStrike">
              <a:solidFill>
                <a:srgbClr val="000000"/>
              </a:solidFill>
              <a:latin typeface="Times New Roman"/>
            </a:endParaRPr>
          </a:p>
        </p:txBody>
      </p:sp>
      <p:sp>
        <p:nvSpPr>
          <p:cNvPr id="130" name=""/>
          <p:cNvSpPr/>
          <p:nvPr/>
        </p:nvSpPr>
        <p:spPr>
          <a:xfrm>
            <a:off x="4037760" y="2819520"/>
            <a:ext cx="70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cl</a:t>
            </a:r>
            <a:endParaRPr b="0" lang="en-US" sz="2400" spc="-1" strike="noStrike">
              <a:solidFill>
                <a:srgbClr val="000000"/>
              </a:solidFill>
              <a:latin typeface="Times New Roman"/>
            </a:endParaRPr>
          </a:p>
        </p:txBody>
      </p:sp>
      <p:sp>
        <p:nvSpPr>
          <p:cNvPr id="131" name=""/>
          <p:cNvSpPr/>
          <p:nvPr/>
        </p:nvSpPr>
        <p:spPr>
          <a:xfrm>
            <a:off x="2819520" y="1828800"/>
            <a:ext cx="28954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954320" y="198108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s-2</a:t>
            </a:r>
            <a:endParaRPr b="0" lang="en-US" sz="2400" spc="-1" strike="noStrike">
              <a:solidFill>
                <a:srgbClr val="000000"/>
              </a:solidFill>
              <a:latin typeface="Times New Roman"/>
            </a:endParaRPr>
          </a:p>
        </p:txBody>
      </p:sp>
      <p:sp>
        <p:nvSpPr>
          <p:cNvPr id="133" name=""/>
          <p:cNvSpPr/>
          <p:nvPr/>
        </p:nvSpPr>
        <p:spPr>
          <a:xfrm>
            <a:off x="3184560" y="1946160"/>
            <a:ext cx="1401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er</a:t>
            </a:r>
            <a:endParaRPr b="0" lang="en-US" sz="2400" spc="-1" strike="noStrike">
              <a:solidFill>
                <a:srgbClr val="000000"/>
              </a:solidFill>
              <a:latin typeface="Times New Roman"/>
            </a:endParaRPr>
          </a:p>
        </p:txBody>
      </p:sp>
      <p:sp>
        <p:nvSpPr>
          <p:cNvPr id="134" name=""/>
          <p:cNvSpPr/>
          <p:nvPr/>
        </p:nvSpPr>
        <p:spPr>
          <a:xfrm rot="5400000">
            <a:off x="4560120" y="3209040"/>
            <a:ext cx="1604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34859C-933E-409B-B8F7-68E68AC5C8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tallation</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ting the pie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l/tk8.0), otcl, tclcl, ns-2, (and nam-1)</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isi.edu/nsnam/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users@isi.edu</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users-request@isi.edu</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subscribe ns-users’ in body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announce@isi.ed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23B3D9-A4AB-4BA9-A833-C7F4DF9813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llo World - Interactive Mode</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allow 71% </a:t>
            </a:r>
            <a:r>
              <a:rPr b="1" lang="en-US" sz="2400" spc="-1" strike="noStrike">
                <a:solidFill>
                  <a:srgbClr val="000000"/>
                </a:solidFill>
                <a:latin typeface="Arial"/>
              </a:rPr>
              <a:t>ns</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set ns [new Simulator]</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o3</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ns at 1 “puts \“Hello World!\””</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ns at 1.5 “exit”</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ns run</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lo World!</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allow 72%</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25A76F-963F-4440-ACF0-C4B72ECA03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llo World - Passive Mode</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tcl</a:t>
            </a:r>
            <a:endParaRPr b="0" lang="en-US" sz="32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 ns [new Simulator]</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s at 1 “puts \“Hello World!\””</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s at 1.5 “exit”</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s run</a:t>
            </a: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allow 74% </a:t>
            </a:r>
            <a:r>
              <a:rPr b="1" lang="en-US" sz="2800" spc="-1" strike="noStrike">
                <a:solidFill>
                  <a:srgbClr val="000000"/>
                </a:solidFill>
                <a:latin typeface="Arial"/>
              </a:rPr>
              <a:t>ns simple.tcl</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lo World!</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allow 75%</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D7674D-A2AE-403F-9B57-F398D9154D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This Morning</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ject, the software, the philosophy</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ftware architectur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llation and getting started</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cl/otcl/ns-2 fundamental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ing tcl/otcl</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ing ns-2 simulation scripts</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script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P, web traffic, RED, multicast, wireles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C6ED90-82EF-462B-8FE7-B6581B37A3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damentals</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c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tp://ftp.tns.lcs.mit.edu/pub/otcl/doc/tutorial.html</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2</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isi.edu/nsnam/ns/ns_doc.ps.gz</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isi.edu/nsnam/ns/ns_doc.pdf</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isi.edu/nsnam/ns/doc/index.html</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1825AF-DB22-469B-B546-E15DB40DAA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tcl</a:t>
            </a:r>
            <a:endParaRPr b="0" lang="en-US" sz="4400" spc="-1" strike="noStrike">
              <a:solidFill>
                <a:srgbClr val="000000"/>
              </a:solidFill>
              <a:latin typeface="Times New Roman"/>
            </a:endParaRPr>
          </a:p>
        </p:txBody>
      </p:sp>
      <p:sp>
        <p:nvSpPr>
          <p:cNvPr id="146" name="PlaceHolder 2"/>
          <p:cNvSpPr>
            <a:spLocks noGrp="1"/>
          </p:cNvSpPr>
          <p:nvPr>
            <p:ph/>
          </p:nvPr>
        </p:nvSpPr>
        <p:spPr>
          <a:xfrm>
            <a:off x="762120" y="1371600"/>
            <a:ext cx="7772400" cy="5105520"/>
          </a:xfrm>
          <a:prstGeom prst="rect">
            <a:avLst/>
          </a:prstGeom>
          <a:noFill/>
          <a:ln w="0">
            <a:noFill/>
          </a:ln>
        </p:spPr>
        <p:txBody>
          <a:bodyPr lIns="90000" rIns="90000" tIns="46800" bIns="46800" anchor="t">
            <a:normAutofit fontScale="98000"/>
          </a:bodyPr>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a:t>
            </a:r>
            <a:r>
              <a:rPr b="0" lang="en-US" sz="2000" spc="-1" strike="noStrike">
                <a:solidFill>
                  <a:srgbClr val="000000"/>
                </a:solidFill>
                <a:latin typeface="Arial"/>
              </a:rPr>
              <a:t> test {} {</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et</a:t>
            </a:r>
            <a:r>
              <a:rPr b="0" lang="en-US" sz="2000" spc="-1" strike="noStrike">
                <a:solidFill>
                  <a:srgbClr val="000000"/>
                </a:solidFill>
                <a:latin typeface="Arial"/>
              </a:rPr>
              <a:t> a 43</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et</a:t>
            </a:r>
            <a:r>
              <a:rPr b="0" lang="en-US" sz="2000" spc="-1" strike="noStrike">
                <a:solidFill>
                  <a:srgbClr val="000000"/>
                </a:solidFill>
                <a:latin typeface="Arial"/>
              </a:rPr>
              <a:t> b 27</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et</a:t>
            </a:r>
            <a:r>
              <a:rPr b="0" lang="en-US" sz="2000" spc="-1" strike="noStrike">
                <a:solidFill>
                  <a:srgbClr val="000000"/>
                </a:solidFill>
                <a:latin typeface="Arial"/>
              </a:rPr>
              <a:t> c [</a:t>
            </a:r>
            <a:r>
              <a:rPr b="1" lang="en-US" sz="2000" spc="-1" strike="noStrike">
                <a:solidFill>
                  <a:srgbClr val="000000"/>
                </a:solidFill>
                <a:latin typeface="Arial"/>
              </a:rPr>
              <a:t>expr</a:t>
            </a:r>
            <a:r>
              <a:rPr b="0" lang="en-US" sz="2000" spc="-1" strike="noStrike">
                <a:solidFill>
                  <a:srgbClr val="000000"/>
                </a:solidFill>
                <a:latin typeface="Arial"/>
              </a:rPr>
              <a:t> $a + $b]</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et</a:t>
            </a:r>
            <a:r>
              <a:rPr b="0" lang="en-US" sz="2000" spc="-1" strike="noStrike">
                <a:solidFill>
                  <a:srgbClr val="000000"/>
                </a:solidFill>
                <a:latin typeface="Arial"/>
              </a:rPr>
              <a:t> d [</a:t>
            </a:r>
            <a:r>
              <a:rPr b="1" lang="en-US" sz="2000" spc="-1" strike="noStrike">
                <a:solidFill>
                  <a:srgbClr val="000000"/>
                </a:solidFill>
                <a:latin typeface="Arial"/>
              </a:rPr>
              <a:t>expr</a:t>
            </a:r>
            <a:r>
              <a:rPr b="0" lang="en-US" sz="2000" spc="-1" strike="noStrike">
                <a:solidFill>
                  <a:srgbClr val="000000"/>
                </a:solidFill>
                <a:latin typeface="Arial"/>
              </a:rPr>
              <a:t> [</a:t>
            </a:r>
            <a:r>
              <a:rPr b="1" lang="en-US" sz="2000" spc="-1" strike="noStrike">
                <a:solidFill>
                  <a:srgbClr val="000000"/>
                </a:solidFill>
                <a:latin typeface="Arial"/>
              </a:rPr>
              <a:t>expr</a:t>
            </a:r>
            <a:r>
              <a:rPr b="0" lang="en-US" sz="2000" spc="-1" strike="noStrike">
                <a:solidFill>
                  <a:srgbClr val="000000"/>
                </a:solidFill>
                <a:latin typeface="Arial"/>
              </a:rPr>
              <a:t> $a - $b] * $c]</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for</a:t>
            </a:r>
            <a:r>
              <a:rPr b="0" lang="en-US" sz="2000" spc="-1" strike="noStrike">
                <a:solidFill>
                  <a:srgbClr val="000000"/>
                </a:solidFill>
                <a:latin typeface="Arial"/>
              </a:rPr>
              <a:t> {</a:t>
            </a:r>
            <a:r>
              <a:rPr b="1" lang="en-US" sz="2000" spc="-1" strike="noStrike">
                <a:solidFill>
                  <a:srgbClr val="000000"/>
                </a:solidFill>
                <a:latin typeface="Arial"/>
              </a:rPr>
              <a:t>set</a:t>
            </a:r>
            <a:r>
              <a:rPr b="0" lang="en-US" sz="2000" spc="-1" strike="noStrike">
                <a:solidFill>
                  <a:srgbClr val="000000"/>
                </a:solidFill>
                <a:latin typeface="Arial"/>
              </a:rPr>
              <a:t> k 0} {$k &lt; 10} {</a:t>
            </a:r>
            <a:r>
              <a:rPr b="1" lang="en-US" sz="2000" spc="-1" strike="noStrike">
                <a:solidFill>
                  <a:srgbClr val="000000"/>
                </a:solidFill>
                <a:latin typeface="Arial"/>
              </a:rPr>
              <a:t>incr</a:t>
            </a:r>
            <a:r>
              <a:rPr b="0" lang="en-US" sz="2000" spc="-1" strike="noStrike">
                <a:solidFill>
                  <a:srgbClr val="000000"/>
                </a:solidFill>
                <a:latin typeface="Arial"/>
              </a:rPr>
              <a:t> k} {</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if</a:t>
            </a:r>
            <a:r>
              <a:rPr b="0" lang="en-US" sz="2000" spc="-1" strike="noStrike">
                <a:solidFill>
                  <a:srgbClr val="000000"/>
                </a:solidFill>
                <a:latin typeface="Arial"/>
              </a:rPr>
              <a:t> {$k &lt; 5} {</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uts</a:t>
            </a:r>
            <a:r>
              <a:rPr b="0" lang="en-US" sz="2000" spc="-1" strike="noStrike">
                <a:solidFill>
                  <a:srgbClr val="000000"/>
                </a:solidFill>
                <a:latin typeface="Arial"/>
              </a:rPr>
              <a:t> “k &lt; 5, pow= [</a:t>
            </a:r>
            <a:r>
              <a:rPr b="1" lang="en-US" sz="2000" spc="-1" strike="noStrike">
                <a:solidFill>
                  <a:srgbClr val="000000"/>
                </a:solidFill>
                <a:latin typeface="Arial"/>
              </a:rPr>
              <a:t>expr</a:t>
            </a:r>
            <a:r>
              <a:rPr b="0" lang="en-US" sz="2000" spc="-1" strike="noStrike">
                <a:solidFill>
                  <a:srgbClr val="000000"/>
                </a:solidFill>
                <a:latin typeface="Arial"/>
              </a:rPr>
              <a:t> pow($d, $k)]”</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else</a:t>
            </a:r>
            <a:r>
              <a:rPr b="0" lang="en-US" sz="2000" spc="-1" strike="noStrike">
                <a:solidFill>
                  <a:srgbClr val="000000"/>
                </a:solidFill>
                <a:latin typeface="Arial"/>
              </a:rPr>
              <a:t> {</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uts</a:t>
            </a:r>
            <a:r>
              <a:rPr b="0" lang="en-US" sz="2000" spc="-1" strike="noStrike">
                <a:solidFill>
                  <a:srgbClr val="000000"/>
                </a:solidFill>
                <a:latin typeface="Arial"/>
              </a:rPr>
              <a:t> “k &gt;= 5, mod= [</a:t>
            </a:r>
            <a:r>
              <a:rPr b="1" lang="en-US" sz="2000" spc="-1" strike="noStrike">
                <a:solidFill>
                  <a:srgbClr val="000000"/>
                </a:solidFill>
                <a:latin typeface="Arial"/>
              </a:rPr>
              <a:t>expr</a:t>
            </a:r>
            <a:r>
              <a:rPr b="0" lang="en-US" sz="2000" spc="-1" strike="noStrike">
                <a:solidFill>
                  <a:srgbClr val="000000"/>
                </a:solidFill>
                <a:latin typeface="Arial"/>
              </a:rPr>
              <a:t> $d % $k]”</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9F649A9-F1F2-493D-AA49-8CC8533EA8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shop Intensity</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audien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 to cover a wide rang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ers, developers, educator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v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API &amp; inter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could be too easy or too difficul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them as review or preview</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C58532-2AAD-4B78-B674-DA54C61D9A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otcl</a:t>
            </a:r>
            <a:endParaRPr b="0" lang="en-US" sz="4400" spc="-1" strike="noStrike">
              <a:solidFill>
                <a:srgbClr val="000000"/>
              </a:solidFill>
              <a:latin typeface="Times New Roman"/>
            </a:endParaRPr>
          </a:p>
        </p:txBody>
      </p:sp>
      <p:sp>
        <p:nvSpPr>
          <p:cNvPr id="148" name="PlaceHolder 2"/>
          <p:cNvSpPr>
            <a:spLocks noGrp="1"/>
          </p:cNvSpPr>
          <p:nvPr>
            <p:ph/>
          </p:nvPr>
        </p:nvSpPr>
        <p:spPr>
          <a:xfrm>
            <a:off x="685440" y="1905120"/>
            <a:ext cx="380988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a:t>
            </a:r>
            <a:r>
              <a:rPr b="0" lang="en-US" sz="2000" spc="-1" strike="noStrike">
                <a:solidFill>
                  <a:srgbClr val="000000"/>
                </a:solidFill>
                <a:latin typeface="Arial"/>
              </a:rPr>
              <a:t> mom</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m </a:t>
            </a:r>
            <a:r>
              <a:rPr b="1" lang="en-US" sz="2000" spc="-1" strike="noStrike">
                <a:solidFill>
                  <a:srgbClr val="000000"/>
                </a:solidFill>
                <a:latin typeface="Arial"/>
              </a:rPr>
              <a:t>instproc</a:t>
            </a:r>
            <a:r>
              <a:rPr b="0" lang="en-US" sz="2000" spc="-1" strike="noStrike">
                <a:solidFill>
                  <a:srgbClr val="000000"/>
                </a:solidFill>
                <a:latin typeface="Arial"/>
              </a:rPr>
              <a:t> init {ag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self</a:t>
            </a:r>
            <a:r>
              <a:rPr b="0" lang="en-US" sz="2000" spc="-1" strike="noStrike">
                <a:solidFill>
                  <a:srgbClr val="000000"/>
                </a:solidFill>
                <a:latin typeface="Arial"/>
              </a:rPr>
              <a:t> </a:t>
            </a:r>
            <a:r>
              <a:rPr b="1" lang="en-US" sz="2000" spc="-1" strike="noStrike">
                <a:solidFill>
                  <a:srgbClr val="000000"/>
                </a:solidFill>
                <a:latin typeface="Arial"/>
              </a:rPr>
              <a:t>instvar</a:t>
            </a:r>
            <a:r>
              <a:rPr b="0" lang="en-US" sz="2000" spc="-1" strike="noStrike">
                <a:solidFill>
                  <a:srgbClr val="000000"/>
                </a:solidFill>
                <a:latin typeface="Arial"/>
              </a:rPr>
              <a:t> age_</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 age_ $ag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m </a:t>
            </a:r>
            <a:r>
              <a:rPr b="1" lang="en-US" sz="2000" spc="-1" strike="noStrike">
                <a:solidFill>
                  <a:srgbClr val="000000"/>
                </a:solidFill>
                <a:latin typeface="Arial"/>
              </a:rPr>
              <a:t>instproc</a:t>
            </a:r>
            <a:r>
              <a:rPr b="0" lang="en-US" sz="2000" spc="-1" strike="noStrike">
                <a:solidFill>
                  <a:srgbClr val="000000"/>
                </a:solidFill>
                <a:latin typeface="Arial"/>
              </a:rPr>
              <a:t> greet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self</a:t>
            </a:r>
            <a:r>
              <a:rPr b="0" lang="en-US" sz="2000" spc="-1" strike="noStrike">
                <a:solidFill>
                  <a:srgbClr val="000000"/>
                </a:solidFill>
                <a:latin typeface="Arial"/>
              </a:rPr>
              <a:t> </a:t>
            </a:r>
            <a:r>
              <a:rPr b="1" lang="en-US" sz="2000" spc="-1" strike="noStrike">
                <a:solidFill>
                  <a:srgbClr val="000000"/>
                </a:solidFill>
                <a:latin typeface="Arial"/>
              </a:rPr>
              <a:t>instvar</a:t>
            </a:r>
            <a:r>
              <a:rPr b="0" lang="en-US" sz="2000" spc="-1" strike="noStrike">
                <a:solidFill>
                  <a:srgbClr val="000000"/>
                </a:solidFill>
                <a:latin typeface="Arial"/>
              </a:rPr>
              <a:t> age_</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uts</a:t>
            </a:r>
            <a:r>
              <a:rPr b="0" lang="en-US" sz="2000" spc="-1" strike="noStrike">
                <a:solidFill>
                  <a:srgbClr val="000000"/>
                </a:solidFill>
                <a:latin typeface="Arial"/>
              </a:rPr>
              <a:t> “$age_ years old mom: How are you doing?”</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PlaceHolder 3"/>
          <p:cNvSpPr>
            <a:spLocks noGrp="1"/>
          </p:cNvSpPr>
          <p:nvPr>
            <p:ph/>
          </p:nvPr>
        </p:nvSpPr>
        <p:spPr>
          <a:xfrm>
            <a:off x="4647960" y="1904760"/>
            <a:ext cx="3809880" cy="4190760"/>
          </a:xfrm>
          <a:prstGeom prst="rect">
            <a:avLst/>
          </a:prstGeom>
          <a:noFill/>
          <a:ln w="0">
            <a:noFill/>
          </a:ln>
        </p:spPr>
        <p:txBody>
          <a:bodyPr lIns="90000" rIns="90000" tIns="46800" bIns="46800" anchor="t">
            <a:normAutofit fontScale="95000"/>
          </a:bodyPr>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a:t>
            </a:r>
            <a:r>
              <a:rPr b="0" lang="en-US" sz="2000" spc="-1" strike="noStrike">
                <a:solidFill>
                  <a:srgbClr val="000000"/>
                </a:solidFill>
                <a:latin typeface="Arial"/>
              </a:rPr>
              <a:t> kid -</a:t>
            </a:r>
            <a:r>
              <a:rPr b="1" lang="en-US" sz="2000" spc="-1" strike="noStrike">
                <a:solidFill>
                  <a:srgbClr val="000000"/>
                </a:solidFill>
                <a:latin typeface="Arial"/>
              </a:rPr>
              <a:t>superclass</a:t>
            </a:r>
            <a:r>
              <a:rPr b="0" lang="en-US" sz="2000" spc="-1" strike="noStrike">
                <a:solidFill>
                  <a:srgbClr val="000000"/>
                </a:solidFill>
                <a:latin typeface="Arial"/>
              </a:rPr>
              <a:t> mom</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d </a:t>
            </a:r>
            <a:r>
              <a:rPr b="1" lang="en-US" sz="2000" spc="-1" strike="noStrike">
                <a:solidFill>
                  <a:srgbClr val="000000"/>
                </a:solidFill>
                <a:latin typeface="Arial"/>
              </a:rPr>
              <a:t>instproc</a:t>
            </a:r>
            <a:r>
              <a:rPr b="0" lang="en-US" sz="2000" spc="-1" strike="noStrike">
                <a:solidFill>
                  <a:srgbClr val="000000"/>
                </a:solidFill>
                <a:latin typeface="Arial"/>
              </a:rPr>
              <a:t> greet {} {</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self</a:t>
            </a:r>
            <a:r>
              <a:rPr b="0" lang="en-US" sz="2000" spc="-1" strike="noStrike">
                <a:solidFill>
                  <a:srgbClr val="000000"/>
                </a:solidFill>
                <a:latin typeface="Arial"/>
              </a:rPr>
              <a:t> </a:t>
            </a:r>
            <a:r>
              <a:rPr b="1" lang="en-US" sz="2000" spc="-1" strike="noStrike">
                <a:solidFill>
                  <a:srgbClr val="000000"/>
                </a:solidFill>
                <a:latin typeface="Arial"/>
              </a:rPr>
              <a:t>instvar</a:t>
            </a:r>
            <a:r>
              <a:rPr b="0" lang="en-US" sz="2000" spc="-1" strike="noStrike">
                <a:solidFill>
                  <a:srgbClr val="000000"/>
                </a:solidFill>
                <a:latin typeface="Arial"/>
              </a:rPr>
              <a:t> age_</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uts</a:t>
            </a:r>
            <a:r>
              <a:rPr b="0" lang="en-US" sz="2000" spc="-1" strike="noStrike">
                <a:solidFill>
                  <a:srgbClr val="000000"/>
                </a:solidFill>
                <a:latin typeface="Arial"/>
              </a:rPr>
              <a:t> “$age_ years old kid: What’s up, dude?”</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a:t>
            </a:r>
            <a:r>
              <a:rPr b="0" lang="en-US" sz="2000" spc="-1" strike="noStrike">
                <a:solidFill>
                  <a:srgbClr val="000000"/>
                </a:solidFill>
                <a:latin typeface="Arial"/>
              </a:rPr>
              <a:t> a [</a:t>
            </a:r>
            <a:r>
              <a:rPr b="1" lang="en-US" sz="2000" spc="-1" strike="noStrike">
                <a:solidFill>
                  <a:srgbClr val="000000"/>
                </a:solidFill>
                <a:latin typeface="Arial"/>
              </a:rPr>
              <a:t>new</a:t>
            </a:r>
            <a:r>
              <a:rPr b="0" lang="en-US" sz="2000" spc="-1" strike="noStrike">
                <a:solidFill>
                  <a:srgbClr val="000000"/>
                </a:solidFill>
                <a:latin typeface="Arial"/>
              </a:rPr>
              <a:t> mom 45]</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a:t>
            </a:r>
            <a:r>
              <a:rPr b="0" lang="en-US" sz="2000" spc="-1" strike="noStrike">
                <a:solidFill>
                  <a:srgbClr val="000000"/>
                </a:solidFill>
                <a:latin typeface="Arial"/>
              </a:rPr>
              <a:t> b [</a:t>
            </a:r>
            <a:r>
              <a:rPr b="1" lang="en-US" sz="2000" spc="-1" strike="noStrike">
                <a:solidFill>
                  <a:srgbClr val="000000"/>
                </a:solidFill>
                <a:latin typeface="Arial"/>
              </a:rPr>
              <a:t>new</a:t>
            </a:r>
            <a:r>
              <a:rPr b="0" lang="en-US" sz="2000" spc="-1" strike="noStrike">
                <a:solidFill>
                  <a:srgbClr val="000000"/>
                </a:solidFill>
                <a:latin typeface="Arial"/>
              </a:rPr>
              <a:t> kid 15]</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reet</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gree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38559782-CD24-4185-88D1-B5236582CBA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ns-2</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the event schedul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c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network</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ing rout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connec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traffic</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ing error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9FED1E-1974-48F0-B0E9-E37405D1B2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Event Scheduler</a:t>
            </a: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schedul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ns [new Simulato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 ev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at &lt;time&gt; &lt;event&g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event&gt;: any legitimate ns/tcl command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chedul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ru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D708E9-4E8A-4516-99FD-90597136EB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ing</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ce packets on all links</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trace-all [open test.out w]</a:t>
            </a:r>
            <a:endParaRPr b="0" lang="en-US" sz="2800" spc="-1" strike="noStrike">
              <a:solidFill>
                <a:srgbClr val="000000"/>
              </a:solidFill>
              <a:latin typeface="Times New Roman"/>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event&gt; &lt;time&gt; &lt;from&gt; &lt;to&gt; &lt;pkt&gt; &lt;size&gt;--&lt;flowid&gt; &lt;src&gt; &lt;dst&gt; &lt;seqno&gt; &lt;aseqno&gt;</a:t>
            </a:r>
            <a:endParaRPr b="0" lang="en-US" sz="1200" spc="-1" strike="noStrike">
              <a:solidFill>
                <a:srgbClr val="000000"/>
              </a:solidFill>
              <a:latin typeface="Times New Roman"/>
            </a:endParaRPr>
          </a:p>
          <a:p>
            <a:pPr lvl="1" marL="6908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1 0 2 cbr 210 ------- 0 0.0 3.1 0 0</a:t>
            </a:r>
            <a:endParaRPr b="0" lang="en-US" sz="1200" spc="-1" strike="noStrike">
              <a:solidFill>
                <a:srgbClr val="000000"/>
              </a:solidFill>
              <a:latin typeface="Times New Roman"/>
            </a:endParaRPr>
          </a:p>
          <a:p>
            <a:pPr lvl="1" marL="6908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1 0 2 cbr 210 ------- 0 0.0 3.1 0 0</a:t>
            </a:r>
            <a:endParaRPr b="0" lang="en-US" sz="1200" spc="-1" strike="noStrike">
              <a:solidFill>
                <a:srgbClr val="000000"/>
              </a:solidFill>
              <a:latin typeface="Times New Roman"/>
            </a:endParaRPr>
          </a:p>
          <a:p>
            <a:pPr lvl="1" marL="6908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 1.00234 0 2 cbr 210 ------- 0 0.0 3.1 0 0</a:t>
            </a:r>
            <a:endParaRPr b="0" lang="en-US" sz="1200" spc="-1" strike="noStrike">
              <a:solidFill>
                <a:srgbClr val="000000"/>
              </a:solidFill>
              <a:latin typeface="Times New Roman"/>
            </a:endParaRPr>
          </a:p>
          <a:p>
            <a:pPr lvl="1" marL="6908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ce packets on all links in nam-1 format</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namtrace-all [open test.nam w]</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 after ‘set ns [new Simulat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891FE6-C8E7-4C3F-B7F9-D7757D6791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Network</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d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n0 [$ns nod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n1 [$ns nod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s &amp; Queu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duplex-link $n0 $n1 &lt;bandwidth&gt; &lt;delay&gt; &lt;queue_type&g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queue_type&gt;: DropTail, RED, CBQ, FQ, SFQ, DR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73AE21-38BC-409A-9857-C2EE16B1DC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ing Specific links</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 trace-queue $n0 $n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 namtrace-queue $n0 $n1</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CAD367-5313-4A1F-81BF-F06963AE85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Network: LAN</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make-lan &lt;node_list&gt; &lt;bandwidth&gt; &lt;delay&gt; &lt;ll_type&gt; &lt;ifq_type&gt; &lt;mac_type&gt; &lt;channel_type&g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ll_type&gt;: 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ifq_type&gt;: Queue/DropTai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mac_type&gt;: MAC/802_3</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channel_type&gt;: Channel</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C2B8ED-3C0C-400A-A0B7-C7959355B9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ing routes</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cas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rtproto &lt;type&g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type&gt;: Static, Session, DV, cost, multi-path</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2F3BCF-A8AD-4726-8452-51E113B4E5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Connection: UDP</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D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udp [new Agent/UD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null [new Agent/NU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attach-agent $n0 $ud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attach-agent $n1 $nu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connect $udp $null</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FBB71B-A337-4593-BBAF-708C22AB78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Connection: TCP</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tcp [new Agent/TC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tcpsink [new Agent/TCPSin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attach-agent $n0 $tc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attach-agent $n1 $tcpsin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connect $tcp $tcpsink</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E8394C-5CED-4085-BE65-9641AB6D49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edule: Today</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9.50 overview/intro/essential/getting started</a:t>
            </a:r>
            <a:endParaRPr b="0" lang="en-US" sz="2800" spc="-1" strike="noStrike">
              <a:solidFill>
                <a:srgbClr val="000000"/>
              </a:solidFill>
              <a:latin typeface="Times New Roman"/>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10.50 tcl/otcl/ns-2 fundamentals</a:t>
            </a:r>
            <a:endParaRPr b="0" lang="en-US" sz="2800" spc="-1" strike="noStrike">
              <a:solidFill>
                <a:srgbClr val="000000"/>
              </a:solidFill>
              <a:latin typeface="Times New Roman"/>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11.50 examples - TCP, RED, multicast, web, wireless</a:t>
            </a:r>
            <a:endParaRPr b="0" lang="en-US" sz="2800" spc="-1" strike="noStrike">
              <a:solidFill>
                <a:srgbClr val="000000"/>
              </a:solidFill>
              <a:latin typeface="Times New Roman"/>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unch break</a:t>
            </a:r>
            <a:endParaRPr b="0" lang="en-US" sz="2800" spc="-1" strike="noStrike">
              <a:solidFill>
                <a:srgbClr val="000000"/>
              </a:solidFill>
              <a:latin typeface="Times New Roman"/>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0-2.20 lab 1 setup/running examples</a:t>
            </a:r>
            <a:endParaRPr b="0" lang="en-US" sz="2800" spc="-1" strike="noStrike">
              <a:solidFill>
                <a:srgbClr val="000000"/>
              </a:solidFill>
              <a:latin typeface="Times New Roman"/>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0-3.20 lab 2 tcl/otcl exercises</a:t>
            </a:r>
            <a:endParaRPr b="0" lang="en-US" sz="2800" spc="-1" strike="noStrike">
              <a:solidFill>
                <a:srgbClr val="000000"/>
              </a:solidFill>
              <a:latin typeface="Times New Roman"/>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0-4.20 lab 3 simple ns-2 exercise</a:t>
            </a:r>
            <a:endParaRPr b="0" lang="en-US" sz="2800" spc="-1" strike="noStrike">
              <a:solidFill>
                <a:srgbClr val="000000"/>
              </a:solidFill>
              <a:latin typeface="Times New Roman"/>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30-5.00 discussion/feedback</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D95DFC-0E10-44D3-B8FE-B1F0A66362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Traffic: On Top of TCP</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T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ftp [new Application/FT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tp attach-agent $tc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at &lt;time&gt; “$ftp star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ne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telnet [new Application/Telne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net attach-agent $tcp</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A29C7B-AE20-4C7A-879D-D5314EC2F2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Traffic: On Top of UDP</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B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src [new Application/Traffic/CB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onential or Pareto on-off</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src [new Application/Traffic/Exponenti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src [new Application/Traffic/Paret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965B45-8A05-4E99-AD35-BEDC7CC9C5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Traffic: Trace Driven</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ce driven</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tfile [new Tracefile]</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file filename &lt;file&gt;</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src [new Application/Traffic/Trace]</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rc attach-tracefile $tfile</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file&gt;:</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nary format</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acket time (msec) and packet size (byt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671A18-5F90-4CD2-A07A-A1AB9819CF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erting Errors</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Error Modu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loss_module [new ErrorMod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s_module set rate_ 0.0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s_module unit pk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s_module ranvar [new RandomVariable/Unifor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s_module drop-target [new Agent/Nul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ing Error Modu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lossmodel $loss_module $n0 $n1</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6586AF-A505-43C1-94CC-1240F34EC1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Dynamics</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 failu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e changes reflected automatical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emulate node failur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25012A-02A2-4598-AB7A-FA7152856D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Models</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 rtmodel-at &lt;time&gt; &lt;up|down&gt; $n0 $n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 rtmodel Trace &lt;config_file&gt; $n0 $n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 rtmodel &lt;model&gt; &lt;params&gt; $n0 $n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model&gt;: Deterministic, Exponenti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params&gt;: [&lt;start&gt;] &lt;up_interval&gt; &lt;down_interval&gt; [&lt;finish&g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44A8CE-0D62-49CC-86CD-33B5BC5EC6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s</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ting Star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damental tcl, otcl and ns-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se Studies - TCP, web traffic, R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091495-55C1-4BE1-A42E-7DDC2ED314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ies</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tcp.tc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web.tcl &amp; dumbbell.tc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uing - RED (red.tc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CE3322-9820-426A-B6C1-9DA45F08E1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Visualization Tools</a:t>
            </a: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nam-1 (Network AniMator Version 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xgraph</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4F4C26-E5D7-4B2E-AA59-75E106C772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ns-2: Special Topics</a:t>
            </a: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suppo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level suppo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suppor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8D5B44-2AFD-4150-A89B-91076DD064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edule: Tomorrow</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9.50 recap/wired internal</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10.50 wireless internal/making changes</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11.50 extending ns-2/case studies</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unch break</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0-2.20 lab 4 intermediate ns-2 exercise</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0-3.20 lab 5 getting data you want</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0-4.20 lab 6 advanced topic (TBD)</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30-5.00 discussion/feedback</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4ACC4C-5CE8-4E7D-A8A3-C88C6B64BCC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cast - 5 components</a:t>
            </a: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able multicast cap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gure multicast rou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 multicast group/sen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 multicast recei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h traffic sour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9C15A9-81B1-4517-B564-4CB34C5734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multicast capability</a:t>
            </a: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ns [new Simulator -multicast 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 $ns multicast (right after [new Simulat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864481-0503-48C8-96A3-A7D6B7189D9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iguring multicast routing</a:t>
            </a: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 mrtproto &lt;type&g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type&gt;: CtrMcast, DM, ST, BS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DC03BA-ED2D-4DCB-AD7E-6AE7A611B2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a multicast group</a:t>
            </a: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udp [new Agent/UD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 attach-agent $n0 $ud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group [Node allocadd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dp set dst_addr_ $group</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9D3186-6FC1-4F45-9695-D4D9ECD73F5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a multicast receiver</a:t>
            </a: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rcvr [new Agent/NU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 attach-agent $n1 $rcv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 at &lt;time&gt; “$n1 join-group $rcvr $group”</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EDD954-6CA2-4DE6-8384-D92FE72932B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taching a traffic source</a:t>
            </a: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cbr [new Application/Traffic/CB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br attach-agent $udp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 at &lt;time&gt; “$cbr star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FF6344-5EE4-4229-BF0E-D3F62B6652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 - 2 components</a:t>
            </a: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way TC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TcpApp</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D23381-9355-41E4-A512-0DB00B12341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 Two-way TCP</a:t>
            </a: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llTcp connec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tcp1 [new Agent/TCP/FullTc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tcp2 [new Agent/TCP/FullTc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attach-agent $n1 $tcp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attach-agent $n2 $tcp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connect $tcp1 $tcp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p2 liste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7CD637-E82D-44D6-ABB5-DB14BFA854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 TcpApp</a:t>
            </a: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data transf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app1 [new Application/TcpApp $tcp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app2 [new Application/TcpApp $tcp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1 connect $app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at 1.0 “$app1 send &lt;data_byte&gt; \”&lt;ns-2 command&g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ns-2 command&gt;: will be executed when received at the receiver TcpApp</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926383-D73B-453F-B739-5CE1B22CAD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 5 components</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de configur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yer 3-2, layer 1, tracing, energ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de coordin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de mov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 trac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C73DB0-BE4E-4C6D-A408-BA4204E5ED7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This Morning</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tion</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ject, the software, the philosophy</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ftware architectur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llation and getting started</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l/otcl/ns-2 fundamental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ing tcl/otcl</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ing ns-2 simulation scripts</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script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P, web traffic, RED, multicast, wireles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0F8CAC-ADB5-4DAA-A1F6-C1019056D77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up</a:t>
            </a: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ns [new Simula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topo [new Topograp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o load_flatgrid &lt;length&gt; &lt;width&g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E7E837-D208-4515-A133-B720B6C872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de Configuration: Layer 3-2</a:t>
            </a: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 node-config </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hocRouting &lt;adhoc routing type&gt; </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lType LL </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qType Queue/DropTail/PriQueue </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qLen &lt;queue length&gt; </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Type Mac/802_11 </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adhoc routing type&gt;: DSDV, DSR, TORA, AODV</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5F5141-3DC1-499F-A87F-0552EB9F992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de Configuring: Layer 1</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 node-config </a:t>
            </a:r>
            <a:endParaRPr b="0" lang="en-US" sz="32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Type Phy/WirelessPhy </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Type Antenna/OmniAntenna </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Type &lt;propagation model&gt; </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nelType Channel/WirelessChannel </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oInstance $topo </a:t>
            </a:r>
            <a:endParaRPr b="0" lang="en-US" sz="28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propagation model&gt;: Propagation/TwoRayGround, Propagation/FrissSpaceAttenua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451AC0-3FBA-455F-BD13-D93BA13EF3F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de Configuration: Tracing</a:t>
            </a: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 node-config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tTrace &lt;ON or OFF&g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erTrace &lt;ON or OFF&g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Trace &lt;ON or OFF&g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80DB69-F4EF-4752-8447-91827DD016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de Configuration: Energy</a:t>
            </a:r>
            <a:endParaRPr b="0" lang="en-US" sz="4400" spc="-1" strike="noStrike">
              <a:solidFill>
                <a:srgbClr val="0000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 node-confi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ergyModel EnergyMod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Energy &lt;total energy&g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xPower &lt;energy to transmit&g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xPower &lt;energy to receive&g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A29658-8EAA-4A14-B0FD-BD5CF1A2774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Nodes</a:t>
            </a: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mnode [$ns nod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FC25E4-4C4D-44C4-B584-C8594C8A39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de Coordinates</a:t>
            </a: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node set X_ &lt;x&g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node set Y_ &lt;y&g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node set Z_ 0</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DE0CDA-B1AE-4A24-AD23-0B59B6B23EF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de Movement</a:t>
            </a:r>
            <a:endParaRPr b="0" lang="en-US" sz="4400" spc="-1" strike="noStrike">
              <a:solidFill>
                <a:srgbClr val="000000"/>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ble random mo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node random-motion 0</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at 1.0 “$mnode setdest &lt;x&gt; &lt;y&gt; &lt;speed&g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do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at 1.0 “$mnode star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3BC64B-938F-4B42-8C42-D0ACF3E980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ing</a:t>
            </a: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beginn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namtrace-all-wireless [open test.nam w] &lt;length&gt; &lt;width&g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ize nod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initial_node_position $mnode 20</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en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at &lt;end time&gt; “$ns nam-end-wireless &lt;end time&g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8AED64-6511-44CC-937A-C7FCD111A3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ies</a:t>
            </a: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mcast.tc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wireless-udp.tcl, wireless-tcp.tc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67B90A-CA01-4113-A17F-390046F482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VINT Project</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InterNet Testb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mmon platform for network resear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 on multi-protocol interactions and sca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netweb.usc.edu/vin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up projec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AN: scenario and performa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ER: educational us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7E5AA8-0DC8-4F70-9BEC-138566D2340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ns-2: Not Covered</a:t>
            </a: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bile 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telli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Serv</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ula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7E4860-9D66-4FED-A882-76FB05B0550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Lab Exercises</a:t>
            </a: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Bookmark</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http://www.tik.ee.ethz.ch/~huang/ns-tutorial/ftw-tutorial.htm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Setu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work under these 1/ 2/,...20/</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exec nam -a out.na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DBBAAE-AA50-477F-8163-17A639269FF9}" type="slidenum">
              <a:t>71</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state collaboration</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amp;T Researc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rence Berkeley National Laborato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C Berkele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C/IS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erox PAR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H TIK</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F72483-6955-49CB-AA77-30FFE2CF93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NT People</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leads and co-PI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e Breslau (AT&amp;T Labs-Resear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borah Estrin (USC/IS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vin Fall (UC Berkele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lly Floyd (AT&amp;T/ACIR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 Handley (AT&amp;T/ACIR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hn Heidemann (USC/IS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ott Shenker (AT&amp;T/ACIRI)</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duate students and staff member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CBAB7F-72BA-4882-B425-7E4DE596EC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8T17:31:36Z</dcterms:created>
  <dc:creator>Polly Huang</dc:creator>
  <dc:description/>
  <dc:language>en-US</dc:language>
  <cp:lastModifiedBy>k000afda</cp:lastModifiedBy>
  <cp:lastPrinted>2000-02-29T15:29:00Z</cp:lastPrinted>
  <dcterms:modified xsi:type="dcterms:W3CDTF">2001-04-18T11:53:47Z</dcterms:modified>
  <cp:revision>949</cp:revision>
  <dc:subject/>
  <dc:title>Beginning ns-2</dc:title>
</cp:coreProperties>
</file>