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D2CE-C164-4320-BEDC-75CC1FE7C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3748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821040"/>
            <a:ext cx="863748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E5B5-F2EA-4FC3-8F76-32336FF1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21488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0400" y="1371600"/>
            <a:ext cx="421488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821040"/>
            <a:ext cx="421488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30400" y="3821040"/>
            <a:ext cx="421488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A301-E73D-4741-B785-5FD915FB2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278100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880" y="1371600"/>
            <a:ext cx="278100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5560" y="1371600"/>
            <a:ext cx="278100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821040"/>
            <a:ext cx="278100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880" y="3821040"/>
            <a:ext cx="278100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5560" y="3821040"/>
            <a:ext cx="278100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6B57-B305-4DA0-9827-3E5D18460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80F2-0000-4D2A-A27E-9694054CE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04560" y="1371600"/>
            <a:ext cx="8637480" cy="46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4469-61DB-4F8D-9111-D2F56554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3748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729D-FDDC-4F55-8953-14F6B5A3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21488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0400" y="1371600"/>
            <a:ext cx="421488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F6AB-BE49-45EE-B487-166A14E5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258C-D434-457E-B5B8-A5982442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534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2DB4C-9680-4794-B8E7-56460A0D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21488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30400" y="1371600"/>
            <a:ext cx="421488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04560" y="3821040"/>
            <a:ext cx="421488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407E-FC5F-44C0-A4BC-F277BA39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371600"/>
            <a:ext cx="8637480" cy="46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9C54-108E-4600-8E63-069E5859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21488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30400" y="1371600"/>
            <a:ext cx="421488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730400" y="3821040"/>
            <a:ext cx="421488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36D3-4D4E-4FA4-9E19-141C8462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21488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30400" y="1371600"/>
            <a:ext cx="421488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560" y="3821040"/>
            <a:ext cx="863748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0569-202F-4D26-B747-296D799C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3748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04560" y="3821040"/>
            <a:ext cx="863748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FF41-A281-4AAD-93D6-99382AE2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21488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30400" y="1371600"/>
            <a:ext cx="421488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04560" y="3821040"/>
            <a:ext cx="421488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730400" y="3821040"/>
            <a:ext cx="421488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4F11-964E-48A2-9C2B-B34CE0A02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278100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24880" y="1371600"/>
            <a:ext cx="278100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45560" y="1371600"/>
            <a:ext cx="278100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304560" y="3821040"/>
            <a:ext cx="278100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24880" y="3821040"/>
            <a:ext cx="278100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145560" y="3821040"/>
            <a:ext cx="278100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B2EA-8C09-45E4-8F40-74CD19AAF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3748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9A91-B2D0-4EEE-B11A-D7618D96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21488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30400" y="1371600"/>
            <a:ext cx="421488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3633-42C6-46D3-9C91-9EA3C49F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3F64-0165-44B0-8C4C-EB5B1ABD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534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F835-8C50-4156-9B81-2F85E3AC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21488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0400" y="1371600"/>
            <a:ext cx="421488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821040"/>
            <a:ext cx="421488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BCA0-6FFB-48CC-BCE7-EB3531BB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21488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0400" y="1371600"/>
            <a:ext cx="421488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30400" y="3821040"/>
            <a:ext cx="421488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B7CE-5A18-4EAC-BB7E-798A7434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21488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0400" y="1371600"/>
            <a:ext cx="421488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821040"/>
            <a:ext cx="863748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E232-D95B-4FF8-B51B-5B9516C6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6CAA-2B91-4977-8430-118D0BABED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304560" y="1371600"/>
            <a:ext cx="863748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 algn="ctr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44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7565-6E78-4099-AD34-55523A3FF7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12952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Lucida Handwriting"/>
                <a:ea typeface="Times New Roman"/>
              </a:rPr>
              <a:t>Empat</a:t>
            </a:r>
            <a:r>
              <a:rPr b="0" lang="en-US" sz="4400" spc="-1" strike="noStrike">
                <a:solidFill>
                  <a:srgbClr val="00ffff"/>
                </a:solidFill>
                <a:latin typeface="Lucida Handwriting"/>
                <a:ea typeface="Times New Roman"/>
              </a:rPr>
              <a:t>  Tipe  </a:t>
            </a:r>
            <a:r>
              <a:rPr b="0" lang="en-US" sz="4400" spc="-1" strike="noStrike">
                <a:solidFill>
                  <a:srgbClr val="ff3300"/>
                </a:solidFill>
                <a:latin typeface="Lucida Handwriting"/>
                <a:ea typeface="Times New Roman"/>
              </a:rPr>
              <a:t>Orang Tua</a:t>
            </a:r>
            <a:r>
              <a:rPr b="0" lang="en-US" sz="4400" spc="-1" strike="noStrike">
                <a:solidFill>
                  <a:srgbClr val="00ffff"/>
                </a:solidFill>
                <a:latin typeface="Lucida Handwriting"/>
                <a:ea typeface="Times New Roman"/>
              </a:rPr>
              <a:t> dalam Perspektif  </a:t>
            </a:r>
            <a:r>
              <a:rPr b="0" lang="en-US" sz="4400" spc="-1" strike="noStrike">
                <a:solidFill>
                  <a:srgbClr val="ccff99"/>
                </a:solidFill>
                <a:latin typeface="Lucida Handwriting"/>
                <a:ea typeface="Times New Roman"/>
              </a:rPr>
              <a:t>Pendidikan  EMOSIONAL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3200400"/>
            <a:ext cx="79246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engembangan  Emosion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3748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model%20%20trustco,%20bulat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238880" cy="6172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3748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5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“  </a:t>
            </a:r>
            <a:r>
              <a:rPr b="1" lang="id-ID" sz="5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Yaa Allah, jadikanlah  anak dan istriku  sebagai  penyejuk  hatiku   “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5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( Al Quran )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ertama </a:t>
            </a:r>
            <a:br>
              <a:rPr sz="3600"/>
            </a:b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ORANG  TUA  YANG MENGABAIKAN</a:t>
            </a:r>
            <a:br>
              <a:rPr sz="3600"/>
            </a:br>
            <a:r>
              <a:rPr b="1" lang="id-ID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ALAM  PENDIDIKAN EMOSIONAL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960" y="2320560"/>
            <a:ext cx="8637480" cy="31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aitu  orang tua yang mengabaikan , yang tidak menghiraukan , menganggap sepi, atau meremehkan  emosi-emosi negatif anak merek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3748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3748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3748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3748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3748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3T13:50:22Z</dcterms:created>
  <dc:creator>Litbang</dc:creator>
  <dc:description/>
  <dc:language>en-US</dc:language>
  <cp:lastModifiedBy>Litbang</cp:lastModifiedBy>
  <dcterms:modified xsi:type="dcterms:W3CDTF">2016-11-23T15:07:48Z</dcterms:modified>
  <cp:revision>13</cp:revision>
  <dc:subject/>
  <dc:title>PowerPoint Presentation</dc:title>
</cp:coreProperties>
</file>