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7F6-3326-43E1-9111-14788E05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A74-0500-4A46-8DC0-A9D3C1F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698-DA58-4AAD-B91F-5F215DCB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88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88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936-F550-4E49-AA8D-3E92DAC2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E09-7734-40F2-8E9E-33E908E2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A572-8076-4475-8911-8E087598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F4B-7006-4064-BDE8-2FBA6053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4E5D-9D6A-4479-8F4D-D6F44BC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9E4-0586-47FF-8398-7598DFC9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CCA-AD2A-4D63-A719-79D59EB2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4B2-CD18-4212-8911-D7E047BC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CEC-E686-4846-B3AD-13EA58F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50F1-0A85-4E8A-97CA-4393F49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B4B3-1CAB-4DAD-B5E4-FD50592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0AB-22EF-435F-8F8E-4D7F1EB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1C6-7237-40A6-908C-24700D9A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2488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45560" y="137160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04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2488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45560" y="3821040"/>
            <a:ext cx="278100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9D9D-E7E5-4A0B-AAD8-78725587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818-49D2-4DFA-90B9-0AF21225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6C9-70B7-429B-B20E-F6FAAB46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58E-1F5A-48F1-AD4D-54B503E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534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7CC-37AC-462E-B10A-409FD2F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256-9B03-43FE-A7AB-FB0B64B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82104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F1A-6709-45B1-8EBE-DA83D6E4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371600"/>
            <a:ext cx="42148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21040"/>
            <a:ext cx="863748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0B7-0184-4A64-9E43-C87E265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81F-DFFF-42A9-B957-8A34DDC32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1A7-AB3F-4290-BD53-3379F0385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295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Lucida Handwriting"/>
                <a:ea typeface="Times New Roman"/>
              </a:rPr>
              <a:t>Empat</a:t>
            </a:r>
            <a:r>
              <a:rPr b="0" lang="en-US" sz="4400" spc="-1" strike="noStrike">
                <a:solidFill>
                  <a:srgbClr val="00ffff"/>
                </a:solidFill>
                <a:latin typeface="Lucida Handwriting"/>
                <a:ea typeface="Times New Roman"/>
              </a:rPr>
              <a:t>  Tipe  </a:t>
            </a:r>
            <a:r>
              <a:rPr b="0" lang="en-US" sz="4400" spc="-1" strike="noStrike">
                <a:solidFill>
                  <a:srgbClr val="ff3300"/>
                </a:solidFill>
                <a:latin typeface="Lucida Handwriting"/>
                <a:ea typeface="Times New Roman"/>
              </a:rPr>
              <a:t>Orang Tua</a:t>
            </a:r>
            <a:r>
              <a:rPr b="0" lang="en-US" sz="4400" spc="-1" strike="noStrike">
                <a:solidFill>
                  <a:srgbClr val="00ffff"/>
                </a:solidFill>
                <a:latin typeface="Lucida Handwriting"/>
                <a:ea typeface="Times New Roman"/>
              </a:rPr>
              <a:t> dalam Perspektif  </a:t>
            </a:r>
            <a:r>
              <a:rPr b="0" lang="en-US" sz="4400" spc="-1" strike="noStrike">
                <a:solidFill>
                  <a:srgbClr val="ccff99"/>
                </a:solidFill>
                <a:latin typeface="Lucida Handwriting"/>
                <a:ea typeface="Times New Roman"/>
              </a:rPr>
              <a:t>Pendidikan  EMOSIONAL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3200400"/>
            <a:ext cx="7924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ngembangan  Emos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model%20%20trustco,%20bulat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“  </a:t>
            </a: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Yaa Allah, jadikanlah  anak dan istriku  sebagai  penyejuk  hatiku   “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( Al Quran 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rtama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ANG  TUA  YANG MENGABAIKAN</a:t>
            </a:r>
            <a:br>
              <a:rPr sz="3600"/>
            </a:br>
            <a:r>
              <a:rPr b="1" lang="id-ID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ALAM  PENDIDIKAN EMOSION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2320560"/>
            <a:ext cx="863748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itu  orang tua yang mengabaikan , yang tidak menghiraukan , menganggap sepi, atau meremehkan  emosi-emosi negatif anak merek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37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3:50:22Z</dcterms:created>
  <dc:creator>Litbang</dc:creator>
  <dc:description/>
  <dc:language>en-US</dc:language>
  <cp:lastModifiedBy>Litbang</cp:lastModifiedBy>
  <dcterms:modified xsi:type="dcterms:W3CDTF">2016-11-23T15:07:48Z</dcterms:modified>
  <cp:revision>13</cp:revision>
  <dc:subject/>
  <dc:title>PowerPoint Presentation</dc:title>
</cp:coreProperties>
</file>