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AE2-BDA9-46AF-8A3C-5844FAB4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0DA-17CD-472B-962F-85ADFEEE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97D-7370-4D70-8AC4-4DF256FD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CED4-1723-4AF2-AE29-4390FC3E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6A1-D393-4127-8608-23B6FE86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DB18-6E3D-46D7-8C42-797D42E9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DE1-2EFF-4E0E-8D94-E1DECB7A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62D-5449-4912-94DF-C777F84E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9B9-AF87-4E26-A80D-64EEE5D5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F94-8D07-4265-A64E-D26FF9A1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DC01-3B52-45FD-B0DD-1870EF3B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E65-5E9E-4427-9581-D1E825C6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7B0D-AEF3-4D8A-BE5C-A7574C052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2201760" y="1347840"/>
            <a:ext cx="5494320" cy="442800"/>
          </a:xfrm>
          <a:custGeom>
            <a:avLst/>
            <a:gdLst>
              <a:gd name="textAreaLeft" fmla="*/ 28440 w 5494320"/>
              <a:gd name="textAreaRight" fmla="*/ 5465880 w 5494320"/>
              <a:gd name="textAreaTop" fmla="*/ 28440 h 442800"/>
              <a:gd name="textAreaBottom" fmla="*/ 414360 h 442800"/>
            </a:gdLst>
            <a:ahLst/>
            <a:rect l="textAreaLeft" t="textAreaTop" r="textAreaRight" b="textAreaBottom"/>
            <a:pathLst>
              <a:path w="267815" h="21600">
                <a:moveTo>
                  <a:pt x="0" y="0"/>
                </a:moveTo>
                <a:lnTo>
                  <a:pt x="267815" y="0"/>
                </a:lnTo>
                <a:lnTo>
                  <a:pt x="267815" y="21600"/>
                </a:lnTo>
                <a:lnTo>
                  <a:pt x="0" y="21600"/>
                </a:lnTo>
                <a:close/>
              </a:path>
              <a:path fill="lightenLess" w="267815" h="21600">
                <a:moveTo>
                  <a:pt x="0" y="0"/>
                </a:moveTo>
                <a:lnTo>
                  <a:pt x="267815" y="0"/>
                </a:lnTo>
                <a:lnTo>
                  <a:pt x="266415" y="1400"/>
                </a:lnTo>
                <a:lnTo>
                  <a:pt x="1400" y="1400"/>
                </a:lnTo>
                <a:close/>
              </a:path>
              <a:path fill="darken" w="267815" h="21600">
                <a:moveTo>
                  <a:pt x="267815" y="0"/>
                </a:moveTo>
                <a:lnTo>
                  <a:pt x="267815" y="21600"/>
                </a:lnTo>
                <a:lnTo>
                  <a:pt x="266415" y="20200"/>
                </a:lnTo>
                <a:lnTo>
                  <a:pt x="266415" y="1400"/>
                </a:lnTo>
                <a:close/>
              </a:path>
              <a:path fill="darkenLess" w="267815" h="21600">
                <a:moveTo>
                  <a:pt x="267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415" y="20200"/>
                </a:lnTo>
                <a:close/>
              </a:path>
              <a:path fill="lighten" w="267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ying So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86080" y="4202280"/>
            <a:ext cx="2529000" cy="442800"/>
          </a:xfrm>
          <a:custGeom>
            <a:avLst/>
            <a:gdLst>
              <a:gd name="textAreaLeft" fmla="*/ 28440 w 2529000"/>
              <a:gd name="textAreaRight" fmla="*/ 2500560 w 2529000"/>
              <a:gd name="textAreaTop" fmla="*/ 28440 h 442800"/>
              <a:gd name="textAreaBottom" fmla="*/ 414360 h 442800"/>
            </a:gdLst>
            <a:ahLst/>
            <a:rect l="textAreaLeft" t="textAreaTop" r="textAreaRight" b="textAreaBottom"/>
            <a:pathLst>
              <a:path w="123283" h="21600">
                <a:moveTo>
                  <a:pt x="0" y="0"/>
                </a:moveTo>
                <a:lnTo>
                  <a:pt x="123283" y="0"/>
                </a:lnTo>
                <a:lnTo>
                  <a:pt x="123283" y="21600"/>
                </a:lnTo>
                <a:lnTo>
                  <a:pt x="0" y="21600"/>
                </a:lnTo>
                <a:close/>
              </a:path>
              <a:path fill="lightenLess" w="123283" h="21600">
                <a:moveTo>
                  <a:pt x="0" y="0"/>
                </a:moveTo>
                <a:lnTo>
                  <a:pt x="123283" y="0"/>
                </a:lnTo>
                <a:lnTo>
                  <a:pt x="121883" y="1400"/>
                </a:lnTo>
                <a:lnTo>
                  <a:pt x="1400" y="1400"/>
                </a:lnTo>
                <a:close/>
              </a:path>
              <a:path fill="darken" w="123283" h="21600">
                <a:moveTo>
                  <a:pt x="123283" y="0"/>
                </a:moveTo>
                <a:lnTo>
                  <a:pt x="123283" y="21600"/>
                </a:lnTo>
                <a:lnTo>
                  <a:pt x="121883" y="20200"/>
                </a:lnTo>
                <a:lnTo>
                  <a:pt x="121883" y="1400"/>
                </a:lnTo>
                <a:close/>
              </a:path>
              <a:path fill="darkenLess" w="123283" h="21600">
                <a:moveTo>
                  <a:pt x="123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883" y="20200"/>
                </a:lnTo>
                <a:close/>
              </a:path>
              <a:path fill="lighten" w="123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PROBLE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30640" y="4202280"/>
            <a:ext cx="2529000" cy="442800"/>
          </a:xfrm>
          <a:custGeom>
            <a:avLst/>
            <a:gdLst>
              <a:gd name="textAreaLeft" fmla="*/ 28440 w 2529000"/>
              <a:gd name="textAreaRight" fmla="*/ 2500560 w 2529000"/>
              <a:gd name="textAreaTop" fmla="*/ 28440 h 442800"/>
              <a:gd name="textAreaBottom" fmla="*/ 414360 h 442800"/>
            </a:gdLst>
            <a:ahLst/>
            <a:rect l="textAreaLeft" t="textAreaTop" r="textAreaRight" b="textAreaBottom"/>
            <a:pathLst>
              <a:path w="123283" h="21600">
                <a:moveTo>
                  <a:pt x="0" y="0"/>
                </a:moveTo>
                <a:lnTo>
                  <a:pt x="123283" y="0"/>
                </a:lnTo>
                <a:lnTo>
                  <a:pt x="123283" y="21600"/>
                </a:lnTo>
                <a:lnTo>
                  <a:pt x="0" y="21600"/>
                </a:lnTo>
                <a:close/>
              </a:path>
              <a:path fill="lightenLess" w="123283" h="21600">
                <a:moveTo>
                  <a:pt x="0" y="0"/>
                </a:moveTo>
                <a:lnTo>
                  <a:pt x="123283" y="0"/>
                </a:lnTo>
                <a:lnTo>
                  <a:pt x="121883" y="1400"/>
                </a:lnTo>
                <a:lnTo>
                  <a:pt x="1400" y="1400"/>
                </a:lnTo>
                <a:close/>
              </a:path>
              <a:path fill="darken" w="123283" h="21600">
                <a:moveTo>
                  <a:pt x="123283" y="0"/>
                </a:moveTo>
                <a:lnTo>
                  <a:pt x="123283" y="21600"/>
                </a:lnTo>
                <a:lnTo>
                  <a:pt x="121883" y="20200"/>
                </a:lnTo>
                <a:lnTo>
                  <a:pt x="121883" y="1400"/>
                </a:lnTo>
                <a:close/>
              </a:path>
              <a:path fill="darkenLess" w="123283" h="21600">
                <a:moveTo>
                  <a:pt x="123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883" y="20200"/>
                </a:lnTo>
                <a:close/>
              </a:path>
              <a:path fill="lighten" w="123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PROBLE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01760" y="1919160"/>
            <a:ext cx="5494320" cy="443160"/>
          </a:xfrm>
          <a:custGeom>
            <a:avLst/>
            <a:gdLst>
              <a:gd name="textAreaLeft" fmla="*/ 28440 w 5494320"/>
              <a:gd name="textAreaRight" fmla="*/ 5465880 w 5494320"/>
              <a:gd name="textAreaTop" fmla="*/ 28440 h 443160"/>
              <a:gd name="textAreaBottom" fmla="*/ 414720 h 443160"/>
            </a:gdLst>
            <a:ahLst/>
            <a:rect l="textAreaLeft" t="textAreaTop" r="textAreaRight" b="textAreaBottom"/>
            <a:pathLst>
              <a:path w="267598" h="21600">
                <a:moveTo>
                  <a:pt x="0" y="0"/>
                </a:moveTo>
                <a:lnTo>
                  <a:pt x="267598" y="0"/>
                </a:lnTo>
                <a:lnTo>
                  <a:pt x="267598" y="21600"/>
                </a:lnTo>
                <a:lnTo>
                  <a:pt x="0" y="21600"/>
                </a:lnTo>
                <a:close/>
              </a:path>
              <a:path fill="lightenLess" w="267598" h="21600">
                <a:moveTo>
                  <a:pt x="0" y="0"/>
                </a:moveTo>
                <a:lnTo>
                  <a:pt x="267598" y="0"/>
                </a:lnTo>
                <a:lnTo>
                  <a:pt x="266198" y="1400"/>
                </a:lnTo>
                <a:lnTo>
                  <a:pt x="1400" y="1400"/>
                </a:lnTo>
                <a:close/>
              </a:path>
              <a:path fill="darken" w="267598" h="21600">
                <a:moveTo>
                  <a:pt x="267598" y="0"/>
                </a:moveTo>
                <a:lnTo>
                  <a:pt x="267598" y="21600"/>
                </a:lnTo>
                <a:lnTo>
                  <a:pt x="266198" y="20200"/>
                </a:lnTo>
                <a:lnTo>
                  <a:pt x="266198" y="1400"/>
                </a:lnTo>
                <a:close/>
              </a:path>
              <a:path fill="darkenLess" w="267598" h="21600">
                <a:moveTo>
                  <a:pt x="267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198" y="20200"/>
                </a:lnTo>
                <a:close/>
              </a:path>
              <a:path fill="lighten" w="267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ying Pyram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14720" y="2495520"/>
            <a:ext cx="5494320" cy="442800"/>
          </a:xfrm>
          <a:custGeom>
            <a:avLst/>
            <a:gdLst>
              <a:gd name="textAreaLeft" fmla="*/ 28440 w 5494320"/>
              <a:gd name="textAreaRight" fmla="*/ 5465880 w 5494320"/>
              <a:gd name="textAreaTop" fmla="*/ 28440 h 442800"/>
              <a:gd name="textAreaBottom" fmla="*/ 414360 h 442800"/>
            </a:gdLst>
            <a:ahLst/>
            <a:rect l="textAreaLeft" t="textAreaTop" r="textAreaRight" b="textAreaBottom"/>
            <a:pathLst>
              <a:path w="267815" h="21600">
                <a:moveTo>
                  <a:pt x="0" y="0"/>
                </a:moveTo>
                <a:lnTo>
                  <a:pt x="267815" y="0"/>
                </a:lnTo>
                <a:lnTo>
                  <a:pt x="267815" y="21600"/>
                </a:lnTo>
                <a:lnTo>
                  <a:pt x="0" y="21600"/>
                </a:lnTo>
                <a:close/>
              </a:path>
              <a:path fill="lightenLess" w="267815" h="21600">
                <a:moveTo>
                  <a:pt x="0" y="0"/>
                </a:moveTo>
                <a:lnTo>
                  <a:pt x="267815" y="0"/>
                </a:lnTo>
                <a:lnTo>
                  <a:pt x="266415" y="1400"/>
                </a:lnTo>
                <a:lnTo>
                  <a:pt x="1400" y="1400"/>
                </a:lnTo>
                <a:close/>
              </a:path>
              <a:path fill="darken" w="267815" h="21600">
                <a:moveTo>
                  <a:pt x="267815" y="0"/>
                </a:moveTo>
                <a:lnTo>
                  <a:pt x="267815" y="21600"/>
                </a:lnTo>
                <a:lnTo>
                  <a:pt x="266415" y="20200"/>
                </a:lnTo>
                <a:lnTo>
                  <a:pt x="266415" y="1400"/>
                </a:lnTo>
                <a:close/>
              </a:path>
              <a:path fill="darkenLess" w="267815" h="21600">
                <a:moveTo>
                  <a:pt x="267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415" y="20200"/>
                </a:lnTo>
                <a:close/>
              </a:path>
              <a:path fill="lighten" w="267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rface Area of Pyram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12920" y="3071880"/>
            <a:ext cx="5494320" cy="442800"/>
          </a:xfrm>
          <a:custGeom>
            <a:avLst/>
            <a:gdLst>
              <a:gd name="textAreaLeft" fmla="*/ 28440 w 5494320"/>
              <a:gd name="textAreaRight" fmla="*/ 5465880 w 5494320"/>
              <a:gd name="textAreaTop" fmla="*/ 28440 h 442800"/>
              <a:gd name="textAreaBottom" fmla="*/ 414360 h 442800"/>
            </a:gdLst>
            <a:ahLst/>
            <a:rect l="textAreaLeft" t="textAreaTop" r="textAreaRight" b="textAreaBottom"/>
            <a:pathLst>
              <a:path w="267815" h="21600">
                <a:moveTo>
                  <a:pt x="0" y="0"/>
                </a:moveTo>
                <a:lnTo>
                  <a:pt x="267815" y="0"/>
                </a:lnTo>
                <a:lnTo>
                  <a:pt x="267815" y="21600"/>
                </a:lnTo>
                <a:lnTo>
                  <a:pt x="0" y="21600"/>
                </a:lnTo>
                <a:close/>
              </a:path>
              <a:path fill="lightenLess" w="267815" h="21600">
                <a:moveTo>
                  <a:pt x="0" y="0"/>
                </a:moveTo>
                <a:lnTo>
                  <a:pt x="267815" y="0"/>
                </a:lnTo>
                <a:lnTo>
                  <a:pt x="266415" y="1400"/>
                </a:lnTo>
                <a:lnTo>
                  <a:pt x="1400" y="1400"/>
                </a:lnTo>
                <a:close/>
              </a:path>
              <a:path fill="darken" w="267815" h="21600">
                <a:moveTo>
                  <a:pt x="267815" y="0"/>
                </a:moveTo>
                <a:lnTo>
                  <a:pt x="267815" y="21600"/>
                </a:lnTo>
                <a:lnTo>
                  <a:pt x="266415" y="20200"/>
                </a:lnTo>
                <a:lnTo>
                  <a:pt x="266415" y="1400"/>
                </a:lnTo>
                <a:close/>
              </a:path>
              <a:path fill="darkenLess" w="267815" h="21600">
                <a:moveTo>
                  <a:pt x="267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415" y="20200"/>
                </a:lnTo>
                <a:close/>
              </a:path>
              <a:path fill="lighten" w="267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olume of a Right Pyra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16160" y="3625920"/>
            <a:ext cx="5494320" cy="442800"/>
          </a:xfrm>
          <a:custGeom>
            <a:avLst/>
            <a:gdLst>
              <a:gd name="textAreaLeft" fmla="*/ 28440 w 5494320"/>
              <a:gd name="textAreaRight" fmla="*/ 5465880 w 5494320"/>
              <a:gd name="textAreaTop" fmla="*/ 28440 h 442800"/>
              <a:gd name="textAreaBottom" fmla="*/ 414360 h 442800"/>
            </a:gdLst>
            <a:ahLst/>
            <a:rect l="textAreaLeft" t="textAreaTop" r="textAreaRight" b="textAreaBottom"/>
            <a:pathLst>
              <a:path w="267815" h="21600">
                <a:moveTo>
                  <a:pt x="0" y="0"/>
                </a:moveTo>
                <a:lnTo>
                  <a:pt x="267815" y="0"/>
                </a:lnTo>
                <a:lnTo>
                  <a:pt x="267815" y="21600"/>
                </a:lnTo>
                <a:lnTo>
                  <a:pt x="0" y="21600"/>
                </a:lnTo>
                <a:close/>
              </a:path>
              <a:path fill="lightenLess" w="267815" h="21600">
                <a:moveTo>
                  <a:pt x="0" y="0"/>
                </a:moveTo>
                <a:lnTo>
                  <a:pt x="267815" y="0"/>
                </a:lnTo>
                <a:lnTo>
                  <a:pt x="266415" y="1400"/>
                </a:lnTo>
                <a:lnTo>
                  <a:pt x="1400" y="1400"/>
                </a:lnTo>
                <a:close/>
              </a:path>
              <a:path fill="darken" w="267815" h="21600">
                <a:moveTo>
                  <a:pt x="267815" y="0"/>
                </a:moveTo>
                <a:lnTo>
                  <a:pt x="267815" y="21600"/>
                </a:lnTo>
                <a:lnTo>
                  <a:pt x="266415" y="20200"/>
                </a:lnTo>
                <a:lnTo>
                  <a:pt x="266415" y="1400"/>
                </a:lnTo>
                <a:close/>
              </a:path>
              <a:path fill="darkenLess" w="267815" h="21600">
                <a:moveTo>
                  <a:pt x="267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415" y="20200"/>
                </a:lnTo>
                <a:close/>
              </a:path>
              <a:path fill="lighten" w="267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viewing Peri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7531560" y="6324480"/>
            <a:ext cx="1486800" cy="423000"/>
          </a:xfrm>
          <a:custGeom>
            <a:avLst/>
            <a:gdLst>
              <a:gd name="textAreaLeft" fmla="*/ 27360 w 1486800"/>
              <a:gd name="textAreaRight" fmla="*/ 1459440 w 14868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75876" h="21600">
                <a:moveTo>
                  <a:pt x="0" y="0"/>
                </a:moveTo>
                <a:lnTo>
                  <a:pt x="75876" y="0"/>
                </a:lnTo>
                <a:lnTo>
                  <a:pt x="75876" y="21600"/>
                </a:lnTo>
                <a:lnTo>
                  <a:pt x="0" y="21600"/>
                </a:lnTo>
                <a:close/>
              </a:path>
              <a:path fill="lightenLess" w="75876" h="21600">
                <a:moveTo>
                  <a:pt x="0" y="0"/>
                </a:moveTo>
                <a:lnTo>
                  <a:pt x="75876" y="0"/>
                </a:lnTo>
                <a:lnTo>
                  <a:pt x="74476" y="1400"/>
                </a:lnTo>
                <a:lnTo>
                  <a:pt x="1400" y="1400"/>
                </a:lnTo>
                <a:close/>
              </a:path>
              <a:path fill="darken" w="75876" h="21600">
                <a:moveTo>
                  <a:pt x="75876" y="0"/>
                </a:moveTo>
                <a:lnTo>
                  <a:pt x="75876" y="21600"/>
                </a:lnTo>
                <a:lnTo>
                  <a:pt x="74476" y="20200"/>
                </a:lnTo>
                <a:lnTo>
                  <a:pt x="74476" y="1400"/>
                </a:lnTo>
                <a:close/>
              </a:path>
              <a:path fill="darkenLess" w="75876" h="21600">
                <a:moveTo>
                  <a:pt x="75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476" y="20200"/>
                </a:lnTo>
                <a:close/>
              </a:path>
              <a:path fill="lighten" w="75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 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567-3A18-4B59-905A-38BD318FDD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4560" y="695160"/>
            <a:ext cx="1393200" cy="2765520"/>
            <a:chOff x="2284560" y="695160"/>
            <a:chExt cx="1393200" cy="2765520"/>
          </a:xfrm>
        </p:grpSpPr>
        <p:grpSp>
          <p:nvGrpSpPr>
            <p:cNvPr id="51" name=""/>
            <p:cNvGrpSpPr/>
            <p:nvPr/>
          </p:nvGrpSpPr>
          <p:grpSpPr>
            <a:xfrm>
              <a:off x="2284560" y="695160"/>
              <a:ext cx="1393200" cy="2228400"/>
              <a:chOff x="2284560" y="695160"/>
              <a:chExt cx="1393200" cy="2228400"/>
            </a:xfrm>
          </p:grpSpPr>
          <p:sp>
            <p:nvSpPr>
              <p:cNvPr id="52" name=""/>
              <p:cNvSpPr/>
              <p:nvPr/>
            </p:nvSpPr>
            <p:spPr>
              <a:xfrm>
                <a:off x="2284560" y="695160"/>
                <a:ext cx="1379160" cy="538200"/>
              </a:xfrm>
              <a:prstGeom prst="hexagon">
                <a:avLst>
                  <a:gd name="adj" fmla="val 64064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2292120" y="698040"/>
                <a:ext cx="1374120" cy="2192760"/>
                <a:chOff x="2292120" y="698040"/>
                <a:chExt cx="1374120" cy="2192760"/>
              </a:xfrm>
            </p:grpSpPr>
            <p:sp>
              <p:nvSpPr>
                <p:cNvPr id="54" name=""/>
                <p:cNvSpPr/>
                <p:nvPr/>
              </p:nvSpPr>
              <p:spPr>
                <a:xfrm flipV="1">
                  <a:off x="2292120" y="960120"/>
                  <a:ext cx="0" cy="1694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V="1">
                  <a:off x="2634840" y="1250640"/>
                  <a:ext cx="0" cy="1640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V="1">
                  <a:off x="3315600" y="1245600"/>
                  <a:ext cx="0" cy="1639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V="1">
                  <a:off x="3664800" y="963360"/>
                  <a:ext cx="1440" cy="1720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V="1">
                  <a:off x="2633040" y="698040"/>
                  <a:ext cx="0" cy="1639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>
                  <a:off x="3320640" y="698040"/>
                  <a:ext cx="0" cy="1639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2292120" y="2628720"/>
                <a:ext cx="336240" cy="27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628720" y="2898720"/>
                <a:ext cx="68544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3301920" y="2640960"/>
                <a:ext cx="375840" cy="28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327120" y="2360520"/>
                <a:ext cx="350640" cy="25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628720" y="2373120"/>
                <a:ext cx="6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2292120" y="2360160"/>
                <a:ext cx="348840" cy="28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523960" y="3092400"/>
              <a:ext cx="100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I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725800" y="732960"/>
            <a:ext cx="1760040" cy="2626200"/>
            <a:chOff x="5725800" y="732960"/>
            <a:chExt cx="1760040" cy="2626200"/>
          </a:xfrm>
        </p:grpSpPr>
        <p:grpSp>
          <p:nvGrpSpPr>
            <p:cNvPr id="68" name=""/>
            <p:cNvGrpSpPr/>
            <p:nvPr/>
          </p:nvGrpSpPr>
          <p:grpSpPr>
            <a:xfrm>
              <a:off x="5725800" y="732960"/>
              <a:ext cx="1760040" cy="2130120"/>
              <a:chOff x="5725800" y="732960"/>
              <a:chExt cx="1760040" cy="213012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5725800" y="2268720"/>
                <a:ext cx="1760040" cy="594360"/>
                <a:chOff x="5725800" y="2268720"/>
                <a:chExt cx="1760040" cy="594360"/>
              </a:xfrm>
            </p:grpSpPr>
            <p:sp>
              <p:nvSpPr>
                <p:cNvPr id="70" name=""/>
                <p:cNvSpPr/>
                <p:nvPr/>
              </p:nvSpPr>
              <p:spPr>
                <a:xfrm flipV="1">
                  <a:off x="6088680" y="2859480"/>
                  <a:ext cx="1035720" cy="144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7124760" y="2491560"/>
                  <a:ext cx="361080" cy="37152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flipH="1" flipV="1">
                  <a:off x="5725800" y="2505240"/>
                  <a:ext cx="362520" cy="35748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V="1">
                  <a:off x="5740200" y="2268720"/>
                  <a:ext cx="874440" cy="23652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615000" y="2269080"/>
                  <a:ext cx="842400" cy="22248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>
                <a:off x="6611400" y="762840"/>
                <a:ext cx="0" cy="1514880"/>
              </a:xfrm>
              <a:prstGeom prst="line">
                <a:avLst/>
              </a:prstGeom>
              <a:ln w="2844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5738400" y="748800"/>
                <a:ext cx="888840" cy="17514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flipV="1">
                <a:off x="6613200" y="732960"/>
                <a:ext cx="858600" cy="176724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6087240" y="776880"/>
                <a:ext cx="523800" cy="2079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flipV="1">
                <a:off x="6613560" y="748800"/>
                <a:ext cx="511920" cy="210924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5965920" y="2990880"/>
              <a:ext cx="13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YRA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160640" y="3867120"/>
            <a:ext cx="1465200" cy="2624040"/>
            <a:chOff x="1160640" y="3867120"/>
            <a:chExt cx="1465200" cy="2624040"/>
          </a:xfrm>
        </p:grpSpPr>
        <p:grpSp>
          <p:nvGrpSpPr>
            <p:cNvPr id="82" name=""/>
            <p:cNvGrpSpPr/>
            <p:nvPr/>
          </p:nvGrpSpPr>
          <p:grpSpPr>
            <a:xfrm>
              <a:off x="1227240" y="3867120"/>
              <a:ext cx="1386360" cy="2138400"/>
              <a:chOff x="1227240" y="3867120"/>
              <a:chExt cx="1386360" cy="213840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1227240" y="3867120"/>
                <a:ext cx="1386360" cy="2138400"/>
                <a:chOff x="1227240" y="3867120"/>
                <a:chExt cx="1386360" cy="213840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1227240" y="3867120"/>
                  <a:ext cx="1384200" cy="2138400"/>
                </a:xfrm>
                <a:prstGeom prst="can">
                  <a:avLst>
                    <a:gd name="adj" fmla="val 2500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230480" y="5583240"/>
                  <a:ext cx="1383120" cy="418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26" y="8602"/>
                      </a:moveTo>
                      <a:arcTo wR="10800" hR="10800" stAng="-10095512" swAng="92666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26" y="8602"/>
                      </a:moveTo>
                      <a:arcTo wR="10800" hR="10800" stAng="-10095512" swAng="9266602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>
                <a:off x="1857240" y="5746680"/>
                <a:ext cx="60480" cy="604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859040" y="4092480"/>
                <a:ext cx="60120" cy="604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87480" y="4106880"/>
                <a:ext cx="0" cy="1670040"/>
              </a:xfrm>
              <a:prstGeom prst="line">
                <a:avLst/>
              </a:prstGeom>
              <a:ln w="2844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01880" y="5776920"/>
                <a:ext cx="69516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87480" y="5646600"/>
                <a:ext cx="115920" cy="13032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1160640" y="6122880"/>
              <a:ext cx="14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YLIN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662880" y="4094280"/>
            <a:ext cx="1936440" cy="2355840"/>
            <a:chOff x="6662880" y="4094280"/>
            <a:chExt cx="1936440" cy="2355840"/>
          </a:xfrm>
        </p:grpSpPr>
        <p:sp>
          <p:nvSpPr>
            <p:cNvPr id="93" name=""/>
            <p:cNvSpPr/>
            <p:nvPr/>
          </p:nvSpPr>
          <p:spPr>
            <a:xfrm>
              <a:off x="7056360" y="6081840"/>
              <a:ext cx="117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P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6662880" y="4094280"/>
              <a:ext cx="1936440" cy="1871640"/>
              <a:chOff x="6662880" y="4094280"/>
              <a:chExt cx="1936440" cy="187164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6662880" y="4094280"/>
                <a:ext cx="1936440" cy="1871640"/>
                <a:chOff x="6662880" y="4094280"/>
                <a:chExt cx="1936440" cy="18716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662880" y="4094280"/>
                  <a:ext cx="1930320" cy="18716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rot="10800000">
                  <a:off x="6667920" y="4772520"/>
                  <a:ext cx="1931400" cy="627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26" y="8602"/>
                      </a:moveTo>
                      <a:arcTo wR="10800" hR="10800" stAng="-10095512" swAng="100955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26" y="8602"/>
                      </a:moveTo>
                      <a:arcTo wR="10800" hR="10800" stAng="-10095512" swAng="10095512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682320" y="4826160"/>
                  <a:ext cx="1916280" cy="596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" y="10235"/>
                      </a:moveTo>
                      <a:arcTo wR="10800" hR="10800" stAng="-10620056" swAng="986434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" y="10235"/>
                      </a:moveTo>
                      <a:arcTo wR="10800" hR="10800" stAng="-10620056" swAng="9864340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7589880" y="5049720"/>
                <a:ext cx="60120" cy="604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20120" y="5079960"/>
                <a:ext cx="95724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3680640" y="3862080"/>
            <a:ext cx="1997640" cy="2644920"/>
            <a:chOff x="3680640" y="3862080"/>
            <a:chExt cx="1997640" cy="2644920"/>
          </a:xfrm>
        </p:grpSpPr>
        <p:sp>
          <p:nvSpPr>
            <p:cNvPr id="102" name=""/>
            <p:cNvSpPr/>
            <p:nvPr/>
          </p:nvSpPr>
          <p:spPr>
            <a:xfrm>
              <a:off x="4181400" y="6138720"/>
              <a:ext cx="8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3680640" y="3862080"/>
              <a:ext cx="1997640" cy="2338560"/>
              <a:chOff x="3680640" y="3862080"/>
              <a:chExt cx="1997640" cy="23385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3680640" y="3862080"/>
                <a:ext cx="1997640" cy="2338560"/>
                <a:chOff x="3680640" y="3862080"/>
                <a:chExt cx="1997640" cy="2338560"/>
              </a:xfrm>
            </p:grpSpPr>
            <p:sp>
              <p:nvSpPr>
                <p:cNvPr id="105" name=""/>
                <p:cNvSpPr/>
                <p:nvPr/>
              </p:nvSpPr>
              <p:spPr>
                <a:xfrm flipV="1">
                  <a:off x="3736800" y="3875040"/>
                  <a:ext cx="914400" cy="193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 flipV="1">
                  <a:off x="4650840" y="3862080"/>
                  <a:ext cx="955800" cy="19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688200" y="5575320"/>
                  <a:ext cx="1990080" cy="625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80" y="7615"/>
                      </a:moveTo>
                      <a:arcTo wR="10800" hR="10800" stAng="-9770951" swAng="85527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80" y="7615"/>
                      </a:moveTo>
                      <a:arcTo wR="10800" hR="10800" stAng="-9770951" swAng="8552773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10800000">
                  <a:off x="3680640" y="5410080"/>
                  <a:ext cx="1962360" cy="625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26" y="8602"/>
                      </a:moveTo>
                      <a:arcTo wR="10800" hR="10800" stAng="-10095512" swAng="91226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26" y="8602"/>
                      </a:moveTo>
                      <a:arcTo wR="10800" hR="10800" stAng="-10095512" swAng="9122630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4616280" y="57610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4645080" y="3889080"/>
                <a:ext cx="0" cy="1901880"/>
              </a:xfrm>
              <a:prstGeom prst="line">
                <a:avLst/>
              </a:prstGeom>
              <a:ln w="2844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630680" y="5791320"/>
                <a:ext cx="95724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30680" y="5616720"/>
                <a:ext cx="173160" cy="1746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37120" y="14400"/>
            <a:ext cx="13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199-738E-4B31-9A30-2A457EE404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6878520" y="162000"/>
            <a:ext cx="1376640" cy="2111040"/>
            <a:chOff x="6878520" y="162000"/>
            <a:chExt cx="1376640" cy="2111040"/>
          </a:xfrm>
        </p:grpSpPr>
        <p:sp>
          <p:nvSpPr>
            <p:cNvPr id="117" name=""/>
            <p:cNvSpPr/>
            <p:nvPr/>
          </p:nvSpPr>
          <p:spPr>
            <a:xfrm flipH="1">
              <a:off x="6891480" y="195480"/>
              <a:ext cx="59040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160760" y="198720"/>
              <a:ext cx="336600" cy="20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10320" y="200160"/>
              <a:ext cx="47160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89800" y="169920"/>
              <a:ext cx="765360" cy="164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97720" y="162000"/>
              <a:ext cx="66600" cy="1359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878520" y="1522080"/>
              <a:ext cx="1365120" cy="750960"/>
              <a:chOff x="6878520" y="1522080"/>
              <a:chExt cx="1365120" cy="7509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78520" y="1794960"/>
                <a:ext cx="272160" cy="46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150680" y="2273040"/>
                <a:ext cx="834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7983360" y="1794600"/>
                <a:ext cx="260280" cy="46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6904080" y="1522080"/>
                <a:ext cx="663480" cy="27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54960" y="1522440"/>
                <a:ext cx="676080" cy="27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2416320" y="3594240"/>
            <a:ext cx="1212840" cy="2037960"/>
            <a:chOff x="2416320" y="3594240"/>
            <a:chExt cx="1212840" cy="2037960"/>
          </a:xfrm>
        </p:grpSpPr>
        <p:sp>
          <p:nvSpPr>
            <p:cNvPr id="129" name=""/>
            <p:cNvSpPr/>
            <p:nvPr/>
          </p:nvSpPr>
          <p:spPr>
            <a:xfrm flipV="1">
              <a:off x="2416320" y="3607920"/>
              <a:ext cx="604800" cy="177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716200" y="3660480"/>
              <a:ext cx="295200" cy="194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3030120" y="3616200"/>
              <a:ext cx="282600" cy="198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013200" y="3596760"/>
              <a:ext cx="604800" cy="181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714760" y="3594240"/>
              <a:ext cx="295200" cy="14983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3021120" y="3606480"/>
              <a:ext cx="295200" cy="1485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16320" y="5361120"/>
              <a:ext cx="29520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1520" y="5608800"/>
              <a:ext cx="60012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300480" y="5371920"/>
              <a:ext cx="328680" cy="26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22800" y="5113440"/>
              <a:ext cx="306360" cy="234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1520" y="5124600"/>
              <a:ext cx="6112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416320" y="5113080"/>
              <a:ext cx="306360" cy="2602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058760" y="1811160"/>
            <a:ext cx="1830600" cy="551160"/>
          </a:xfrm>
          <a:prstGeom prst="triangle">
            <a:avLst>
              <a:gd name="adj" fmla="val 63486"/>
            </a:avLst>
          </a:prstGeom>
          <a:solidFill>
            <a:srgbClr val="99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074600" y="119160"/>
            <a:ext cx="1828800" cy="2253960"/>
            <a:chOff x="1074600" y="119160"/>
            <a:chExt cx="1828800" cy="2253960"/>
          </a:xfrm>
        </p:grpSpPr>
        <p:grpSp>
          <p:nvGrpSpPr>
            <p:cNvPr id="143" name=""/>
            <p:cNvGrpSpPr/>
            <p:nvPr/>
          </p:nvGrpSpPr>
          <p:grpSpPr>
            <a:xfrm>
              <a:off x="1074600" y="1793880"/>
              <a:ext cx="1828800" cy="579240"/>
              <a:chOff x="1074600" y="1793880"/>
              <a:chExt cx="1828800" cy="579240"/>
            </a:xfrm>
          </p:grpSpPr>
          <p:sp>
            <p:nvSpPr>
              <p:cNvPr id="144" name=""/>
              <p:cNvSpPr/>
              <p:nvPr/>
            </p:nvSpPr>
            <p:spPr>
              <a:xfrm flipV="1">
                <a:off x="1074600" y="1793880"/>
                <a:ext cx="1146240" cy="565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06800" y="1793880"/>
                <a:ext cx="696600" cy="565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089000" y="2373120"/>
                <a:ext cx="18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flipH="1" flipV="1">
              <a:off x="2206440" y="119160"/>
              <a:ext cx="14040" cy="16718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074600" y="149400"/>
              <a:ext cx="1116000" cy="222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7720" y="120960"/>
              <a:ext cx="714240" cy="224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133280" y="2511360"/>
            <a:ext cx="1739880" cy="776160"/>
            <a:chOff x="1133280" y="2511360"/>
            <a:chExt cx="1739880" cy="776160"/>
          </a:xfrm>
        </p:grpSpPr>
        <p:sp>
          <p:nvSpPr>
            <p:cNvPr id="151" name=""/>
            <p:cNvSpPr/>
            <p:nvPr/>
          </p:nvSpPr>
          <p:spPr>
            <a:xfrm>
              <a:off x="1273320" y="2919240"/>
              <a:ext cx="13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YRA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33280" y="251136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RIANGU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905280" y="1792440"/>
            <a:ext cx="1508040" cy="460080"/>
          </a:xfrm>
          <a:prstGeom prst="parallelogram">
            <a:avLst>
              <a:gd name="adj" fmla="val 81944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15840" y="2481120"/>
            <a:ext cx="2026440" cy="788760"/>
            <a:chOff x="3615840" y="2481120"/>
            <a:chExt cx="2026440" cy="788760"/>
          </a:xfrm>
        </p:grpSpPr>
        <p:sp>
          <p:nvSpPr>
            <p:cNvPr id="155" name=""/>
            <p:cNvSpPr/>
            <p:nvPr/>
          </p:nvSpPr>
          <p:spPr>
            <a:xfrm>
              <a:off x="3873600" y="2901600"/>
              <a:ext cx="137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YRA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15840" y="2481120"/>
              <a:ext cx="202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CTANGULA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696000" y="2468520"/>
            <a:ext cx="1851120" cy="760320"/>
            <a:chOff x="6696000" y="2468520"/>
            <a:chExt cx="1851120" cy="760320"/>
          </a:xfrm>
        </p:grpSpPr>
        <p:sp>
          <p:nvSpPr>
            <p:cNvPr id="158" name=""/>
            <p:cNvSpPr/>
            <p:nvPr/>
          </p:nvSpPr>
          <p:spPr>
            <a:xfrm>
              <a:off x="6934320" y="2860560"/>
              <a:ext cx="13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YRA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96000" y="2468520"/>
              <a:ext cx="185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ENTAGON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02280" y="1512720"/>
            <a:ext cx="1322640" cy="727200"/>
          </a:xfrm>
          <a:prstGeom prst="pentagon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78440" y="5803920"/>
            <a:ext cx="1678680" cy="741240"/>
            <a:chOff x="2278440" y="5803920"/>
            <a:chExt cx="1678680" cy="741240"/>
          </a:xfrm>
        </p:grpSpPr>
        <p:sp>
          <p:nvSpPr>
            <p:cNvPr id="162" name=""/>
            <p:cNvSpPr/>
            <p:nvPr/>
          </p:nvSpPr>
          <p:spPr>
            <a:xfrm>
              <a:off x="2335320" y="6176880"/>
              <a:ext cx="141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YRA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78440" y="5803920"/>
              <a:ext cx="167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EXAG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430360" y="5127480"/>
            <a:ext cx="1195560" cy="466920"/>
          </a:xfrm>
          <a:prstGeom prst="hexagon">
            <a:avLst>
              <a:gd name="adj" fmla="val 64013"/>
              <a:gd name="vf" fmla="val 115470"/>
            </a:avLst>
          </a:prstGeom>
          <a:solidFill>
            <a:srgbClr val="99cc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032800" y="5821200"/>
            <a:ext cx="1678680" cy="738000"/>
            <a:chOff x="5032800" y="5821200"/>
            <a:chExt cx="1678680" cy="738000"/>
          </a:xfrm>
        </p:grpSpPr>
        <p:sp>
          <p:nvSpPr>
            <p:cNvPr id="166" name=""/>
            <p:cNvSpPr/>
            <p:nvPr/>
          </p:nvSpPr>
          <p:spPr>
            <a:xfrm>
              <a:off x="5173560" y="6190920"/>
              <a:ext cx="132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YRA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32800" y="5821200"/>
              <a:ext cx="167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CTAG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440320" y="4995720"/>
            <a:ext cx="1015920" cy="630360"/>
          </a:xfrm>
          <a:prstGeom prst="octagon">
            <a:avLst>
              <a:gd name="adj" fmla="val 29287"/>
            </a:avLst>
          </a:prstGeom>
          <a:solidFill>
            <a:srgbClr val="99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913200" y="101520"/>
            <a:ext cx="1519200" cy="2161800"/>
            <a:chOff x="3913200" y="101520"/>
            <a:chExt cx="1519200" cy="2161800"/>
          </a:xfrm>
        </p:grpSpPr>
        <p:sp>
          <p:nvSpPr>
            <p:cNvPr id="172" name=""/>
            <p:cNvSpPr/>
            <p:nvPr/>
          </p:nvSpPr>
          <p:spPr>
            <a:xfrm flipH="1">
              <a:off x="4299120" y="123480"/>
              <a:ext cx="349200" cy="17092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933720" y="1758960"/>
              <a:ext cx="395280" cy="451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08480" y="1770480"/>
              <a:ext cx="1098720" cy="15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13200" y="223704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056200" y="1791360"/>
              <a:ext cx="376200" cy="45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45080" y="101520"/>
              <a:ext cx="779400" cy="167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930480" y="132840"/>
              <a:ext cx="702000" cy="21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33920" y="106920"/>
              <a:ext cx="431640" cy="215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437080" y="3699000"/>
            <a:ext cx="1038240" cy="1971360"/>
            <a:chOff x="5437080" y="3699000"/>
            <a:chExt cx="1038240" cy="1971360"/>
          </a:xfrm>
        </p:grpSpPr>
        <p:sp>
          <p:nvSpPr>
            <p:cNvPr id="181" name=""/>
            <p:cNvSpPr/>
            <p:nvPr/>
          </p:nvSpPr>
          <p:spPr>
            <a:xfrm flipV="1">
              <a:off x="5454720" y="3739680"/>
              <a:ext cx="457200" cy="173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683320" y="3713040"/>
              <a:ext cx="241200" cy="19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38920" y="3740040"/>
              <a:ext cx="320760" cy="192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29200" y="3699000"/>
              <a:ext cx="536760" cy="179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37120" y="3727440"/>
              <a:ext cx="322560" cy="1298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5664240" y="3729240"/>
              <a:ext cx="255600" cy="1328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437080" y="4973760"/>
              <a:ext cx="1031760" cy="696600"/>
              <a:chOff x="5437080" y="4973760"/>
              <a:chExt cx="1031760" cy="696600"/>
            </a:xfrm>
          </p:grpSpPr>
          <p:sp>
            <p:nvSpPr>
              <p:cNvPr id="188" name=""/>
              <p:cNvSpPr/>
              <p:nvPr/>
            </p:nvSpPr>
            <p:spPr>
              <a:xfrm>
                <a:off x="5437080" y="5433480"/>
                <a:ext cx="254880" cy="236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691960" y="5655960"/>
                <a:ext cx="552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6274440" y="5478480"/>
                <a:ext cx="194400" cy="17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5451840" y="4973760"/>
                <a:ext cx="223920" cy="19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91960" y="4987800"/>
                <a:ext cx="552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259320" y="4987800"/>
                <a:ext cx="209520" cy="19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 flipH="1">
              <a:off x="5444640" y="5148360"/>
              <a:ext cx="3240" cy="32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462360" y="5157720"/>
              <a:ext cx="3240" cy="32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46800" y="3708360"/>
              <a:ext cx="457200" cy="148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5910120" y="3703320"/>
              <a:ext cx="565200" cy="146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5E6-5B05-423C-8988-8F27BEAC54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07880" y="3986280"/>
            <a:ext cx="4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19040" y="4446720"/>
            <a:ext cx="2919600" cy="540360"/>
            <a:chOff x="419040" y="4446720"/>
            <a:chExt cx="2919600" cy="540360"/>
          </a:xfrm>
        </p:grpSpPr>
        <p:sp>
          <p:nvSpPr>
            <p:cNvPr id="200" name=""/>
            <p:cNvSpPr/>
            <p:nvPr/>
          </p:nvSpPr>
          <p:spPr>
            <a:xfrm>
              <a:off x="419040" y="451656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L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841320" y="4446720"/>
              <a:ext cx="464760" cy="540360"/>
              <a:chOff x="841320" y="4446720"/>
              <a:chExt cx="464760" cy="54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1052280" y="4505400"/>
                <a:ext cx="25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bcCursive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841320" y="4446720"/>
                <a:ext cx="259920" cy="540360"/>
                <a:chOff x="841320" y="4446720"/>
                <a:chExt cx="259920" cy="5403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841320" y="4446720"/>
                  <a:ext cx="233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55360" y="4680000"/>
                  <a:ext cx="24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69760" y="4722840"/>
                  <a:ext cx="217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7" name=""/>
            <p:cNvSpPr/>
            <p:nvPr/>
          </p:nvSpPr>
          <p:spPr>
            <a:xfrm>
              <a:off x="1305000" y="4559400"/>
              <a:ext cx="2033640" cy="30456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278000" y="4513320"/>
            <a:ext cx="21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3880" y="521352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P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3560" y="2230560"/>
            <a:ext cx="2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1840" y="4863960"/>
            <a:ext cx="32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The perimeter of the BAS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3280" y="556272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LATERAL AREA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38280" y="5952960"/>
            <a:ext cx="1189080" cy="540360"/>
            <a:chOff x="638280" y="5952960"/>
            <a:chExt cx="1189080" cy="540360"/>
          </a:xfrm>
        </p:grpSpPr>
        <p:sp>
          <p:nvSpPr>
            <p:cNvPr id="214" name=""/>
            <p:cNvSpPr/>
            <p:nvPr/>
          </p:nvSpPr>
          <p:spPr>
            <a:xfrm>
              <a:off x="638280" y="6027480"/>
              <a:ext cx="11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L =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bcCursive"/>
                </a:rPr>
                <a:t>l</a:t>
              </a: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1071720" y="5952960"/>
              <a:ext cx="259920" cy="540360"/>
              <a:chOff x="1071720" y="5952960"/>
              <a:chExt cx="259920" cy="540360"/>
            </a:xfrm>
          </p:grpSpPr>
          <p:sp>
            <p:nvSpPr>
              <p:cNvPr id="216" name=""/>
              <p:cNvSpPr/>
              <p:nvPr/>
            </p:nvSpPr>
            <p:spPr>
              <a:xfrm>
                <a:off x="1071720" y="5952960"/>
                <a:ext cx="23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085760" y="6186240"/>
                <a:ext cx="24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00160" y="62290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1930320" y="6016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556000" y="414360"/>
            <a:ext cx="3198600" cy="4035960"/>
            <a:chOff x="2556000" y="414360"/>
            <a:chExt cx="3198600" cy="4035960"/>
          </a:xfrm>
        </p:grpSpPr>
        <p:grpSp>
          <p:nvGrpSpPr>
            <p:cNvPr id="221" name=""/>
            <p:cNvGrpSpPr/>
            <p:nvPr/>
          </p:nvGrpSpPr>
          <p:grpSpPr>
            <a:xfrm>
              <a:off x="2556000" y="3909960"/>
              <a:ext cx="1066680" cy="540360"/>
              <a:chOff x="2556000" y="3909960"/>
              <a:chExt cx="1066680" cy="54036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895480" y="3909960"/>
                <a:ext cx="727200" cy="540360"/>
                <a:chOff x="2895480" y="3909960"/>
                <a:chExt cx="727200" cy="5403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106800" y="3968640"/>
                  <a:ext cx="515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bcCursive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4" name=""/>
                <p:cNvGrpSpPr/>
                <p:nvPr/>
              </p:nvGrpSpPr>
              <p:grpSpPr>
                <a:xfrm>
                  <a:off x="2895480" y="3909960"/>
                  <a:ext cx="260640" cy="540360"/>
                  <a:chOff x="2895480" y="3909960"/>
                  <a:chExt cx="260640" cy="54036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2895480" y="3909960"/>
                    <a:ext cx="2336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909880" y="4143240"/>
                    <a:ext cx="2462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2924280" y="4186080"/>
                    <a:ext cx="217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8" name=""/>
              <p:cNvSpPr/>
              <p:nvPr/>
            </p:nvSpPr>
            <p:spPr>
              <a:xfrm>
                <a:off x="2556000" y="4000320"/>
                <a:ext cx="26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838760" y="414360"/>
              <a:ext cx="915840" cy="2313000"/>
              <a:chOff x="4838760" y="414360"/>
              <a:chExt cx="915840" cy="2313000"/>
            </a:xfrm>
          </p:grpSpPr>
          <p:sp>
            <p:nvSpPr>
              <p:cNvPr id="230" name=""/>
              <p:cNvSpPr/>
              <p:nvPr/>
            </p:nvSpPr>
            <p:spPr>
              <a:xfrm>
                <a:off x="4838760" y="414360"/>
                <a:ext cx="915840" cy="203364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57720" y="2359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038560" y="1249200"/>
                <a:ext cx="26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bcCursive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5291280" y="428760"/>
                <a:ext cx="144360" cy="2019240"/>
                <a:chOff x="5291280" y="428760"/>
                <a:chExt cx="144360" cy="20192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5291280" y="428760"/>
                  <a:ext cx="0" cy="196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291280" y="2251440"/>
                  <a:ext cx="144360" cy="19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6" name=""/>
          <p:cNvGrpSpPr/>
          <p:nvPr/>
        </p:nvGrpSpPr>
        <p:grpSpPr>
          <a:xfrm>
            <a:off x="3483000" y="363600"/>
            <a:ext cx="3171960" cy="4086720"/>
            <a:chOff x="3483000" y="363600"/>
            <a:chExt cx="3171960" cy="4086720"/>
          </a:xfrm>
        </p:grpSpPr>
        <p:grpSp>
          <p:nvGrpSpPr>
            <p:cNvPr id="237" name=""/>
            <p:cNvGrpSpPr/>
            <p:nvPr/>
          </p:nvGrpSpPr>
          <p:grpSpPr>
            <a:xfrm>
              <a:off x="3483000" y="363600"/>
              <a:ext cx="3171960" cy="4086720"/>
              <a:chOff x="3483000" y="363600"/>
              <a:chExt cx="3171960" cy="408672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3483000" y="3909960"/>
                <a:ext cx="1065240" cy="540360"/>
                <a:chOff x="3483000" y="3909960"/>
                <a:chExt cx="1065240" cy="54036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3821040" y="3909960"/>
                  <a:ext cx="727200" cy="540360"/>
                  <a:chOff x="3821040" y="3909960"/>
                  <a:chExt cx="727200" cy="54036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4032360" y="3968640"/>
                    <a:ext cx="515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1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bcCursive"/>
                      </a:rPr>
                      <a:t>l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3821040" y="3909960"/>
                    <a:ext cx="260640" cy="540360"/>
                    <a:chOff x="3821040" y="3909960"/>
                    <a:chExt cx="260640" cy="540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3821040" y="3909960"/>
                      <a:ext cx="2336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3835440" y="4143240"/>
                      <a:ext cx="2462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3849840" y="4186080"/>
                      <a:ext cx="21744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45" name=""/>
                <p:cNvSpPr/>
                <p:nvPr/>
              </p:nvSpPr>
              <p:spPr>
                <a:xfrm>
                  <a:off x="3483000" y="3985920"/>
                  <a:ext cx="260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5757840" y="363600"/>
                <a:ext cx="897120" cy="2365200"/>
                <a:chOff x="5757840" y="363600"/>
                <a:chExt cx="897120" cy="23652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757840" y="363600"/>
                  <a:ext cx="897120" cy="208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051600" y="2360520"/>
                  <a:ext cx="320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940360" y="1249200"/>
                  <a:ext cx="268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bcCursive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6205680" y="428760"/>
              <a:ext cx="144360" cy="2019240"/>
              <a:chOff x="6205680" y="428760"/>
              <a:chExt cx="144360" cy="2019240"/>
            </a:xfrm>
          </p:grpSpPr>
          <p:sp>
            <p:nvSpPr>
              <p:cNvPr id="251" name=""/>
              <p:cNvSpPr/>
              <p:nvPr/>
            </p:nvSpPr>
            <p:spPr>
              <a:xfrm>
                <a:off x="6205680" y="428760"/>
                <a:ext cx="0" cy="19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205680" y="2251440"/>
                <a:ext cx="144360" cy="196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4484520" y="398520"/>
            <a:ext cx="3089520" cy="4066200"/>
            <a:chOff x="4484520" y="398520"/>
            <a:chExt cx="3089520" cy="4066200"/>
          </a:xfrm>
        </p:grpSpPr>
        <p:grpSp>
          <p:nvGrpSpPr>
            <p:cNvPr id="254" name=""/>
            <p:cNvGrpSpPr/>
            <p:nvPr/>
          </p:nvGrpSpPr>
          <p:grpSpPr>
            <a:xfrm>
              <a:off x="4484520" y="3924360"/>
              <a:ext cx="1148760" cy="540360"/>
              <a:chOff x="4484520" y="3924360"/>
              <a:chExt cx="1148760" cy="54036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4906800" y="3924360"/>
                <a:ext cx="726480" cy="540360"/>
                <a:chOff x="4906800" y="3924360"/>
                <a:chExt cx="726480" cy="5403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117760" y="3983040"/>
                  <a:ext cx="515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bcCursive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7" name=""/>
                <p:cNvGrpSpPr/>
                <p:nvPr/>
              </p:nvGrpSpPr>
              <p:grpSpPr>
                <a:xfrm>
                  <a:off x="4906800" y="3924360"/>
                  <a:ext cx="259920" cy="540360"/>
                  <a:chOff x="4906800" y="3924360"/>
                  <a:chExt cx="259920" cy="5403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4906800" y="3924360"/>
                    <a:ext cx="233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4920840" y="4157640"/>
                    <a:ext cx="2458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4935240" y="4200480"/>
                    <a:ext cx="2170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1" name=""/>
              <p:cNvSpPr/>
              <p:nvPr/>
            </p:nvSpPr>
            <p:spPr>
              <a:xfrm>
                <a:off x="4484520" y="4013280"/>
                <a:ext cx="26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657840" y="398520"/>
              <a:ext cx="916200" cy="2313000"/>
              <a:chOff x="6657840" y="398520"/>
              <a:chExt cx="916200" cy="2313000"/>
            </a:xfrm>
          </p:grpSpPr>
          <p:sp>
            <p:nvSpPr>
              <p:cNvPr id="263" name=""/>
              <p:cNvSpPr/>
              <p:nvPr/>
            </p:nvSpPr>
            <p:spPr>
              <a:xfrm>
                <a:off x="6657840" y="398520"/>
                <a:ext cx="916200" cy="203364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27920" y="234324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854760" y="1211400"/>
                <a:ext cx="26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bcCursive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7120080" y="414360"/>
                <a:ext cx="144360" cy="2019240"/>
                <a:chOff x="7120080" y="414360"/>
                <a:chExt cx="144360" cy="20192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7120080" y="414360"/>
                  <a:ext cx="0" cy="196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20080" y="2237040"/>
                  <a:ext cx="144360" cy="19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9" name=""/>
          <p:cNvGrpSpPr/>
          <p:nvPr/>
        </p:nvGrpSpPr>
        <p:grpSpPr>
          <a:xfrm>
            <a:off x="5497560" y="331920"/>
            <a:ext cx="2976480" cy="4132800"/>
            <a:chOff x="5497560" y="331920"/>
            <a:chExt cx="2976480" cy="4132800"/>
          </a:xfrm>
        </p:grpSpPr>
        <p:grpSp>
          <p:nvGrpSpPr>
            <p:cNvPr id="270" name=""/>
            <p:cNvGrpSpPr/>
            <p:nvPr/>
          </p:nvGrpSpPr>
          <p:grpSpPr>
            <a:xfrm>
              <a:off x="5497560" y="3924360"/>
              <a:ext cx="1054080" cy="540360"/>
              <a:chOff x="5497560" y="3924360"/>
              <a:chExt cx="1054080" cy="54036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5824440" y="3924360"/>
                <a:ext cx="727200" cy="540360"/>
                <a:chOff x="5824440" y="3924360"/>
                <a:chExt cx="727200" cy="54036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6035760" y="3983040"/>
                  <a:ext cx="515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bcCursive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3" name=""/>
                <p:cNvGrpSpPr/>
                <p:nvPr/>
              </p:nvGrpSpPr>
              <p:grpSpPr>
                <a:xfrm>
                  <a:off x="5824440" y="3924360"/>
                  <a:ext cx="260640" cy="540360"/>
                  <a:chOff x="5824440" y="3924360"/>
                  <a:chExt cx="260640" cy="54036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5824440" y="3924360"/>
                    <a:ext cx="2336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5838840" y="4157640"/>
                    <a:ext cx="2462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853240" y="4200480"/>
                    <a:ext cx="217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7" name=""/>
              <p:cNvSpPr/>
              <p:nvPr/>
            </p:nvSpPr>
            <p:spPr>
              <a:xfrm>
                <a:off x="5497560" y="4013280"/>
                <a:ext cx="26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577280" y="331920"/>
              <a:ext cx="896760" cy="2358720"/>
              <a:chOff x="7577280" y="331920"/>
              <a:chExt cx="896760" cy="2358720"/>
            </a:xfrm>
          </p:grpSpPr>
          <p:sp>
            <p:nvSpPr>
              <p:cNvPr id="279" name=""/>
              <p:cNvSpPr/>
              <p:nvPr/>
            </p:nvSpPr>
            <p:spPr>
              <a:xfrm>
                <a:off x="7577280" y="331920"/>
                <a:ext cx="896760" cy="208440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974000" y="23223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86800" y="1127160"/>
                <a:ext cx="26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bcCursive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8020080" y="399960"/>
                <a:ext cx="144360" cy="2019240"/>
                <a:chOff x="8020080" y="399960"/>
                <a:chExt cx="144360" cy="20192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8020080" y="399960"/>
                  <a:ext cx="0" cy="196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020080" y="2222640"/>
                  <a:ext cx="144360" cy="19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5" name=""/>
          <p:cNvSpPr/>
          <p:nvPr/>
        </p:nvSpPr>
        <p:spPr>
          <a:xfrm>
            <a:off x="3514680" y="2454120"/>
            <a:ext cx="1752480" cy="1306800"/>
          </a:xfrm>
          <a:prstGeom prst="hexagon">
            <a:avLst>
              <a:gd name="adj" fmla="val 33526"/>
              <a:gd name="vf" fmla="val 115470"/>
            </a:avLst>
          </a:prstGeom>
          <a:solidFill>
            <a:srgbClr val="ff99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873080" y="3451320"/>
            <a:ext cx="2683080" cy="2140200"/>
            <a:chOff x="1873080" y="3451320"/>
            <a:chExt cx="2683080" cy="2140200"/>
          </a:xfrm>
        </p:grpSpPr>
        <p:grpSp>
          <p:nvGrpSpPr>
            <p:cNvPr id="287" name=""/>
            <p:cNvGrpSpPr/>
            <p:nvPr/>
          </p:nvGrpSpPr>
          <p:grpSpPr>
            <a:xfrm>
              <a:off x="1873080" y="5180040"/>
              <a:ext cx="411120" cy="411480"/>
              <a:chOff x="1873080" y="5180040"/>
              <a:chExt cx="411120" cy="411480"/>
            </a:xfrm>
          </p:grpSpPr>
          <p:sp>
            <p:nvSpPr>
              <p:cNvPr id="288" name=""/>
              <p:cNvSpPr/>
              <p:nvPr/>
            </p:nvSpPr>
            <p:spPr>
              <a:xfrm>
                <a:off x="2037960" y="5180040"/>
                <a:ext cx="24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73080" y="5223240"/>
                <a:ext cx="26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4235400" y="34513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147680" y="2633760"/>
            <a:ext cx="3876840" cy="2962440"/>
            <a:chOff x="1147680" y="2633760"/>
            <a:chExt cx="3876840" cy="2962440"/>
          </a:xfrm>
        </p:grpSpPr>
        <p:grpSp>
          <p:nvGrpSpPr>
            <p:cNvPr id="292" name=""/>
            <p:cNvGrpSpPr/>
            <p:nvPr/>
          </p:nvGrpSpPr>
          <p:grpSpPr>
            <a:xfrm>
              <a:off x="1147680" y="5178600"/>
              <a:ext cx="439920" cy="417600"/>
              <a:chOff x="1147680" y="5178600"/>
              <a:chExt cx="439920" cy="417600"/>
            </a:xfrm>
          </p:grpSpPr>
          <p:sp>
            <p:nvSpPr>
              <p:cNvPr id="293" name=""/>
              <p:cNvSpPr/>
              <p:nvPr/>
            </p:nvSpPr>
            <p:spPr>
              <a:xfrm>
                <a:off x="1341360" y="5178600"/>
                <a:ext cx="24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47680" y="5227920"/>
                <a:ext cx="26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4778280" y="2633760"/>
              <a:ext cx="2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600280" y="2638440"/>
            <a:ext cx="1343160" cy="2954160"/>
            <a:chOff x="2600280" y="2638440"/>
            <a:chExt cx="1343160" cy="2954160"/>
          </a:xfrm>
        </p:grpSpPr>
        <p:grpSp>
          <p:nvGrpSpPr>
            <p:cNvPr id="297" name=""/>
            <p:cNvGrpSpPr/>
            <p:nvPr/>
          </p:nvGrpSpPr>
          <p:grpSpPr>
            <a:xfrm>
              <a:off x="2600280" y="5180040"/>
              <a:ext cx="439920" cy="412560"/>
              <a:chOff x="2600280" y="5180040"/>
              <a:chExt cx="439920" cy="412560"/>
            </a:xfrm>
          </p:grpSpPr>
          <p:sp>
            <p:nvSpPr>
              <p:cNvPr id="298" name=""/>
              <p:cNvSpPr/>
              <p:nvPr/>
            </p:nvSpPr>
            <p:spPr>
              <a:xfrm>
                <a:off x="2793960" y="5180040"/>
                <a:ext cx="24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600280" y="5224320"/>
                <a:ext cx="26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3697200" y="2638440"/>
              <a:ext cx="2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249640" y="3174840"/>
            <a:ext cx="1663560" cy="2416680"/>
            <a:chOff x="2249640" y="3174840"/>
            <a:chExt cx="1663560" cy="2416680"/>
          </a:xfrm>
        </p:grpSpPr>
        <p:grpSp>
          <p:nvGrpSpPr>
            <p:cNvPr id="302" name=""/>
            <p:cNvGrpSpPr/>
            <p:nvPr/>
          </p:nvGrpSpPr>
          <p:grpSpPr>
            <a:xfrm>
              <a:off x="2249640" y="5180040"/>
              <a:ext cx="440640" cy="411480"/>
              <a:chOff x="2249640" y="5180040"/>
              <a:chExt cx="440640" cy="411480"/>
            </a:xfrm>
          </p:grpSpPr>
          <p:sp>
            <p:nvSpPr>
              <p:cNvPr id="303" name=""/>
              <p:cNvSpPr/>
              <p:nvPr/>
            </p:nvSpPr>
            <p:spPr>
              <a:xfrm>
                <a:off x="2444400" y="5180040"/>
                <a:ext cx="245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49640" y="5223240"/>
                <a:ext cx="25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3666960" y="3174840"/>
              <a:ext cx="2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509840" y="3173400"/>
            <a:ext cx="3549600" cy="2420640"/>
            <a:chOff x="1509840" y="3173400"/>
            <a:chExt cx="3549600" cy="2420640"/>
          </a:xfrm>
        </p:grpSpPr>
        <p:grpSp>
          <p:nvGrpSpPr>
            <p:cNvPr id="307" name=""/>
            <p:cNvGrpSpPr/>
            <p:nvPr/>
          </p:nvGrpSpPr>
          <p:grpSpPr>
            <a:xfrm>
              <a:off x="1509840" y="5176800"/>
              <a:ext cx="414360" cy="417240"/>
              <a:chOff x="1509840" y="5176800"/>
              <a:chExt cx="414360" cy="417240"/>
            </a:xfrm>
          </p:grpSpPr>
          <p:sp>
            <p:nvSpPr>
              <p:cNvPr id="308" name=""/>
              <p:cNvSpPr/>
              <p:nvPr/>
            </p:nvSpPr>
            <p:spPr>
              <a:xfrm>
                <a:off x="1677960" y="5176800"/>
                <a:ext cx="24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509840" y="5225760"/>
                <a:ext cx="26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4813200" y="3173400"/>
              <a:ext cx="2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490760" y="379440"/>
            <a:ext cx="3340080" cy="4070880"/>
            <a:chOff x="1490760" y="379440"/>
            <a:chExt cx="3340080" cy="4070880"/>
          </a:xfrm>
        </p:grpSpPr>
        <p:grpSp>
          <p:nvGrpSpPr>
            <p:cNvPr id="312" name=""/>
            <p:cNvGrpSpPr/>
            <p:nvPr/>
          </p:nvGrpSpPr>
          <p:grpSpPr>
            <a:xfrm>
              <a:off x="1490760" y="3909960"/>
              <a:ext cx="1116000" cy="540360"/>
              <a:chOff x="1490760" y="3909960"/>
              <a:chExt cx="1116000" cy="54036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1879560" y="3909960"/>
                <a:ext cx="727200" cy="540360"/>
                <a:chOff x="1879560" y="3909960"/>
                <a:chExt cx="727200" cy="5403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2090880" y="3968640"/>
                  <a:ext cx="515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bcCursive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5" name=""/>
                <p:cNvGrpSpPr/>
                <p:nvPr/>
              </p:nvGrpSpPr>
              <p:grpSpPr>
                <a:xfrm>
                  <a:off x="1879560" y="3909960"/>
                  <a:ext cx="260640" cy="540360"/>
                  <a:chOff x="1879560" y="3909960"/>
                  <a:chExt cx="260640" cy="54036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1879560" y="3909960"/>
                    <a:ext cx="2336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1893960" y="4143240"/>
                    <a:ext cx="2462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1908360" y="4186080"/>
                    <a:ext cx="217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9" name=""/>
              <p:cNvSpPr/>
              <p:nvPr/>
            </p:nvSpPr>
            <p:spPr>
              <a:xfrm>
                <a:off x="1490760" y="3992400"/>
                <a:ext cx="26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933720" y="379440"/>
              <a:ext cx="897120" cy="2382840"/>
              <a:chOff x="3933720" y="379440"/>
              <a:chExt cx="897120" cy="2382840"/>
            </a:xfrm>
          </p:grpSpPr>
          <p:sp>
            <p:nvSpPr>
              <p:cNvPr id="321" name=""/>
              <p:cNvSpPr/>
              <p:nvPr/>
            </p:nvSpPr>
            <p:spPr>
              <a:xfrm>
                <a:off x="3933720" y="379440"/>
                <a:ext cx="897120" cy="208440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4379760" y="446040"/>
                <a:ext cx="144720" cy="2019240"/>
                <a:chOff x="4379760" y="446040"/>
                <a:chExt cx="144720" cy="20192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379760" y="446040"/>
                  <a:ext cx="0" cy="196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379760" y="2268720"/>
                  <a:ext cx="144720" cy="19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4106880" y="1282680"/>
                <a:ext cx="26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bcCursive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229280" y="2394000"/>
                <a:ext cx="32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4992840" y="4662360"/>
            <a:ext cx="29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OTAL SURFACE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968720" y="5110200"/>
            <a:ext cx="1694160" cy="540000"/>
            <a:chOff x="4968720" y="5110200"/>
            <a:chExt cx="1694160" cy="540000"/>
          </a:xfrm>
        </p:grpSpPr>
        <p:grpSp>
          <p:nvGrpSpPr>
            <p:cNvPr id="329" name=""/>
            <p:cNvGrpSpPr/>
            <p:nvPr/>
          </p:nvGrpSpPr>
          <p:grpSpPr>
            <a:xfrm>
              <a:off x="4968720" y="5110200"/>
              <a:ext cx="1189080" cy="540000"/>
              <a:chOff x="4968720" y="5110200"/>
              <a:chExt cx="1189080" cy="540000"/>
            </a:xfrm>
          </p:grpSpPr>
          <p:sp>
            <p:nvSpPr>
              <p:cNvPr id="330" name=""/>
              <p:cNvSpPr/>
              <p:nvPr/>
            </p:nvSpPr>
            <p:spPr>
              <a:xfrm>
                <a:off x="4968720" y="5184360"/>
                <a:ext cx="11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T =     P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bcCursive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5402160" y="5110200"/>
                <a:ext cx="259920" cy="540000"/>
                <a:chOff x="5402160" y="5110200"/>
                <a:chExt cx="259920" cy="54000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402160" y="5110200"/>
                  <a:ext cx="233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416200" y="5343120"/>
                  <a:ext cx="24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430600" y="5385960"/>
                  <a:ext cx="217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"/>
            <p:cNvSpPr/>
            <p:nvPr/>
          </p:nvSpPr>
          <p:spPr>
            <a:xfrm>
              <a:off x="5964120" y="517032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 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981680" y="560880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= perimeter of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81680" y="588024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= Area of base poly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8680" y="620064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cCursive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slant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160640" y="449280"/>
            <a:ext cx="405720" cy="1800360"/>
            <a:chOff x="1160640" y="449280"/>
            <a:chExt cx="405720" cy="1800360"/>
          </a:xfrm>
        </p:grpSpPr>
        <p:grpSp>
          <p:nvGrpSpPr>
            <p:cNvPr id="340" name=""/>
            <p:cNvGrpSpPr/>
            <p:nvPr/>
          </p:nvGrpSpPr>
          <p:grpSpPr>
            <a:xfrm>
              <a:off x="1407960" y="449280"/>
              <a:ext cx="158400" cy="1800360"/>
              <a:chOff x="1407960" y="449280"/>
              <a:chExt cx="158400" cy="1800360"/>
            </a:xfrm>
          </p:grpSpPr>
          <p:sp>
            <p:nvSpPr>
              <p:cNvPr id="341" name=""/>
              <p:cNvSpPr/>
              <p:nvPr/>
            </p:nvSpPr>
            <p:spPr>
              <a:xfrm>
                <a:off x="1407960" y="449280"/>
                <a:ext cx="0" cy="180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407960" y="2075040"/>
                <a:ext cx="158400" cy="1746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1160640" y="1420920"/>
              <a:ext cx="3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5021280" y="644832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=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836640" y="420840"/>
            <a:ext cx="3108240" cy="4016880"/>
            <a:chOff x="836640" y="420840"/>
            <a:chExt cx="3108240" cy="4016880"/>
          </a:xfrm>
        </p:grpSpPr>
        <p:grpSp>
          <p:nvGrpSpPr>
            <p:cNvPr id="346" name=""/>
            <p:cNvGrpSpPr/>
            <p:nvPr/>
          </p:nvGrpSpPr>
          <p:grpSpPr>
            <a:xfrm>
              <a:off x="836640" y="3897360"/>
              <a:ext cx="727200" cy="540360"/>
              <a:chOff x="836640" y="3897360"/>
              <a:chExt cx="727200" cy="540360"/>
            </a:xfrm>
          </p:grpSpPr>
          <p:sp>
            <p:nvSpPr>
              <p:cNvPr id="347" name=""/>
              <p:cNvSpPr/>
              <p:nvPr/>
            </p:nvSpPr>
            <p:spPr>
              <a:xfrm>
                <a:off x="1047960" y="3956040"/>
                <a:ext cx="515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bcCursive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836640" y="3897360"/>
                <a:ext cx="260640" cy="540360"/>
                <a:chOff x="836640" y="3897360"/>
                <a:chExt cx="260640" cy="5403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836640" y="3897360"/>
                  <a:ext cx="233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51040" y="4130640"/>
                  <a:ext cx="2462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65440" y="4173480"/>
                  <a:ext cx="21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2" name=""/>
            <p:cNvGrpSpPr/>
            <p:nvPr/>
          </p:nvGrpSpPr>
          <p:grpSpPr>
            <a:xfrm>
              <a:off x="3029040" y="420840"/>
              <a:ext cx="915840" cy="2341440"/>
              <a:chOff x="3029040" y="420840"/>
              <a:chExt cx="915840" cy="234144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3029040" y="420840"/>
                <a:ext cx="915840" cy="2341440"/>
                <a:chOff x="3029040" y="420840"/>
                <a:chExt cx="915840" cy="23414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3029040" y="420840"/>
                  <a:ext cx="915840" cy="2035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311640" y="2394000"/>
                  <a:ext cx="320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6" name=""/>
                <p:cNvGrpSpPr/>
                <p:nvPr/>
              </p:nvGrpSpPr>
              <p:grpSpPr>
                <a:xfrm>
                  <a:off x="3490920" y="442800"/>
                  <a:ext cx="144360" cy="2019240"/>
                  <a:chOff x="3490920" y="442800"/>
                  <a:chExt cx="144360" cy="201924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3490920" y="442800"/>
                    <a:ext cx="0" cy="1967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490920" y="2265480"/>
                    <a:ext cx="144360" cy="1965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9" name=""/>
              <p:cNvSpPr/>
              <p:nvPr/>
            </p:nvSpPr>
            <p:spPr>
              <a:xfrm>
                <a:off x="3228120" y="1245600"/>
                <a:ext cx="25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bcCursive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2446200" y="5940360"/>
            <a:ext cx="1189080" cy="540360"/>
            <a:chOff x="2446200" y="5940360"/>
            <a:chExt cx="1189080" cy="540360"/>
          </a:xfrm>
        </p:grpSpPr>
        <p:sp>
          <p:nvSpPr>
            <p:cNvPr id="361" name=""/>
            <p:cNvSpPr/>
            <p:nvPr/>
          </p:nvSpPr>
          <p:spPr>
            <a:xfrm>
              <a:off x="2446200" y="6014880"/>
              <a:ext cx="11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L =     P</a:t>
              </a:r>
              <a:r>
                <a:rPr b="1" lang="en-US" sz="1800" spc="-1" strike="noStrike">
                  <a:solidFill>
                    <a:srgbClr val="000000"/>
                  </a:solidFill>
                  <a:latin typeface="AbcCursive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2879640" y="5940360"/>
              <a:ext cx="259920" cy="540360"/>
              <a:chOff x="2879640" y="5940360"/>
              <a:chExt cx="259920" cy="540360"/>
            </a:xfrm>
          </p:grpSpPr>
          <p:sp>
            <p:nvSpPr>
              <p:cNvPr id="363" name=""/>
              <p:cNvSpPr/>
              <p:nvPr/>
            </p:nvSpPr>
            <p:spPr>
              <a:xfrm>
                <a:off x="2879640" y="5940360"/>
                <a:ext cx="23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893680" y="6173640"/>
                <a:ext cx="24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08080" y="62164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968400" y="2389320"/>
            <a:ext cx="3511440" cy="3157560"/>
            <a:chOff x="968400" y="2389320"/>
            <a:chExt cx="3511440" cy="3157560"/>
          </a:xfrm>
        </p:grpSpPr>
        <p:sp>
          <p:nvSpPr>
            <p:cNvPr id="367" name=""/>
            <p:cNvSpPr/>
            <p:nvPr/>
          </p:nvSpPr>
          <p:spPr>
            <a:xfrm>
              <a:off x="968400" y="5178600"/>
              <a:ext cx="24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33960" y="2389320"/>
              <a:ext cx="24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28440" y="348444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alculating Lateral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757600" y="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RFACE AREA IN PYRAM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819000" y="468360"/>
            <a:ext cx="1212840" cy="2037960"/>
            <a:chOff x="819000" y="468360"/>
            <a:chExt cx="1212840" cy="2037960"/>
          </a:xfrm>
        </p:grpSpPr>
        <p:sp>
          <p:nvSpPr>
            <p:cNvPr id="372" name=""/>
            <p:cNvSpPr/>
            <p:nvPr/>
          </p:nvSpPr>
          <p:spPr>
            <a:xfrm flipV="1">
              <a:off x="819000" y="482040"/>
              <a:ext cx="604800" cy="17766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118880" y="534600"/>
              <a:ext cx="295200" cy="19414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1432800" y="490320"/>
              <a:ext cx="282600" cy="19814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1415880" y="470880"/>
              <a:ext cx="604800" cy="18147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1117440" y="468360"/>
              <a:ext cx="295200" cy="149832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1423800" y="480600"/>
              <a:ext cx="295200" cy="148572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9000" y="2235240"/>
              <a:ext cx="295200" cy="2476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14200" y="2482920"/>
              <a:ext cx="600120" cy="126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1703160" y="2246040"/>
              <a:ext cx="328680" cy="260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25480" y="1987560"/>
              <a:ext cx="306360" cy="23472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14200" y="1998720"/>
              <a:ext cx="611280" cy="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19000" y="1987200"/>
              <a:ext cx="306360" cy="26028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436760" y="507960"/>
            <a:ext cx="880920" cy="1857240"/>
            <a:chOff x="1436760" y="507960"/>
            <a:chExt cx="880920" cy="1857240"/>
          </a:xfrm>
        </p:grpSpPr>
        <p:grpSp>
          <p:nvGrpSpPr>
            <p:cNvPr id="385" name=""/>
            <p:cNvGrpSpPr/>
            <p:nvPr/>
          </p:nvGrpSpPr>
          <p:grpSpPr>
            <a:xfrm>
              <a:off x="1436760" y="507960"/>
              <a:ext cx="507960" cy="1857240"/>
              <a:chOff x="1436760" y="507960"/>
              <a:chExt cx="507960" cy="1857240"/>
            </a:xfrm>
          </p:grpSpPr>
          <p:sp>
            <p:nvSpPr>
              <p:cNvPr id="386" name=""/>
              <p:cNvSpPr/>
              <p:nvPr/>
            </p:nvSpPr>
            <p:spPr>
              <a:xfrm>
                <a:off x="1436760" y="507960"/>
                <a:ext cx="469440" cy="1857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1866600" y="2155680"/>
                <a:ext cx="39600" cy="56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06200" y="2155680"/>
                <a:ext cx="38520" cy="140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719720" y="942120"/>
              <a:ext cx="597960" cy="556200"/>
              <a:chOff x="1719720" y="942120"/>
              <a:chExt cx="597960" cy="556200"/>
            </a:xfrm>
          </p:grpSpPr>
          <p:sp>
            <p:nvSpPr>
              <p:cNvPr id="390" name=""/>
              <p:cNvSpPr/>
              <p:nvPr/>
            </p:nvSpPr>
            <p:spPr>
              <a:xfrm flipV="1">
                <a:off x="1719720" y="1148760"/>
                <a:ext cx="362160" cy="349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066760" y="942120"/>
                <a:ext cx="25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bcCursive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406600" y="5065560"/>
            <a:ext cx="4197240" cy="1401840"/>
            <a:chOff x="2406600" y="5065560"/>
            <a:chExt cx="4197240" cy="1401840"/>
          </a:xfrm>
        </p:grpSpPr>
        <p:sp>
          <p:nvSpPr>
            <p:cNvPr id="395" name=""/>
            <p:cNvSpPr/>
            <p:nvPr/>
          </p:nvSpPr>
          <p:spPr>
            <a:xfrm>
              <a:off x="4978440" y="5065560"/>
              <a:ext cx="1625400" cy="53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06600" y="5916600"/>
              <a:ext cx="1157400" cy="55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16D1-139E-4FF5-A10E-99236D3EB5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853920" y="272880"/>
            <a:ext cx="31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946240" y="481824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19320" y="5297400"/>
            <a:ext cx="24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= Area of th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48120" y="5675400"/>
            <a:ext cx="11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=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" action="ppaction://hlinkshowjump?jump=firstslide"/>
          </p:cNvPr>
          <p:cNvSpPr/>
          <p:nvPr/>
        </p:nvSpPr>
        <p:spPr>
          <a:xfrm>
            <a:off x="228600" y="22716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" action="ppaction://hlinkshowjump?jump=previousslide"/>
          </p:cNvPr>
          <p:cNvSpPr/>
          <p:nvPr/>
        </p:nvSpPr>
        <p:spPr>
          <a:xfrm>
            <a:off x="228600" y="83664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03400" y="4179960"/>
            <a:ext cx="1436760" cy="56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63560" y="3449520"/>
            <a:ext cx="2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807840" y="1544400"/>
            <a:ext cx="1760040" cy="2130120"/>
            <a:chOff x="807840" y="1544400"/>
            <a:chExt cx="1760040" cy="2130120"/>
          </a:xfrm>
        </p:grpSpPr>
        <p:grpSp>
          <p:nvGrpSpPr>
            <p:cNvPr id="406" name=""/>
            <p:cNvGrpSpPr/>
            <p:nvPr/>
          </p:nvGrpSpPr>
          <p:grpSpPr>
            <a:xfrm>
              <a:off x="807840" y="3080160"/>
              <a:ext cx="1760040" cy="594360"/>
              <a:chOff x="807840" y="3080160"/>
              <a:chExt cx="1760040" cy="594360"/>
            </a:xfrm>
          </p:grpSpPr>
          <p:sp>
            <p:nvSpPr>
              <p:cNvPr id="407" name=""/>
              <p:cNvSpPr/>
              <p:nvPr/>
            </p:nvSpPr>
            <p:spPr>
              <a:xfrm flipV="1">
                <a:off x="1170720" y="3670920"/>
                <a:ext cx="1035720" cy="144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2206800" y="3303000"/>
                <a:ext cx="361080" cy="3715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flipV="1">
                <a:off x="807840" y="3316680"/>
                <a:ext cx="362520" cy="3574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822240" y="3080160"/>
                <a:ext cx="874440" cy="236520"/>
              </a:xfrm>
              <a:prstGeom prst="line">
                <a:avLst/>
              </a:prstGeom>
              <a:ln w="2844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697040" y="3080520"/>
                <a:ext cx="842400" cy="222480"/>
              </a:xfrm>
              <a:prstGeom prst="line">
                <a:avLst/>
              </a:prstGeom>
              <a:ln w="2844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1693440" y="1574280"/>
              <a:ext cx="0" cy="151488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820440" y="1560240"/>
              <a:ext cx="888840" cy="17514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1695240" y="1544400"/>
              <a:ext cx="858600" cy="17672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169280" y="1588320"/>
              <a:ext cx="523800" cy="2079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1695600" y="1560240"/>
              <a:ext cx="511920" cy="21092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1700280" y="1566720"/>
            <a:ext cx="1183320" cy="1930320"/>
            <a:chOff x="1700280" y="1566720"/>
            <a:chExt cx="1183320" cy="1930320"/>
          </a:xfrm>
        </p:grpSpPr>
        <p:grpSp>
          <p:nvGrpSpPr>
            <p:cNvPr id="418" name=""/>
            <p:cNvGrpSpPr/>
            <p:nvPr/>
          </p:nvGrpSpPr>
          <p:grpSpPr>
            <a:xfrm>
              <a:off x="1700280" y="1566720"/>
              <a:ext cx="752400" cy="1930320"/>
              <a:chOff x="1700280" y="1566720"/>
              <a:chExt cx="752400" cy="1930320"/>
            </a:xfrm>
          </p:grpSpPr>
          <p:sp>
            <p:nvSpPr>
              <p:cNvPr id="419" name=""/>
              <p:cNvSpPr/>
              <p:nvPr/>
            </p:nvSpPr>
            <p:spPr>
              <a:xfrm>
                <a:off x="1700280" y="1566720"/>
                <a:ext cx="695160" cy="1930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2336760" y="3279240"/>
                <a:ext cx="58680" cy="58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395440" y="3279600"/>
                <a:ext cx="57240" cy="146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2119320" y="2024640"/>
              <a:ext cx="764280" cy="572040"/>
              <a:chOff x="2119320" y="2024640"/>
              <a:chExt cx="764280" cy="57204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2119320" y="2233080"/>
                <a:ext cx="536400" cy="363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632680" y="2024640"/>
                <a:ext cx="25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bcCursive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1450800" y="1566720"/>
            <a:ext cx="406440" cy="1800360"/>
            <a:chOff x="1450800" y="1566720"/>
            <a:chExt cx="406440" cy="1800360"/>
          </a:xfrm>
        </p:grpSpPr>
        <p:grpSp>
          <p:nvGrpSpPr>
            <p:cNvPr id="426" name=""/>
            <p:cNvGrpSpPr/>
            <p:nvPr/>
          </p:nvGrpSpPr>
          <p:grpSpPr>
            <a:xfrm>
              <a:off x="1698480" y="1566720"/>
              <a:ext cx="158760" cy="1800360"/>
              <a:chOff x="1698480" y="1566720"/>
              <a:chExt cx="158760" cy="1800360"/>
            </a:xfrm>
          </p:grpSpPr>
          <p:sp>
            <p:nvSpPr>
              <p:cNvPr id="427" name=""/>
              <p:cNvSpPr/>
              <p:nvPr/>
            </p:nvSpPr>
            <p:spPr>
              <a:xfrm>
                <a:off x="1698480" y="1566720"/>
                <a:ext cx="0" cy="180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698480" y="3192480"/>
                <a:ext cx="158760" cy="1746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1450800" y="2538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903400" y="4151160"/>
            <a:ext cx="1341000" cy="657360"/>
            <a:chOff x="2903400" y="4151160"/>
            <a:chExt cx="1341000" cy="657360"/>
          </a:xfrm>
        </p:grpSpPr>
        <p:sp>
          <p:nvSpPr>
            <p:cNvPr id="431" name=""/>
            <p:cNvSpPr/>
            <p:nvPr/>
          </p:nvSpPr>
          <p:spPr>
            <a:xfrm>
              <a:off x="2903400" y="423864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89640" y="4206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94480" y="420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3484440" y="4151160"/>
              <a:ext cx="306360" cy="657360"/>
              <a:chOff x="3484440" y="4151160"/>
              <a:chExt cx="306360" cy="657360"/>
            </a:xfrm>
          </p:grpSpPr>
          <p:sp>
            <p:nvSpPr>
              <p:cNvPr id="435" name=""/>
              <p:cNvSpPr/>
              <p:nvPr/>
            </p:nvSpPr>
            <p:spPr>
              <a:xfrm>
                <a:off x="3485880" y="415116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484440" y="44402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514680" y="44701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3ED6-6277-4FA7-8087-53DF598DDC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841320" y="1090440"/>
            <a:ext cx="2046240" cy="13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715080" y="984240"/>
            <a:ext cx="1495440" cy="15238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090960" y="8568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VIEWING PERI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65120" y="27860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900000" y="739800"/>
            <a:ext cx="1103400" cy="2417760"/>
            <a:chOff x="900000" y="739800"/>
            <a:chExt cx="1103400" cy="2417760"/>
          </a:xfrm>
        </p:grpSpPr>
        <p:sp>
          <p:nvSpPr>
            <p:cNvPr id="443" name=""/>
            <p:cNvSpPr/>
            <p:nvPr/>
          </p:nvSpPr>
          <p:spPr>
            <a:xfrm>
              <a:off x="1654200" y="73980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00000" y="2789280"/>
              <a:ext cx="34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1100160" y="1508040"/>
            <a:ext cx="2224080" cy="1660680"/>
            <a:chOff x="1100160" y="1508040"/>
            <a:chExt cx="2224080" cy="1660680"/>
          </a:xfrm>
        </p:grpSpPr>
        <p:sp>
          <p:nvSpPr>
            <p:cNvPr id="446" name=""/>
            <p:cNvSpPr/>
            <p:nvPr/>
          </p:nvSpPr>
          <p:spPr>
            <a:xfrm>
              <a:off x="2887560" y="15080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100160" y="2800440"/>
              <a:ext cx="64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 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635120" y="2363760"/>
            <a:ext cx="582480" cy="803160"/>
            <a:chOff x="1635120" y="2363760"/>
            <a:chExt cx="582480" cy="803160"/>
          </a:xfrm>
        </p:grpSpPr>
        <p:sp>
          <p:nvSpPr>
            <p:cNvPr id="449" name=""/>
            <p:cNvSpPr/>
            <p:nvPr/>
          </p:nvSpPr>
          <p:spPr>
            <a:xfrm>
              <a:off x="1652760" y="236376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35120" y="2798640"/>
              <a:ext cx="58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417600" y="1535040"/>
            <a:ext cx="2263680" cy="1646280"/>
            <a:chOff x="417600" y="1535040"/>
            <a:chExt cx="2263680" cy="1646280"/>
          </a:xfrm>
        </p:grpSpPr>
        <p:sp>
          <p:nvSpPr>
            <p:cNvPr id="452" name=""/>
            <p:cNvSpPr/>
            <p:nvPr/>
          </p:nvSpPr>
          <p:spPr>
            <a:xfrm>
              <a:off x="417600" y="1535040"/>
              <a:ext cx="43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39760" y="2813040"/>
              <a:ext cx="6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 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63680" y="3416400"/>
            <a:ext cx="1598400" cy="384120"/>
            <a:chOff x="463680" y="3416400"/>
            <a:chExt cx="1598400" cy="384120"/>
          </a:xfrm>
        </p:grpSpPr>
        <p:sp>
          <p:nvSpPr>
            <p:cNvPr id="455" name=""/>
            <p:cNvSpPr/>
            <p:nvPr/>
          </p:nvSpPr>
          <p:spPr>
            <a:xfrm>
              <a:off x="463680" y="341640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11160" y="341964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1920" y="3432240"/>
              <a:ext cx="83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 2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463680" y="3073320"/>
            <a:ext cx="2163600" cy="412920"/>
            <a:chOff x="463680" y="3073320"/>
            <a:chExt cx="2163600" cy="412920"/>
          </a:xfrm>
        </p:grpSpPr>
        <p:sp>
          <p:nvSpPr>
            <p:cNvPr id="459" name=""/>
            <p:cNvSpPr/>
            <p:nvPr/>
          </p:nvSpPr>
          <p:spPr>
            <a:xfrm>
              <a:off x="463680" y="30733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25480" y="308916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57320" y="3100320"/>
              <a:ext cx="58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63760" y="3102120"/>
              <a:ext cx="64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 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986120" y="3117960"/>
              <a:ext cx="64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 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5921280" y="28400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6324480" y="654120"/>
            <a:ext cx="1293840" cy="2557440"/>
            <a:chOff x="6324480" y="654120"/>
            <a:chExt cx="1293840" cy="2557440"/>
          </a:xfrm>
        </p:grpSpPr>
        <p:sp>
          <p:nvSpPr>
            <p:cNvPr id="466" name=""/>
            <p:cNvSpPr/>
            <p:nvPr/>
          </p:nvSpPr>
          <p:spPr>
            <a:xfrm>
              <a:off x="7256520" y="6541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24480" y="28432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921360" y="1536840"/>
            <a:ext cx="1667160" cy="1674720"/>
            <a:chOff x="6921360" y="1536840"/>
            <a:chExt cx="1667160" cy="1674720"/>
          </a:xfrm>
        </p:grpSpPr>
        <p:sp>
          <p:nvSpPr>
            <p:cNvPr id="469" name=""/>
            <p:cNvSpPr/>
            <p:nvPr/>
          </p:nvSpPr>
          <p:spPr>
            <a:xfrm>
              <a:off x="6921360" y="2843280"/>
              <a:ext cx="57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26360" y="153684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6659640" y="2233440"/>
            <a:ext cx="1839960" cy="976320"/>
            <a:chOff x="6659640" y="2233440"/>
            <a:chExt cx="1839960" cy="976320"/>
          </a:xfrm>
        </p:grpSpPr>
        <p:sp>
          <p:nvSpPr>
            <p:cNvPr id="472" name=""/>
            <p:cNvSpPr/>
            <p:nvPr/>
          </p:nvSpPr>
          <p:spPr>
            <a:xfrm>
              <a:off x="7920000" y="2841480"/>
              <a:ext cx="57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59640" y="22334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6381720" y="1550880"/>
            <a:ext cx="2467080" cy="1658880"/>
            <a:chOff x="6381720" y="1550880"/>
            <a:chExt cx="2467080" cy="1658880"/>
          </a:xfrm>
        </p:grpSpPr>
        <p:sp>
          <p:nvSpPr>
            <p:cNvPr id="475" name=""/>
            <p:cNvSpPr/>
            <p:nvPr/>
          </p:nvSpPr>
          <p:spPr>
            <a:xfrm>
              <a:off x="6381720" y="1550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9200" y="2841480"/>
              <a:ext cx="57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5921280" y="325116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= 8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7269120" y="2509920"/>
            <a:ext cx="911160" cy="699840"/>
            <a:chOff x="7269120" y="2509920"/>
            <a:chExt cx="911160" cy="699840"/>
          </a:xfrm>
        </p:grpSpPr>
        <p:sp>
          <p:nvSpPr>
            <p:cNvPr id="479" name=""/>
            <p:cNvSpPr/>
            <p:nvPr/>
          </p:nvSpPr>
          <p:spPr>
            <a:xfrm>
              <a:off x="7269120" y="2509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01040" y="284148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7251840" y="2233440"/>
            <a:ext cx="1047600" cy="974880"/>
            <a:chOff x="7251840" y="2233440"/>
            <a:chExt cx="1047600" cy="974880"/>
          </a:xfrm>
        </p:grpSpPr>
        <p:sp>
          <p:nvSpPr>
            <p:cNvPr id="482" name=""/>
            <p:cNvSpPr/>
            <p:nvPr/>
          </p:nvSpPr>
          <p:spPr>
            <a:xfrm>
              <a:off x="7251840" y="284004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937640" y="22334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98400" y="4178160"/>
            <a:ext cx="1997280" cy="1654200"/>
            <a:chOff x="698400" y="4178160"/>
            <a:chExt cx="1997280" cy="1654200"/>
          </a:xfrm>
        </p:grpSpPr>
        <p:sp>
          <p:nvSpPr>
            <p:cNvPr id="485" name=""/>
            <p:cNvSpPr/>
            <p:nvPr/>
          </p:nvSpPr>
          <p:spPr>
            <a:xfrm>
              <a:off x="698400" y="4178160"/>
              <a:ext cx="1944720" cy="1654200"/>
            </a:xfrm>
            <a:prstGeom prst="hexagon">
              <a:avLst>
                <a:gd name="adj" fmla="val 29391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3520" y="428004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1217520" y="595296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= 6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789360" y="4000680"/>
            <a:ext cx="2075040" cy="1785600"/>
            <a:chOff x="3789360" y="4000680"/>
            <a:chExt cx="2075040" cy="1785600"/>
          </a:xfrm>
        </p:grpSpPr>
        <p:sp>
          <p:nvSpPr>
            <p:cNvPr id="489" name=""/>
            <p:cNvSpPr/>
            <p:nvPr/>
          </p:nvSpPr>
          <p:spPr>
            <a:xfrm>
              <a:off x="3789360" y="4000680"/>
              <a:ext cx="2075040" cy="178560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249880" y="40179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4438800" y="59040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= 5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7053120" y="4314960"/>
            <a:ext cx="1738440" cy="1306440"/>
            <a:chOff x="7053120" y="4314960"/>
            <a:chExt cx="1738440" cy="1306440"/>
          </a:xfrm>
        </p:grpSpPr>
        <p:sp>
          <p:nvSpPr>
            <p:cNvPr id="493" name=""/>
            <p:cNvSpPr/>
            <p:nvPr/>
          </p:nvSpPr>
          <p:spPr>
            <a:xfrm>
              <a:off x="7053120" y="4314960"/>
              <a:ext cx="1392480" cy="130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429760" y="47721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4357800" y="800280"/>
            <a:ext cx="1131840" cy="1523880"/>
          </a:xfrm>
          <a:prstGeom prst="triangle">
            <a:avLst>
              <a:gd name="adj" fmla="val 500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033800" y="27385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4311720" y="1320840"/>
            <a:ext cx="520560" cy="1803240"/>
            <a:chOff x="4311720" y="1320840"/>
            <a:chExt cx="520560" cy="1803240"/>
          </a:xfrm>
        </p:grpSpPr>
        <p:sp>
          <p:nvSpPr>
            <p:cNvPr id="498" name=""/>
            <p:cNvSpPr/>
            <p:nvPr/>
          </p:nvSpPr>
          <p:spPr>
            <a:xfrm>
              <a:off x="4311720" y="132084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97480" y="275580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4684680" y="1290600"/>
            <a:ext cx="816120" cy="1830240"/>
            <a:chOff x="4684680" y="1290600"/>
            <a:chExt cx="816120" cy="1830240"/>
          </a:xfrm>
        </p:grpSpPr>
        <p:sp>
          <p:nvSpPr>
            <p:cNvPr id="501" name=""/>
            <p:cNvSpPr/>
            <p:nvPr/>
          </p:nvSpPr>
          <p:spPr>
            <a:xfrm>
              <a:off x="5165640" y="1290600"/>
              <a:ext cx="3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84680" y="2752560"/>
              <a:ext cx="57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743360" y="2290680"/>
            <a:ext cx="854280" cy="830160"/>
            <a:chOff x="4743360" y="2290680"/>
            <a:chExt cx="854280" cy="830160"/>
          </a:xfrm>
        </p:grpSpPr>
        <p:sp>
          <p:nvSpPr>
            <p:cNvPr id="504" name=""/>
            <p:cNvSpPr/>
            <p:nvPr/>
          </p:nvSpPr>
          <p:spPr>
            <a:xfrm>
              <a:off x="4743360" y="2290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18040" y="2752560"/>
              <a:ext cx="57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4037040" y="3119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= 2Y +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415280" y="581832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=4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6643800" y="912960"/>
            <a:ext cx="2528640" cy="2298600"/>
            <a:chOff x="6643800" y="912960"/>
            <a:chExt cx="2528640" cy="2298600"/>
          </a:xfrm>
        </p:grpSpPr>
        <p:sp>
          <p:nvSpPr>
            <p:cNvPr id="509" name=""/>
            <p:cNvSpPr/>
            <p:nvPr/>
          </p:nvSpPr>
          <p:spPr>
            <a:xfrm>
              <a:off x="6643800" y="9129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593200" y="284328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543720" y="882720"/>
            <a:ext cx="1754280" cy="2330280"/>
            <a:chOff x="6543720" y="882720"/>
            <a:chExt cx="1754280" cy="2330280"/>
          </a:xfrm>
        </p:grpSpPr>
        <p:sp>
          <p:nvSpPr>
            <p:cNvPr id="512" name=""/>
            <p:cNvSpPr/>
            <p:nvPr/>
          </p:nvSpPr>
          <p:spPr>
            <a:xfrm>
              <a:off x="7935840" y="8827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43720" y="284472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>
            <a:hlinkClick r:id="" action="ppaction://hlinkshowjump?jump=firstslide"/>
          </p:cNvPr>
          <p:cNvSpPr/>
          <p:nvPr/>
        </p:nvSpPr>
        <p:spPr>
          <a:xfrm>
            <a:off x="228600" y="22716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>
            <a:hlinkClick r:id="" action="ppaction://hlinkshowjump?jump=previousslide"/>
          </p:cNvPr>
          <p:cNvSpPr/>
          <p:nvPr/>
        </p:nvSpPr>
        <p:spPr>
          <a:xfrm>
            <a:off x="228600" y="83664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684-87C5-469D-9455-E485A843EB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>
            <a:hlinkClick r:id="" action="ppaction://hlinkshowjump?jump=firstslide"/>
          </p:cNvPr>
          <p:cNvSpPr/>
          <p:nvPr/>
        </p:nvSpPr>
        <p:spPr>
          <a:xfrm>
            <a:off x="165240" y="22716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>
            <a:hlinkClick r:id="" action="ppaction://hlinkshowjump?jump=previousslide"/>
          </p:cNvPr>
          <p:cNvSpPr/>
          <p:nvPr/>
        </p:nvSpPr>
        <p:spPr>
          <a:xfrm>
            <a:off x="165240" y="83664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54200" y="417600"/>
            <a:ext cx="83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d the lateral area and the surface area  and volume of a right pyramid whose slant height is 9 in and whose height is 7 in. Its base is an equilateral triangle whose side is 10 in. Round your answers to the nearest te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54120" y="1361880"/>
            <a:ext cx="1828800" cy="2254320"/>
            <a:chOff x="654120" y="1361880"/>
            <a:chExt cx="1828800" cy="2254320"/>
          </a:xfrm>
        </p:grpSpPr>
        <p:grpSp>
          <p:nvGrpSpPr>
            <p:cNvPr id="520" name=""/>
            <p:cNvGrpSpPr/>
            <p:nvPr/>
          </p:nvGrpSpPr>
          <p:grpSpPr>
            <a:xfrm>
              <a:off x="654120" y="3036960"/>
              <a:ext cx="1828800" cy="579240"/>
              <a:chOff x="654120" y="3036960"/>
              <a:chExt cx="1828800" cy="579240"/>
            </a:xfrm>
          </p:grpSpPr>
          <p:sp>
            <p:nvSpPr>
              <p:cNvPr id="521" name=""/>
              <p:cNvSpPr/>
              <p:nvPr/>
            </p:nvSpPr>
            <p:spPr>
              <a:xfrm flipV="1">
                <a:off x="654120" y="3036960"/>
                <a:ext cx="1146240" cy="5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786320" y="3036960"/>
                <a:ext cx="696600" cy="5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68520" y="3616200"/>
                <a:ext cx="18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 flipH="1" flipV="1">
              <a:off x="1785960" y="1361880"/>
              <a:ext cx="14400" cy="167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654120" y="1392120"/>
              <a:ext cx="1116000" cy="222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66880" y="1363680"/>
              <a:ext cx="714240" cy="224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668600" y="739800"/>
            <a:ext cx="1117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732120" y="739800"/>
            <a:ext cx="1189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320840" y="358632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900000" y="1422720"/>
            <a:ext cx="870480" cy="2028240"/>
            <a:chOff x="900000" y="1422720"/>
            <a:chExt cx="870480" cy="2028240"/>
          </a:xfrm>
        </p:grpSpPr>
        <p:grpSp>
          <p:nvGrpSpPr>
            <p:cNvPr id="531" name=""/>
            <p:cNvGrpSpPr/>
            <p:nvPr/>
          </p:nvGrpSpPr>
          <p:grpSpPr>
            <a:xfrm>
              <a:off x="1409760" y="1422720"/>
              <a:ext cx="360720" cy="2028240"/>
              <a:chOff x="1409760" y="1422720"/>
              <a:chExt cx="360720" cy="202824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1661760" y="1422720"/>
                <a:ext cx="108720" cy="2028240"/>
              </a:xfrm>
              <a:prstGeom prst="line">
                <a:avLst/>
              </a:prstGeom>
              <a:ln w="28440">
                <a:solidFill>
                  <a:srgbClr val="3333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409760" y="2435400"/>
                <a:ext cx="3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1536840" y="3286800"/>
                <a:ext cx="145080" cy="137880"/>
                <a:chOff x="1536840" y="3286800"/>
                <a:chExt cx="145080" cy="1378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557000" y="3300840"/>
                  <a:ext cx="124920" cy="324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>
                  <a:off x="1536840" y="3286800"/>
                  <a:ext cx="16920" cy="1378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7" name=""/>
            <p:cNvSpPr/>
            <p:nvPr/>
          </p:nvSpPr>
          <p:spPr>
            <a:xfrm>
              <a:off x="900000" y="2438280"/>
              <a:ext cx="74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7 in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79440" y="1415520"/>
            <a:ext cx="1391400" cy="1933200"/>
            <a:chOff x="379440" y="1415520"/>
            <a:chExt cx="1391400" cy="1933200"/>
          </a:xfrm>
        </p:grpSpPr>
        <p:grpSp>
          <p:nvGrpSpPr>
            <p:cNvPr id="539" name=""/>
            <p:cNvGrpSpPr/>
            <p:nvPr/>
          </p:nvGrpSpPr>
          <p:grpSpPr>
            <a:xfrm>
              <a:off x="1175400" y="1415520"/>
              <a:ext cx="595440" cy="1933200"/>
              <a:chOff x="1175400" y="1415520"/>
              <a:chExt cx="595440" cy="1933200"/>
            </a:xfrm>
          </p:grpSpPr>
          <p:sp>
            <p:nvSpPr>
              <p:cNvPr id="540" name=""/>
              <p:cNvSpPr/>
              <p:nvPr/>
            </p:nvSpPr>
            <p:spPr>
              <a:xfrm flipH="1">
                <a:off x="1175400" y="1415520"/>
                <a:ext cx="595440" cy="1933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1223640" y="3152160"/>
                <a:ext cx="58680" cy="3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1239480" y="3152880"/>
                <a:ext cx="42840" cy="146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379440" y="1684440"/>
              <a:ext cx="999360" cy="664560"/>
              <a:chOff x="379440" y="1684440"/>
              <a:chExt cx="999360" cy="66456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919800" y="1748880"/>
                <a:ext cx="459000" cy="600120"/>
                <a:chOff x="919800" y="1748880"/>
                <a:chExt cx="459000" cy="600120"/>
              </a:xfrm>
            </p:grpSpPr>
            <p:sp>
              <p:nvSpPr>
                <p:cNvPr id="545" name=""/>
                <p:cNvSpPr/>
                <p:nvPr/>
              </p:nvSpPr>
              <p:spPr>
                <a:xfrm flipH="1" flipV="1">
                  <a:off x="1117080" y="1986120"/>
                  <a:ext cx="261720" cy="3628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919800" y="1748880"/>
                  <a:ext cx="250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AbcCursive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7" name=""/>
              <p:cNvSpPr/>
              <p:nvPr/>
            </p:nvSpPr>
            <p:spPr>
              <a:xfrm>
                <a:off x="379440" y="1684440"/>
                <a:ext cx="73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9 in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8" name=""/>
          <p:cNvGrpSpPr/>
          <p:nvPr/>
        </p:nvGrpSpPr>
        <p:grpSpPr>
          <a:xfrm>
            <a:off x="2841480" y="2324160"/>
            <a:ext cx="2454480" cy="540360"/>
            <a:chOff x="2841480" y="2324160"/>
            <a:chExt cx="2454480" cy="540360"/>
          </a:xfrm>
        </p:grpSpPr>
        <p:sp>
          <p:nvSpPr>
            <p:cNvPr id="549" name=""/>
            <p:cNvSpPr/>
            <p:nvPr/>
          </p:nvSpPr>
          <p:spPr>
            <a:xfrm>
              <a:off x="2841480" y="242712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Times New Roman"/>
                </a:rPr>
                <a:t>L =      (          )(         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346200" y="2324160"/>
              <a:ext cx="284040" cy="540360"/>
              <a:chOff x="3346200" y="2324160"/>
              <a:chExt cx="284040" cy="540360"/>
            </a:xfrm>
          </p:grpSpPr>
          <p:sp>
            <p:nvSpPr>
              <p:cNvPr id="551" name=""/>
              <p:cNvSpPr/>
              <p:nvPr/>
            </p:nvSpPr>
            <p:spPr>
              <a:xfrm>
                <a:off x="3346200" y="2324160"/>
                <a:ext cx="25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361680" y="2557440"/>
                <a:ext cx="26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377520" y="2600280"/>
                <a:ext cx="236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2824200" y="288612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L =(15 in )(9 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2824200" y="1868400"/>
            <a:ext cx="1217520" cy="540360"/>
            <a:chOff x="2824200" y="1868400"/>
            <a:chExt cx="1217520" cy="540360"/>
          </a:xfrm>
        </p:grpSpPr>
        <p:sp>
          <p:nvSpPr>
            <p:cNvPr id="556" name=""/>
            <p:cNvSpPr/>
            <p:nvPr/>
          </p:nvSpPr>
          <p:spPr>
            <a:xfrm>
              <a:off x="2824200" y="1986120"/>
              <a:ext cx="12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Times New Roman"/>
                </a:rPr>
                <a:t>L =     P</a:t>
              </a:r>
              <a:r>
                <a:rPr b="1" lang="es-MX" sz="1800" spc="-1" strike="noStrike">
                  <a:solidFill>
                    <a:srgbClr val="ff0000"/>
                  </a:solidFill>
                  <a:latin typeface="AbcCursive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3343320" y="1868400"/>
              <a:ext cx="259920" cy="540360"/>
              <a:chOff x="3343320" y="1868400"/>
              <a:chExt cx="259920" cy="540360"/>
            </a:xfrm>
          </p:grpSpPr>
          <p:sp>
            <p:nvSpPr>
              <p:cNvPr id="558" name=""/>
              <p:cNvSpPr/>
              <p:nvPr/>
            </p:nvSpPr>
            <p:spPr>
              <a:xfrm>
                <a:off x="3343320" y="1868400"/>
                <a:ext cx="23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357360" y="2101680"/>
                <a:ext cx="24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371760" y="2144520"/>
                <a:ext cx="217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1" name=""/>
          <p:cNvSpPr/>
          <p:nvPr/>
        </p:nvSpPr>
        <p:spPr>
          <a:xfrm>
            <a:off x="2830680" y="145080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LATERAL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9000" y="410688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ase perime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07880" y="552924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= 3(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44640" y="55306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47760" y="595008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= 30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17440" y="4497480"/>
            <a:ext cx="2133720" cy="978120"/>
            <a:chOff x="217440" y="4497480"/>
            <a:chExt cx="2133720" cy="978120"/>
          </a:xfrm>
        </p:grpSpPr>
        <p:sp>
          <p:nvSpPr>
            <p:cNvPr id="567" name=""/>
            <p:cNvSpPr/>
            <p:nvPr/>
          </p:nvSpPr>
          <p:spPr>
            <a:xfrm>
              <a:off x="217440" y="4623120"/>
              <a:ext cx="1830240" cy="550800"/>
            </a:xfrm>
            <a:prstGeom prst="triangle">
              <a:avLst>
                <a:gd name="adj" fmla="val 63486"/>
              </a:avLst>
            </a:prstGeom>
            <a:solidFill>
              <a:srgbClr val="99cc00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66720" y="458640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7480" y="449748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39880" y="510732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3714840" y="24526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778880" y="59659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7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2844720" y="3308400"/>
            <a:ext cx="1407960" cy="396720"/>
            <a:chOff x="2844720" y="3308400"/>
            <a:chExt cx="1407960" cy="396720"/>
          </a:xfrm>
        </p:grpSpPr>
        <p:sp>
          <p:nvSpPr>
            <p:cNvPr id="574" name=""/>
            <p:cNvSpPr/>
            <p:nvPr/>
          </p:nvSpPr>
          <p:spPr>
            <a:xfrm>
              <a:off x="2844720" y="3336840"/>
              <a:ext cx="14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L = 135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975120" y="3308400"/>
              <a:ext cx="26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735280" y="3979800"/>
            <a:ext cx="15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ase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381400" y="4438800"/>
            <a:ext cx="2598480" cy="1672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425760" y="625464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833560" y="5211720"/>
            <a:ext cx="822240" cy="448200"/>
            <a:chOff x="2833560" y="5211720"/>
            <a:chExt cx="822240" cy="448200"/>
          </a:xfrm>
        </p:grpSpPr>
        <p:sp>
          <p:nvSpPr>
            <p:cNvPr id="580" name=""/>
            <p:cNvSpPr/>
            <p:nvPr/>
          </p:nvSpPr>
          <p:spPr>
            <a:xfrm>
              <a:off x="2833560" y="52117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3298680" y="5261040"/>
              <a:ext cx="357120" cy="398880"/>
              <a:chOff x="3298680" y="5261040"/>
              <a:chExt cx="357120" cy="398880"/>
            </a:xfrm>
          </p:grpSpPr>
          <p:grpSp>
            <p:nvGrpSpPr>
              <p:cNvPr id="582" name=""/>
              <p:cNvGrpSpPr/>
              <p:nvPr/>
            </p:nvGrpSpPr>
            <p:grpSpPr>
              <a:xfrm>
                <a:off x="3298680" y="5261040"/>
                <a:ext cx="357120" cy="263520"/>
                <a:chOff x="3298680" y="5261040"/>
                <a:chExt cx="357120" cy="263520"/>
              </a:xfrm>
            </p:grpSpPr>
            <p:sp>
              <p:nvSpPr>
                <p:cNvPr id="583" name=""/>
                <p:cNvSpPr/>
                <p:nvPr/>
              </p:nvSpPr>
              <p:spPr>
                <a:xfrm flipV="1">
                  <a:off x="3319560" y="5261040"/>
                  <a:ext cx="0" cy="26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319560" y="5261040"/>
                  <a:ext cx="336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 flipV="1">
                  <a:off x="3298680" y="5471640"/>
                  <a:ext cx="20880" cy="5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V="1">
                  <a:off x="3655800" y="5261040"/>
                  <a:ext cx="0" cy="5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"/>
              <p:cNvSpPr/>
              <p:nvPr/>
            </p:nvSpPr>
            <p:spPr>
              <a:xfrm>
                <a:off x="3343320" y="5261040"/>
                <a:ext cx="22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8" name=""/>
          <p:cNvGrpSpPr/>
          <p:nvPr/>
        </p:nvGrpSpPr>
        <p:grpSpPr>
          <a:xfrm>
            <a:off x="3678120" y="4427640"/>
            <a:ext cx="155520" cy="1698120"/>
            <a:chOff x="3678120" y="4427640"/>
            <a:chExt cx="155520" cy="1698120"/>
          </a:xfrm>
        </p:grpSpPr>
        <p:sp>
          <p:nvSpPr>
            <p:cNvPr id="589" name=""/>
            <p:cNvSpPr/>
            <p:nvPr/>
          </p:nvSpPr>
          <p:spPr>
            <a:xfrm>
              <a:off x="3678120" y="4427640"/>
              <a:ext cx="0" cy="169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78120" y="5911200"/>
              <a:ext cx="155520" cy="198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700440" y="6299280"/>
            <a:ext cx="1303200" cy="544320"/>
            <a:chOff x="3700440" y="6299280"/>
            <a:chExt cx="1303200" cy="544320"/>
          </a:xfrm>
        </p:grpSpPr>
        <p:sp>
          <p:nvSpPr>
            <p:cNvPr id="592" name=""/>
            <p:cNvSpPr/>
            <p:nvPr/>
          </p:nvSpPr>
          <p:spPr>
            <a:xfrm>
              <a:off x="3700440" y="6546960"/>
              <a:ext cx="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03640" y="654192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774960" y="6661080"/>
              <a:ext cx="11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194000" y="629928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6824520" y="1343160"/>
            <a:ext cx="822240" cy="448200"/>
            <a:chOff x="6824520" y="1343160"/>
            <a:chExt cx="822240" cy="448200"/>
          </a:xfrm>
        </p:grpSpPr>
        <p:sp>
          <p:nvSpPr>
            <p:cNvPr id="597" name=""/>
            <p:cNvSpPr/>
            <p:nvPr/>
          </p:nvSpPr>
          <p:spPr>
            <a:xfrm>
              <a:off x="6824520" y="13431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7289640" y="1392480"/>
              <a:ext cx="357120" cy="398880"/>
              <a:chOff x="7289640" y="1392480"/>
              <a:chExt cx="357120" cy="398880"/>
            </a:xfrm>
          </p:grpSpPr>
          <p:grpSp>
            <p:nvGrpSpPr>
              <p:cNvPr id="599" name=""/>
              <p:cNvGrpSpPr/>
              <p:nvPr/>
            </p:nvGrpSpPr>
            <p:grpSpPr>
              <a:xfrm>
                <a:off x="7289640" y="1392480"/>
                <a:ext cx="357120" cy="263520"/>
                <a:chOff x="7289640" y="1392480"/>
                <a:chExt cx="357120" cy="263520"/>
              </a:xfrm>
            </p:grpSpPr>
            <p:sp>
              <p:nvSpPr>
                <p:cNvPr id="600" name=""/>
                <p:cNvSpPr/>
                <p:nvPr/>
              </p:nvSpPr>
              <p:spPr>
                <a:xfrm flipV="1">
                  <a:off x="7310520" y="1392480"/>
                  <a:ext cx="0" cy="26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310520" y="1392480"/>
                  <a:ext cx="336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 flipV="1">
                  <a:off x="7289640" y="1603080"/>
                  <a:ext cx="20880" cy="5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V="1">
                  <a:off x="7646760" y="1392480"/>
                  <a:ext cx="0" cy="5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7334280" y="1392480"/>
                <a:ext cx="22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"/>
          <p:cNvGrpSpPr/>
          <p:nvPr/>
        </p:nvGrpSpPr>
        <p:grpSpPr>
          <a:xfrm>
            <a:off x="5807160" y="1279440"/>
            <a:ext cx="1985760" cy="540360"/>
            <a:chOff x="5807160" y="1279440"/>
            <a:chExt cx="1985760" cy="540360"/>
          </a:xfrm>
        </p:grpSpPr>
        <p:sp>
          <p:nvSpPr>
            <p:cNvPr id="606" name=""/>
            <p:cNvSpPr/>
            <p:nvPr/>
          </p:nvSpPr>
          <p:spPr>
            <a:xfrm>
              <a:off x="5807160" y="1353960"/>
              <a:ext cx="137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B =     (    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6327720" y="1279440"/>
              <a:ext cx="259920" cy="540360"/>
              <a:chOff x="6327720" y="1279440"/>
              <a:chExt cx="259920" cy="540360"/>
            </a:xfrm>
          </p:grpSpPr>
          <p:sp>
            <p:nvSpPr>
              <p:cNvPr id="608" name=""/>
              <p:cNvSpPr/>
              <p:nvPr/>
            </p:nvSpPr>
            <p:spPr>
              <a:xfrm>
                <a:off x="6327720" y="1279440"/>
                <a:ext cx="23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341760" y="1512720"/>
                <a:ext cx="24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356160" y="155556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7023240" y="1339920"/>
              <a:ext cx="769680" cy="4507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024600" y="1782720"/>
            <a:ext cx="1255680" cy="481680"/>
            <a:chOff x="6024600" y="1782720"/>
            <a:chExt cx="1255680" cy="481680"/>
          </a:xfrm>
        </p:grpSpPr>
        <p:sp>
          <p:nvSpPr>
            <p:cNvPr id="613" name=""/>
            <p:cNvSpPr/>
            <p:nvPr/>
          </p:nvSpPr>
          <p:spPr>
            <a:xfrm>
              <a:off x="6024600" y="1819440"/>
              <a:ext cx="60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=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6380280" y="1816200"/>
              <a:ext cx="822240" cy="448200"/>
              <a:chOff x="6380280" y="1816200"/>
              <a:chExt cx="822240" cy="448200"/>
            </a:xfrm>
          </p:grpSpPr>
          <p:sp>
            <p:nvSpPr>
              <p:cNvPr id="615" name=""/>
              <p:cNvSpPr/>
              <p:nvPr/>
            </p:nvSpPr>
            <p:spPr>
              <a:xfrm>
                <a:off x="6380280" y="181620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6" name=""/>
              <p:cNvGrpSpPr/>
              <p:nvPr/>
            </p:nvGrpSpPr>
            <p:grpSpPr>
              <a:xfrm>
                <a:off x="6845400" y="1865520"/>
                <a:ext cx="357120" cy="398880"/>
                <a:chOff x="6845400" y="1865520"/>
                <a:chExt cx="357120" cy="398880"/>
              </a:xfrm>
            </p:grpSpPr>
            <p:grpSp>
              <p:nvGrpSpPr>
                <p:cNvPr id="617" name=""/>
                <p:cNvGrpSpPr/>
                <p:nvPr/>
              </p:nvGrpSpPr>
              <p:grpSpPr>
                <a:xfrm>
                  <a:off x="6845400" y="1865520"/>
                  <a:ext cx="357120" cy="263520"/>
                  <a:chOff x="6845400" y="1865520"/>
                  <a:chExt cx="357120" cy="2635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V="1">
                    <a:off x="6866280" y="1865520"/>
                    <a:ext cx="0" cy="26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6866280" y="1865520"/>
                    <a:ext cx="336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 flipV="1">
                    <a:off x="6845400" y="2076120"/>
                    <a:ext cx="20880" cy="5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V="1">
                    <a:off x="7202520" y="1865520"/>
                    <a:ext cx="0" cy="5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2" name=""/>
                <p:cNvSpPr/>
                <p:nvPr/>
              </p:nvSpPr>
              <p:spPr>
                <a:xfrm>
                  <a:off x="6890040" y="1865520"/>
                  <a:ext cx="22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3" name=""/>
            <p:cNvSpPr/>
            <p:nvPr/>
          </p:nvSpPr>
          <p:spPr>
            <a:xfrm>
              <a:off x="6510240" y="1782720"/>
              <a:ext cx="770040" cy="4507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5587920" y="2840040"/>
            <a:ext cx="29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TOTAL SURFACE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578560" y="3173400"/>
            <a:ext cx="1824120" cy="540360"/>
            <a:chOff x="5578560" y="3173400"/>
            <a:chExt cx="1824120" cy="540360"/>
          </a:xfrm>
        </p:grpSpPr>
        <p:sp>
          <p:nvSpPr>
            <p:cNvPr id="626" name=""/>
            <p:cNvSpPr/>
            <p:nvPr/>
          </p:nvSpPr>
          <p:spPr>
            <a:xfrm>
              <a:off x="5578560" y="3291120"/>
              <a:ext cx="12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333399"/>
                  </a:solidFill>
                  <a:latin typeface="Times New Roman"/>
                </a:rPr>
                <a:t>T =     P</a:t>
              </a:r>
              <a:r>
                <a:rPr b="1" lang="en-US" sz="1800" spc="-1" strike="noStrike">
                  <a:solidFill>
                    <a:srgbClr val="333399"/>
                  </a:solidFill>
                  <a:latin typeface="AbcCursive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6116760" y="3173400"/>
              <a:ext cx="280440" cy="540360"/>
              <a:chOff x="6116760" y="3173400"/>
              <a:chExt cx="280440" cy="540360"/>
            </a:xfrm>
          </p:grpSpPr>
          <p:sp>
            <p:nvSpPr>
              <p:cNvPr id="628" name=""/>
              <p:cNvSpPr/>
              <p:nvPr/>
            </p:nvSpPr>
            <p:spPr>
              <a:xfrm>
                <a:off x="6116760" y="3173400"/>
                <a:ext cx="25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132240" y="3406680"/>
                <a:ext cx="264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3399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147720" y="3449520"/>
                <a:ext cx="2340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6649920" y="3276720"/>
              <a:ext cx="7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+ 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006960" y="2298600"/>
            <a:ext cx="1392480" cy="433440"/>
            <a:chOff x="6006960" y="2298600"/>
            <a:chExt cx="1392480" cy="433440"/>
          </a:xfrm>
        </p:grpSpPr>
        <p:grpSp>
          <p:nvGrpSpPr>
            <p:cNvPr id="633" name=""/>
            <p:cNvGrpSpPr/>
            <p:nvPr/>
          </p:nvGrpSpPr>
          <p:grpSpPr>
            <a:xfrm>
              <a:off x="6006960" y="2298600"/>
              <a:ext cx="939960" cy="433440"/>
              <a:chOff x="6006960" y="2298600"/>
              <a:chExt cx="939960" cy="433440"/>
            </a:xfrm>
          </p:grpSpPr>
          <p:sp>
            <p:nvSpPr>
              <p:cNvPr id="634" name=""/>
              <p:cNvSpPr/>
              <p:nvPr/>
            </p:nvSpPr>
            <p:spPr>
              <a:xfrm>
                <a:off x="6006960" y="2298600"/>
                <a:ext cx="725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= 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6589440" y="2333160"/>
                <a:ext cx="357480" cy="398880"/>
                <a:chOff x="6589440" y="2333160"/>
                <a:chExt cx="357480" cy="39888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6589440" y="2333160"/>
                  <a:ext cx="357480" cy="263520"/>
                  <a:chOff x="6589440" y="2333160"/>
                  <a:chExt cx="357480" cy="26352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flipV="1">
                    <a:off x="6610320" y="2333160"/>
                    <a:ext cx="0" cy="26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6610320" y="2333160"/>
                    <a:ext cx="336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 flipV="1">
                    <a:off x="6589440" y="2543760"/>
                    <a:ext cx="20880" cy="5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V="1">
                    <a:off x="6946920" y="2333160"/>
                    <a:ext cx="0" cy="5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1" name=""/>
                <p:cNvSpPr/>
                <p:nvPr/>
              </p:nvSpPr>
              <p:spPr>
                <a:xfrm>
                  <a:off x="6634080" y="2333160"/>
                  <a:ext cx="22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2" name=""/>
            <p:cNvGrpSpPr/>
            <p:nvPr/>
          </p:nvGrpSpPr>
          <p:grpSpPr>
            <a:xfrm>
              <a:off x="6953400" y="2325600"/>
              <a:ext cx="446040" cy="385560"/>
              <a:chOff x="6953400" y="2325600"/>
              <a:chExt cx="446040" cy="385560"/>
            </a:xfrm>
          </p:grpSpPr>
          <p:sp>
            <p:nvSpPr>
              <p:cNvPr id="643" name=""/>
              <p:cNvSpPr/>
              <p:nvPr/>
            </p:nvSpPr>
            <p:spPr>
              <a:xfrm>
                <a:off x="6953400" y="2342880"/>
                <a:ext cx="40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37360" y="2325600"/>
                <a:ext cx="262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" name=""/>
          <p:cNvGrpSpPr/>
          <p:nvPr/>
        </p:nvGrpSpPr>
        <p:grpSpPr>
          <a:xfrm>
            <a:off x="5645160" y="4143240"/>
            <a:ext cx="2351160" cy="368280"/>
            <a:chOff x="5645160" y="4143240"/>
            <a:chExt cx="2351160" cy="368280"/>
          </a:xfrm>
        </p:grpSpPr>
        <p:sp>
          <p:nvSpPr>
            <p:cNvPr id="646" name=""/>
            <p:cNvSpPr/>
            <p:nvPr/>
          </p:nvSpPr>
          <p:spPr>
            <a:xfrm>
              <a:off x="5645160" y="4143240"/>
              <a:ext cx="235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T = 135 in   + 43.3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02480" y="4144680"/>
              <a:ext cx="26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704000" y="4143240"/>
              <a:ext cx="26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5692680" y="3678120"/>
            <a:ext cx="2476440" cy="462240"/>
            <a:chOff x="5692680" y="3678120"/>
            <a:chExt cx="2476440" cy="462240"/>
          </a:xfrm>
        </p:grpSpPr>
        <p:grpSp>
          <p:nvGrpSpPr>
            <p:cNvPr id="650" name=""/>
            <p:cNvGrpSpPr/>
            <p:nvPr/>
          </p:nvGrpSpPr>
          <p:grpSpPr>
            <a:xfrm>
              <a:off x="5692680" y="3678120"/>
              <a:ext cx="2476440" cy="462240"/>
              <a:chOff x="5692680" y="3678120"/>
              <a:chExt cx="2476440" cy="462240"/>
            </a:xfrm>
          </p:grpSpPr>
          <p:sp>
            <p:nvSpPr>
              <p:cNvPr id="651" name=""/>
              <p:cNvSpPr/>
              <p:nvPr/>
            </p:nvSpPr>
            <p:spPr>
              <a:xfrm>
                <a:off x="5692680" y="3708000"/>
                <a:ext cx="1203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Times New Roman"/>
                  </a:rPr>
                  <a:t>T = 135 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2" name=""/>
              <p:cNvGrpSpPr/>
              <p:nvPr/>
            </p:nvGrpSpPr>
            <p:grpSpPr>
              <a:xfrm>
                <a:off x="6777000" y="3706560"/>
                <a:ext cx="939960" cy="433800"/>
                <a:chOff x="6777000" y="3706560"/>
                <a:chExt cx="939960" cy="43380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6777000" y="3706560"/>
                  <a:ext cx="725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333399"/>
                      </a:solidFill>
                      <a:latin typeface="Times New Roman"/>
                    </a:rPr>
                    <a:t>+</a:t>
                  </a:r>
                  <a:r>
                    <a:rPr b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s-MX" sz="1800" spc="-1" strike="noStrike">
                      <a:solidFill>
                        <a:srgbClr val="333399"/>
                      </a:solidFill>
                      <a:latin typeface="Times New Roman"/>
                    </a:rPr>
                    <a:t>2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4" name=""/>
                <p:cNvGrpSpPr/>
                <p:nvPr/>
              </p:nvGrpSpPr>
              <p:grpSpPr>
                <a:xfrm>
                  <a:off x="7359480" y="3741120"/>
                  <a:ext cx="357480" cy="399240"/>
                  <a:chOff x="7359480" y="3741120"/>
                  <a:chExt cx="357480" cy="399240"/>
                </a:xfrm>
              </p:grpSpPr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7359480" y="3741120"/>
                    <a:ext cx="357480" cy="263880"/>
                    <a:chOff x="7359480" y="3741120"/>
                    <a:chExt cx="357480" cy="26388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flipV="1">
                      <a:off x="7380360" y="3741120"/>
                      <a:ext cx="0" cy="263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7380360" y="3741480"/>
                      <a:ext cx="3366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 flipH="1" flipV="1">
                      <a:off x="7359480" y="3952440"/>
                      <a:ext cx="20880" cy="525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 flipV="1">
                      <a:off x="7716960" y="3741480"/>
                      <a:ext cx="0" cy="525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0" name=""/>
                  <p:cNvSpPr/>
                  <p:nvPr/>
                </p:nvSpPr>
                <p:spPr>
                  <a:xfrm>
                    <a:off x="7404120" y="3741480"/>
                    <a:ext cx="223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2000" spc="-1" strike="noStrike">
                        <a:solidFill>
                          <a:srgbClr val="333399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1" name=""/>
              <p:cNvGrpSpPr/>
              <p:nvPr/>
            </p:nvGrpSpPr>
            <p:grpSpPr>
              <a:xfrm>
                <a:off x="7723080" y="3678120"/>
                <a:ext cx="446040" cy="385560"/>
                <a:chOff x="7723080" y="3678120"/>
                <a:chExt cx="446040" cy="38556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7723080" y="3695400"/>
                  <a:ext cx="406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Times New Roman"/>
                    </a:rPr>
                    <a:t>i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907040" y="3678120"/>
                  <a:ext cx="262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99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4" name=""/>
            <p:cNvSpPr/>
            <p:nvPr/>
          </p:nvSpPr>
          <p:spPr>
            <a:xfrm>
              <a:off x="6702480" y="3679560"/>
              <a:ext cx="26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5646600" y="4549680"/>
            <a:ext cx="1481400" cy="414360"/>
            <a:chOff x="5646600" y="4549680"/>
            <a:chExt cx="1481400" cy="414360"/>
          </a:xfrm>
        </p:grpSpPr>
        <p:sp>
          <p:nvSpPr>
            <p:cNvPr id="666" name=""/>
            <p:cNvSpPr/>
            <p:nvPr/>
          </p:nvSpPr>
          <p:spPr>
            <a:xfrm>
              <a:off x="5646600" y="4595760"/>
              <a:ext cx="14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T = 178.3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1240" y="4549680"/>
              <a:ext cx="26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3672000" y="4441680"/>
            <a:ext cx="1306440" cy="1684440"/>
          </a:xfrm>
          <a:prstGeom prst="rtTriangle">
            <a:avLst/>
          </a:prstGeom>
          <a:solidFill>
            <a:srgbClr val="008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770040" y="754200"/>
            <a:ext cx="8170920" cy="534960"/>
            <a:chOff x="770040" y="754200"/>
            <a:chExt cx="8170920" cy="534960"/>
          </a:xfrm>
        </p:grpSpPr>
        <p:sp>
          <p:nvSpPr>
            <p:cNvPr id="670" name=""/>
            <p:cNvSpPr/>
            <p:nvPr/>
          </p:nvSpPr>
          <p:spPr>
            <a:xfrm>
              <a:off x="6672240" y="754200"/>
              <a:ext cx="226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70040" y="1030320"/>
              <a:ext cx="812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20800" y="1289160"/>
              <a:ext cx="113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5415120" y="739800"/>
            <a:ext cx="75708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75400" y="5064120"/>
            <a:ext cx="13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Times New Roman"/>
              </a:rPr>
              <a:t>VOL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5448240" y="5342040"/>
            <a:ext cx="1617120" cy="657360"/>
            <a:chOff x="5448240" y="5342040"/>
            <a:chExt cx="1617120" cy="657360"/>
          </a:xfrm>
        </p:grpSpPr>
        <p:sp>
          <p:nvSpPr>
            <p:cNvPr id="676" name=""/>
            <p:cNvSpPr/>
            <p:nvPr/>
          </p:nvSpPr>
          <p:spPr>
            <a:xfrm>
              <a:off x="5448240" y="542916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</a:rPr>
                <a:t>V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469200" y="5411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15440" y="5413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6289560" y="5342040"/>
              <a:ext cx="306360" cy="657360"/>
              <a:chOff x="6289560" y="5342040"/>
              <a:chExt cx="306360" cy="657360"/>
            </a:xfrm>
          </p:grpSpPr>
          <p:sp>
            <p:nvSpPr>
              <p:cNvPr id="680" name=""/>
              <p:cNvSpPr/>
              <p:nvPr/>
            </p:nvSpPr>
            <p:spPr>
              <a:xfrm>
                <a:off x="6291000" y="53420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89560" y="56311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66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319800" y="5661000"/>
                <a:ext cx="217440" cy="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"/>
          <p:cNvGrpSpPr/>
          <p:nvPr/>
        </p:nvGrpSpPr>
        <p:grpSpPr>
          <a:xfrm>
            <a:off x="5432400" y="5832360"/>
            <a:ext cx="3255840" cy="657360"/>
            <a:chOff x="5432400" y="5832360"/>
            <a:chExt cx="3255840" cy="657360"/>
          </a:xfrm>
        </p:grpSpPr>
        <p:grpSp>
          <p:nvGrpSpPr>
            <p:cNvPr id="684" name=""/>
            <p:cNvGrpSpPr/>
            <p:nvPr/>
          </p:nvGrpSpPr>
          <p:grpSpPr>
            <a:xfrm>
              <a:off x="5432400" y="5832360"/>
              <a:ext cx="1160640" cy="657360"/>
              <a:chOff x="5432400" y="5832360"/>
              <a:chExt cx="1160640" cy="657360"/>
            </a:xfrm>
          </p:grpSpPr>
          <p:sp>
            <p:nvSpPr>
              <p:cNvPr id="685" name=""/>
              <p:cNvSpPr/>
              <p:nvPr/>
            </p:nvSpPr>
            <p:spPr>
              <a:xfrm>
                <a:off x="5432400" y="5919840"/>
                <a:ext cx="1160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66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6" name=""/>
              <p:cNvGrpSpPr/>
              <p:nvPr/>
            </p:nvGrpSpPr>
            <p:grpSpPr>
              <a:xfrm>
                <a:off x="6273720" y="5832360"/>
                <a:ext cx="306360" cy="657360"/>
                <a:chOff x="6273720" y="5832360"/>
                <a:chExt cx="306360" cy="65736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6275160" y="5832360"/>
                  <a:ext cx="304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660066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6273720" y="6121440"/>
                  <a:ext cx="304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660066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303960" y="6151320"/>
                  <a:ext cx="217440" cy="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0" name=""/>
            <p:cNvSpPr/>
            <p:nvPr/>
          </p:nvSpPr>
          <p:spPr>
            <a:xfrm>
              <a:off x="6408720" y="5937120"/>
              <a:ext cx="22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Times New Roman"/>
                </a:rPr>
                <a:t>(                  )(         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381720" y="5952960"/>
            <a:ext cx="1391400" cy="433440"/>
            <a:chOff x="6381720" y="5952960"/>
            <a:chExt cx="1391400" cy="433440"/>
          </a:xfrm>
        </p:grpSpPr>
        <p:grpSp>
          <p:nvGrpSpPr>
            <p:cNvPr id="692" name=""/>
            <p:cNvGrpSpPr/>
            <p:nvPr/>
          </p:nvGrpSpPr>
          <p:grpSpPr>
            <a:xfrm>
              <a:off x="6381720" y="5952960"/>
              <a:ext cx="939240" cy="433440"/>
              <a:chOff x="6381720" y="5952960"/>
              <a:chExt cx="939240" cy="433440"/>
            </a:xfrm>
          </p:grpSpPr>
          <p:sp>
            <p:nvSpPr>
              <p:cNvPr id="693" name=""/>
              <p:cNvSpPr/>
              <p:nvPr/>
            </p:nvSpPr>
            <p:spPr>
              <a:xfrm>
                <a:off x="6381720" y="595296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4" name=""/>
              <p:cNvGrpSpPr/>
              <p:nvPr/>
            </p:nvGrpSpPr>
            <p:grpSpPr>
              <a:xfrm>
                <a:off x="6963840" y="5987520"/>
                <a:ext cx="357120" cy="398880"/>
                <a:chOff x="6963840" y="5987520"/>
                <a:chExt cx="357120" cy="398880"/>
              </a:xfrm>
            </p:grpSpPr>
            <p:grpSp>
              <p:nvGrpSpPr>
                <p:cNvPr id="695" name=""/>
                <p:cNvGrpSpPr/>
                <p:nvPr/>
              </p:nvGrpSpPr>
              <p:grpSpPr>
                <a:xfrm>
                  <a:off x="6963840" y="5987520"/>
                  <a:ext cx="357120" cy="263520"/>
                  <a:chOff x="6963840" y="5987520"/>
                  <a:chExt cx="357120" cy="26352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 flipV="1">
                    <a:off x="6984720" y="5987520"/>
                    <a:ext cx="0" cy="26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6984720" y="5987520"/>
                    <a:ext cx="336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flipH="1" flipV="1">
                    <a:off x="6963840" y="6198120"/>
                    <a:ext cx="20880" cy="5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V="1">
                    <a:off x="7320960" y="5987520"/>
                    <a:ext cx="0" cy="5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0" name=""/>
                <p:cNvSpPr/>
                <p:nvPr/>
              </p:nvSpPr>
              <p:spPr>
                <a:xfrm>
                  <a:off x="7008480" y="5987520"/>
                  <a:ext cx="22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1" name=""/>
            <p:cNvGrpSpPr/>
            <p:nvPr/>
          </p:nvGrpSpPr>
          <p:grpSpPr>
            <a:xfrm>
              <a:off x="7327800" y="5979960"/>
              <a:ext cx="445320" cy="385560"/>
              <a:chOff x="7327800" y="5979960"/>
              <a:chExt cx="445320" cy="385560"/>
            </a:xfrm>
          </p:grpSpPr>
          <p:sp>
            <p:nvSpPr>
              <p:cNvPr id="702" name=""/>
              <p:cNvSpPr/>
              <p:nvPr/>
            </p:nvSpPr>
            <p:spPr>
              <a:xfrm>
                <a:off x="7327800" y="5997240"/>
                <a:ext cx="40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11400" y="5979960"/>
                <a:ext cx="261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"/>
          <p:cNvSpPr/>
          <p:nvPr/>
        </p:nvSpPr>
        <p:spPr>
          <a:xfrm>
            <a:off x="4425840" y="243684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9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605560" y="6413400"/>
            <a:ext cx="1523880" cy="384120"/>
            <a:chOff x="5605560" y="6413400"/>
            <a:chExt cx="1523880" cy="384120"/>
          </a:xfrm>
        </p:grpSpPr>
        <p:sp>
          <p:nvSpPr>
            <p:cNvPr id="706" name=""/>
            <p:cNvSpPr/>
            <p:nvPr/>
          </p:nvSpPr>
          <p:spPr>
            <a:xfrm>
              <a:off x="5605560" y="642924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Times New Roman"/>
                </a:rPr>
                <a:t>V      101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821280" y="6413400"/>
              <a:ext cx="26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6099120" y="6548400"/>
              <a:ext cx="137520" cy="99720"/>
              <a:chOff x="6099120" y="6548400"/>
              <a:chExt cx="137520" cy="99720"/>
            </a:xfrm>
          </p:grpSpPr>
          <p:sp>
            <p:nvSpPr>
              <p:cNvPr id="709" name=""/>
              <p:cNvSpPr/>
              <p:nvPr/>
            </p:nvSpPr>
            <p:spPr>
              <a:xfrm>
                <a:off x="6099120" y="6548400"/>
                <a:ext cx="136080" cy="56160"/>
              </a:xfrm>
              <a:custGeom>
                <a:avLst/>
                <a:gdLst/>
                <a:ahLst/>
                <a:rect l="l" t="t" r="r" b="b"/>
                <a:pathLst>
                  <a:path w="402" h="112">
                    <a:moveTo>
                      <a:pt x="0" y="78"/>
                    </a:moveTo>
                    <a:cubicBezTo>
                      <a:pt x="41" y="39"/>
                      <a:pt x="82" y="0"/>
                      <a:pt x="128" y="5"/>
                    </a:cubicBezTo>
                    <a:cubicBezTo>
                      <a:pt x="174" y="10"/>
                      <a:pt x="228" y="100"/>
                      <a:pt x="274" y="106"/>
                    </a:cubicBezTo>
                    <a:cubicBezTo>
                      <a:pt x="320" y="112"/>
                      <a:pt x="361" y="77"/>
                      <a:pt x="402" y="42"/>
                    </a:cubicBezTo>
                  </a:path>
                </a:pathLst>
              </a:custGeom>
              <a:noFill/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100200" y="6591960"/>
                <a:ext cx="136440" cy="56160"/>
              </a:xfrm>
              <a:custGeom>
                <a:avLst/>
                <a:gdLst/>
                <a:ahLst/>
                <a:rect l="l" t="t" r="r" b="b"/>
                <a:pathLst>
                  <a:path w="402" h="112">
                    <a:moveTo>
                      <a:pt x="0" y="78"/>
                    </a:moveTo>
                    <a:cubicBezTo>
                      <a:pt x="41" y="39"/>
                      <a:pt x="82" y="0"/>
                      <a:pt x="128" y="5"/>
                    </a:cubicBezTo>
                    <a:cubicBezTo>
                      <a:pt x="174" y="10"/>
                      <a:pt x="228" y="100"/>
                      <a:pt x="274" y="106"/>
                    </a:cubicBezTo>
                    <a:cubicBezTo>
                      <a:pt x="320" y="112"/>
                      <a:pt x="361" y="77"/>
                      <a:pt x="402" y="42"/>
                    </a:cubicBezTo>
                  </a:path>
                </a:pathLst>
              </a:custGeom>
              <a:noFill/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1" name=""/>
          <p:cNvGrpSpPr/>
          <p:nvPr/>
        </p:nvGrpSpPr>
        <p:grpSpPr>
          <a:xfrm>
            <a:off x="2873520" y="3294000"/>
            <a:ext cx="4249440" cy="3535560"/>
            <a:chOff x="2873520" y="3294000"/>
            <a:chExt cx="4249440" cy="3535560"/>
          </a:xfrm>
        </p:grpSpPr>
        <p:sp>
          <p:nvSpPr>
            <p:cNvPr id="712" name=""/>
            <p:cNvSpPr/>
            <p:nvPr/>
          </p:nvSpPr>
          <p:spPr>
            <a:xfrm>
              <a:off x="2873520" y="3294000"/>
              <a:ext cx="1407960" cy="42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715000" y="4554360"/>
              <a:ext cx="1407960" cy="42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700600" y="6408720"/>
              <a:ext cx="1408320" cy="42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6602400" y="1360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3614760" y="4788000"/>
            <a:ext cx="1258920" cy="1309680"/>
            <a:chOff x="3614760" y="4788000"/>
            <a:chExt cx="1258920" cy="1309680"/>
          </a:xfrm>
        </p:grpSpPr>
        <p:sp>
          <p:nvSpPr>
            <p:cNvPr id="717" name=""/>
            <p:cNvSpPr/>
            <p:nvPr/>
          </p:nvSpPr>
          <p:spPr>
            <a:xfrm>
              <a:off x="3614760" y="4788000"/>
              <a:ext cx="55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322880" y="5729400"/>
              <a:ext cx="55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623880" y="3068640"/>
            <a:ext cx="1830240" cy="550800"/>
          </a:xfrm>
          <a:prstGeom prst="triangle">
            <a:avLst>
              <a:gd name="adj" fmla="val 63486"/>
            </a:avLst>
          </a:prstGeom>
          <a:solidFill>
            <a:srgbClr val="99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78F-0D70-4A24-861A-F882BD331B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>
            <a:hlinkClick r:id="" action="ppaction://hlinkshowjump?jump=firstslide"/>
          </p:cNvPr>
          <p:cNvSpPr/>
          <p:nvPr/>
        </p:nvSpPr>
        <p:spPr>
          <a:xfrm>
            <a:off x="165240" y="22716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>
            <a:hlinkClick r:id="" action="ppaction://hlinkshowjump?jump=previousslide"/>
          </p:cNvPr>
          <p:cNvSpPr/>
          <p:nvPr/>
        </p:nvSpPr>
        <p:spPr>
          <a:xfrm>
            <a:off x="165240" y="83664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668600" y="739800"/>
            <a:ext cx="1263600" cy="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389400" y="739800"/>
            <a:ext cx="1189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828720" y="754200"/>
            <a:ext cx="7611840" cy="261720"/>
            <a:chOff x="828720" y="754200"/>
            <a:chExt cx="7611840" cy="261720"/>
          </a:xfrm>
        </p:grpSpPr>
        <p:sp>
          <p:nvSpPr>
            <p:cNvPr id="725" name=""/>
            <p:cNvSpPr/>
            <p:nvPr/>
          </p:nvSpPr>
          <p:spPr>
            <a:xfrm>
              <a:off x="6172200" y="754200"/>
              <a:ext cx="226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28720" y="1015920"/>
              <a:ext cx="641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5000760" y="739800"/>
            <a:ext cx="75708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89120" y="420840"/>
            <a:ext cx="796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d the lateral area, the surface area and volume of a right pyramid with a height of  26 ft whose base is a regular hexagon with side of   6 ft.  Round your answers to the nearest te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99960" y="340668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6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01600" y="4033800"/>
            <a:ext cx="25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culating base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79600" y="4691160"/>
            <a:ext cx="1811160" cy="1552320"/>
          </a:xfrm>
          <a:prstGeom prst="hexagon">
            <a:avLst>
              <a:gd name="adj" fmla="val 29169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036800" y="5459400"/>
            <a:ext cx="896760" cy="78408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10800000">
            <a:off x="1038240" y="4690800"/>
            <a:ext cx="915840" cy="7650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4419800">
            <a:off x="1380240" y="4885560"/>
            <a:ext cx="897120" cy="78408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10800000">
            <a:off x="1482840" y="5454360"/>
            <a:ext cx="915840" cy="78084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3640" y="4681440"/>
            <a:ext cx="897120" cy="7700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10800000">
            <a:off x="581040" y="5452560"/>
            <a:ext cx="915840" cy="7938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262160" y="5506920"/>
            <a:ext cx="321840" cy="739440"/>
            <a:chOff x="1262160" y="5506920"/>
            <a:chExt cx="321840" cy="739440"/>
          </a:xfrm>
        </p:grpSpPr>
        <p:sp>
          <p:nvSpPr>
            <p:cNvPr id="739" name=""/>
            <p:cNvSpPr/>
            <p:nvPr/>
          </p:nvSpPr>
          <p:spPr>
            <a:xfrm>
              <a:off x="1262160" y="5745240"/>
              <a:ext cx="23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1482480" y="5506920"/>
              <a:ext cx="101520" cy="739440"/>
              <a:chOff x="1482480" y="5506920"/>
              <a:chExt cx="101520" cy="739440"/>
            </a:xfrm>
          </p:grpSpPr>
          <p:sp>
            <p:nvSpPr>
              <p:cNvPr id="741" name=""/>
              <p:cNvSpPr/>
              <p:nvPr/>
            </p:nvSpPr>
            <p:spPr>
              <a:xfrm>
                <a:off x="1482480" y="5506920"/>
                <a:ext cx="0" cy="72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482480" y="6120360"/>
                <a:ext cx="101520" cy="12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3" name=""/>
          <p:cNvSpPr/>
          <p:nvPr/>
        </p:nvSpPr>
        <p:spPr>
          <a:xfrm>
            <a:off x="1552680" y="5137200"/>
            <a:ext cx="5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1720800" y="4797360"/>
            <a:ext cx="695520" cy="730440"/>
            <a:chOff x="1720800" y="4797360"/>
            <a:chExt cx="695520" cy="730440"/>
          </a:xfrm>
        </p:grpSpPr>
        <p:sp>
          <p:nvSpPr>
            <p:cNvPr id="745" name=""/>
            <p:cNvSpPr/>
            <p:nvPr/>
          </p:nvSpPr>
          <p:spPr>
            <a:xfrm>
              <a:off x="1879560" y="5159520"/>
              <a:ext cx="53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720800" y="4797360"/>
              <a:ext cx="53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1360440" y="619776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397160" y="566100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3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515960" y="598788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3186000" y="2319480"/>
            <a:ext cx="1189080" cy="540360"/>
            <a:chOff x="3186000" y="2319480"/>
            <a:chExt cx="1189080" cy="540360"/>
          </a:xfrm>
        </p:grpSpPr>
        <p:sp>
          <p:nvSpPr>
            <p:cNvPr id="751" name=""/>
            <p:cNvSpPr/>
            <p:nvPr/>
          </p:nvSpPr>
          <p:spPr>
            <a:xfrm>
              <a:off x="3186000" y="2394000"/>
              <a:ext cx="11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B =     P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3619440" y="2319480"/>
              <a:ext cx="259920" cy="540360"/>
              <a:chOff x="3619440" y="2319480"/>
              <a:chExt cx="259920" cy="540360"/>
            </a:xfrm>
          </p:grpSpPr>
          <p:sp>
            <p:nvSpPr>
              <p:cNvPr id="753" name=""/>
              <p:cNvSpPr/>
              <p:nvPr/>
            </p:nvSpPr>
            <p:spPr>
              <a:xfrm>
                <a:off x="3619440" y="2319480"/>
                <a:ext cx="23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633480" y="2552760"/>
                <a:ext cx="24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647880" y="259560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6" name=""/>
          <p:cNvGrpSpPr/>
          <p:nvPr/>
        </p:nvGrpSpPr>
        <p:grpSpPr>
          <a:xfrm>
            <a:off x="4378320" y="2860560"/>
            <a:ext cx="822240" cy="448200"/>
            <a:chOff x="4378320" y="2860560"/>
            <a:chExt cx="822240" cy="448200"/>
          </a:xfrm>
        </p:grpSpPr>
        <p:sp>
          <p:nvSpPr>
            <p:cNvPr id="757" name=""/>
            <p:cNvSpPr/>
            <p:nvPr/>
          </p:nvSpPr>
          <p:spPr>
            <a:xfrm>
              <a:off x="4378320" y="28605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4843440" y="2909880"/>
              <a:ext cx="357120" cy="398880"/>
              <a:chOff x="4843440" y="2909880"/>
              <a:chExt cx="357120" cy="398880"/>
            </a:xfrm>
          </p:grpSpPr>
          <p:grpSp>
            <p:nvGrpSpPr>
              <p:cNvPr id="759" name=""/>
              <p:cNvGrpSpPr/>
              <p:nvPr/>
            </p:nvGrpSpPr>
            <p:grpSpPr>
              <a:xfrm>
                <a:off x="4843440" y="2909880"/>
                <a:ext cx="357120" cy="263520"/>
                <a:chOff x="4843440" y="2909880"/>
                <a:chExt cx="357120" cy="263520"/>
              </a:xfrm>
            </p:grpSpPr>
            <p:sp>
              <p:nvSpPr>
                <p:cNvPr id="760" name=""/>
                <p:cNvSpPr/>
                <p:nvPr/>
              </p:nvSpPr>
              <p:spPr>
                <a:xfrm flipV="1">
                  <a:off x="4864320" y="2909880"/>
                  <a:ext cx="0" cy="26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864320" y="2909880"/>
                  <a:ext cx="336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H="1" flipV="1">
                  <a:off x="4843440" y="3120480"/>
                  <a:ext cx="20880" cy="5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V="1">
                  <a:off x="5200560" y="2909880"/>
                  <a:ext cx="0" cy="5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4" name=""/>
              <p:cNvSpPr/>
              <p:nvPr/>
            </p:nvSpPr>
            <p:spPr>
              <a:xfrm>
                <a:off x="4888080" y="2909880"/>
                <a:ext cx="22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5" name=""/>
          <p:cNvSpPr/>
          <p:nvPr/>
        </p:nvSpPr>
        <p:spPr>
          <a:xfrm>
            <a:off x="3908520" y="287352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3162240" y="2813040"/>
            <a:ext cx="2106720" cy="540000"/>
            <a:chOff x="3162240" y="2813040"/>
            <a:chExt cx="2106720" cy="540000"/>
          </a:xfrm>
        </p:grpSpPr>
        <p:sp>
          <p:nvSpPr>
            <p:cNvPr id="767" name=""/>
            <p:cNvSpPr/>
            <p:nvPr/>
          </p:nvSpPr>
          <p:spPr>
            <a:xfrm>
              <a:off x="3162240" y="2857320"/>
              <a:ext cx="58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B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3601800" y="2813040"/>
              <a:ext cx="284040" cy="540000"/>
              <a:chOff x="3601800" y="2813040"/>
              <a:chExt cx="284040" cy="540000"/>
            </a:xfrm>
          </p:grpSpPr>
          <p:sp>
            <p:nvSpPr>
              <p:cNvPr id="769" name=""/>
              <p:cNvSpPr/>
              <p:nvPr/>
            </p:nvSpPr>
            <p:spPr>
              <a:xfrm>
                <a:off x="3601800" y="2813040"/>
                <a:ext cx="25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617280" y="3045960"/>
                <a:ext cx="26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633120" y="3088800"/>
                <a:ext cx="236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3943080" y="2916000"/>
              <a:ext cx="498600" cy="2905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502160" y="2916000"/>
              <a:ext cx="766800" cy="260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3355920" y="3282840"/>
            <a:ext cx="1633320" cy="448200"/>
            <a:chOff x="3355920" y="3282840"/>
            <a:chExt cx="1633320" cy="448200"/>
          </a:xfrm>
        </p:grpSpPr>
        <p:grpSp>
          <p:nvGrpSpPr>
            <p:cNvPr id="775" name=""/>
            <p:cNvGrpSpPr/>
            <p:nvPr/>
          </p:nvGrpSpPr>
          <p:grpSpPr>
            <a:xfrm>
              <a:off x="4098960" y="3282840"/>
              <a:ext cx="822240" cy="448200"/>
              <a:chOff x="4098960" y="3282840"/>
              <a:chExt cx="822240" cy="448200"/>
            </a:xfrm>
          </p:grpSpPr>
          <p:sp>
            <p:nvSpPr>
              <p:cNvPr id="776" name=""/>
              <p:cNvSpPr/>
              <p:nvPr/>
            </p:nvSpPr>
            <p:spPr>
              <a:xfrm>
                <a:off x="4098960" y="328284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7" name=""/>
              <p:cNvGrpSpPr/>
              <p:nvPr/>
            </p:nvGrpSpPr>
            <p:grpSpPr>
              <a:xfrm>
                <a:off x="4564080" y="3332160"/>
                <a:ext cx="357120" cy="398880"/>
                <a:chOff x="4564080" y="3332160"/>
                <a:chExt cx="357120" cy="398880"/>
              </a:xfrm>
            </p:grpSpPr>
            <p:grpSp>
              <p:nvGrpSpPr>
                <p:cNvPr id="778" name=""/>
                <p:cNvGrpSpPr/>
                <p:nvPr/>
              </p:nvGrpSpPr>
              <p:grpSpPr>
                <a:xfrm>
                  <a:off x="4564080" y="3332160"/>
                  <a:ext cx="357120" cy="263520"/>
                  <a:chOff x="4564080" y="3332160"/>
                  <a:chExt cx="357120" cy="26352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 flipV="1">
                    <a:off x="4584960" y="3332160"/>
                    <a:ext cx="0" cy="26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4584960" y="3332160"/>
                    <a:ext cx="336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 flipV="1">
                    <a:off x="4564080" y="3542760"/>
                    <a:ext cx="20880" cy="5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V="1">
                    <a:off x="4921200" y="3332160"/>
                    <a:ext cx="0" cy="5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3" name=""/>
                <p:cNvSpPr/>
                <p:nvPr/>
              </p:nvSpPr>
              <p:spPr>
                <a:xfrm>
                  <a:off x="4608720" y="3332160"/>
                  <a:ext cx="22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4" name=""/>
            <p:cNvSpPr/>
            <p:nvPr/>
          </p:nvSpPr>
          <p:spPr>
            <a:xfrm>
              <a:off x="3657600" y="3319200"/>
              <a:ext cx="506160" cy="33336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189320" y="3308040"/>
              <a:ext cx="799920" cy="36216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736800" y="3287520"/>
              <a:ext cx="46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5920" y="328752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3176640" y="3751200"/>
            <a:ext cx="1771560" cy="495360"/>
            <a:chOff x="3176640" y="3751200"/>
            <a:chExt cx="1771560" cy="495360"/>
          </a:xfrm>
        </p:grpSpPr>
        <p:grpSp>
          <p:nvGrpSpPr>
            <p:cNvPr id="789" name=""/>
            <p:cNvGrpSpPr/>
            <p:nvPr/>
          </p:nvGrpSpPr>
          <p:grpSpPr>
            <a:xfrm>
              <a:off x="3176640" y="3795480"/>
              <a:ext cx="1101600" cy="451080"/>
              <a:chOff x="3176640" y="3795480"/>
              <a:chExt cx="1101600" cy="451080"/>
            </a:xfrm>
          </p:grpSpPr>
          <p:sp>
            <p:nvSpPr>
              <p:cNvPr id="790" name=""/>
              <p:cNvSpPr/>
              <p:nvPr/>
            </p:nvSpPr>
            <p:spPr>
              <a:xfrm>
                <a:off x="3176640" y="3795480"/>
                <a:ext cx="56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B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"/>
              <p:cNvGrpSpPr/>
              <p:nvPr/>
            </p:nvGrpSpPr>
            <p:grpSpPr>
              <a:xfrm>
                <a:off x="3456000" y="3798360"/>
                <a:ext cx="822240" cy="448200"/>
                <a:chOff x="3456000" y="3798360"/>
                <a:chExt cx="822240" cy="44820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3456000" y="3798360"/>
                  <a:ext cx="637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5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3" name=""/>
                <p:cNvGrpSpPr/>
                <p:nvPr/>
              </p:nvGrpSpPr>
              <p:grpSpPr>
                <a:xfrm>
                  <a:off x="3921120" y="3847680"/>
                  <a:ext cx="357120" cy="398880"/>
                  <a:chOff x="3921120" y="3847680"/>
                  <a:chExt cx="357120" cy="398880"/>
                </a:xfrm>
              </p:grpSpPr>
              <p:grpSp>
                <p:nvGrpSpPr>
                  <p:cNvPr id="794" name=""/>
                  <p:cNvGrpSpPr/>
                  <p:nvPr/>
                </p:nvGrpSpPr>
                <p:grpSpPr>
                  <a:xfrm>
                    <a:off x="3921120" y="3847680"/>
                    <a:ext cx="357120" cy="263520"/>
                    <a:chOff x="3921120" y="3847680"/>
                    <a:chExt cx="357120" cy="263520"/>
                  </a:xfrm>
                </p:grpSpPr>
                <p:sp>
                  <p:nvSpPr>
                    <p:cNvPr id="795" name=""/>
                    <p:cNvSpPr/>
                    <p:nvPr/>
                  </p:nvSpPr>
                  <p:spPr>
                    <a:xfrm flipV="1">
                      <a:off x="3942000" y="3847680"/>
                      <a:ext cx="0" cy="263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"/>
                    <p:cNvSpPr/>
                    <p:nvPr/>
                  </p:nvSpPr>
                  <p:spPr>
                    <a:xfrm>
                      <a:off x="3942000" y="3847680"/>
                      <a:ext cx="3362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 flipH="1" flipV="1">
                      <a:off x="3921120" y="4058280"/>
                      <a:ext cx="20880" cy="525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flipV="1">
                      <a:off x="4278240" y="3847680"/>
                      <a:ext cx="0" cy="525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9" name=""/>
                  <p:cNvSpPr/>
                  <p:nvPr/>
                </p:nvSpPr>
                <p:spPr>
                  <a:xfrm>
                    <a:off x="3965760" y="3847680"/>
                    <a:ext cx="223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00" name=""/>
            <p:cNvSpPr/>
            <p:nvPr/>
          </p:nvSpPr>
          <p:spPr>
            <a:xfrm>
              <a:off x="4295880" y="3794040"/>
              <a:ext cx="6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f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667400" y="37512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3208320" y="1600200"/>
            <a:ext cx="14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= 6(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792600" y="159228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6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206880" y="1949400"/>
            <a:ext cx="13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= 36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5813280" y="1808280"/>
            <a:ext cx="2454480" cy="540360"/>
            <a:chOff x="5813280" y="1808280"/>
            <a:chExt cx="2454480" cy="540360"/>
          </a:xfrm>
        </p:grpSpPr>
        <p:sp>
          <p:nvSpPr>
            <p:cNvPr id="806" name=""/>
            <p:cNvSpPr/>
            <p:nvPr/>
          </p:nvSpPr>
          <p:spPr>
            <a:xfrm>
              <a:off x="5813280" y="191124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Times New Roman"/>
                </a:rPr>
                <a:t>L =      (          )(         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6318000" y="1808280"/>
              <a:ext cx="284040" cy="540360"/>
              <a:chOff x="6318000" y="1808280"/>
              <a:chExt cx="284040" cy="540360"/>
            </a:xfrm>
          </p:grpSpPr>
          <p:sp>
            <p:nvSpPr>
              <p:cNvPr id="808" name=""/>
              <p:cNvSpPr/>
              <p:nvPr/>
            </p:nvSpPr>
            <p:spPr>
              <a:xfrm>
                <a:off x="6318000" y="1808280"/>
                <a:ext cx="25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333480" y="2041560"/>
                <a:ext cx="26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349320" y="2084400"/>
                <a:ext cx="236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1" name=""/>
          <p:cNvSpPr/>
          <p:nvPr/>
        </p:nvSpPr>
        <p:spPr>
          <a:xfrm>
            <a:off x="5881680" y="231300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L =(18ft )(26.5 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5796000" y="1352520"/>
            <a:ext cx="1217520" cy="540360"/>
            <a:chOff x="5796000" y="1352520"/>
            <a:chExt cx="1217520" cy="540360"/>
          </a:xfrm>
        </p:grpSpPr>
        <p:sp>
          <p:nvSpPr>
            <p:cNvPr id="813" name=""/>
            <p:cNvSpPr/>
            <p:nvPr/>
          </p:nvSpPr>
          <p:spPr>
            <a:xfrm>
              <a:off x="5796000" y="1470240"/>
              <a:ext cx="12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Times New Roman"/>
                </a:rPr>
                <a:t>L =     P</a:t>
              </a:r>
              <a:r>
                <a:rPr b="1" lang="es-MX" sz="1800" spc="-1" strike="noStrike">
                  <a:solidFill>
                    <a:srgbClr val="ff0000"/>
                  </a:solidFill>
                  <a:latin typeface="AbcCursive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6315120" y="1352520"/>
              <a:ext cx="259920" cy="540360"/>
              <a:chOff x="6315120" y="1352520"/>
              <a:chExt cx="259920" cy="540360"/>
            </a:xfrm>
          </p:grpSpPr>
          <p:sp>
            <p:nvSpPr>
              <p:cNvPr id="815" name=""/>
              <p:cNvSpPr/>
              <p:nvPr/>
            </p:nvSpPr>
            <p:spPr>
              <a:xfrm>
                <a:off x="6315120" y="1352520"/>
                <a:ext cx="23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329160" y="1585800"/>
                <a:ext cx="24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343560" y="1628640"/>
                <a:ext cx="217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8" name=""/>
          <p:cNvSpPr/>
          <p:nvPr/>
        </p:nvSpPr>
        <p:spPr>
          <a:xfrm>
            <a:off x="5802480" y="112068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LATERAL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6640" y="193680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5803920" y="2612880"/>
            <a:ext cx="1553760" cy="396720"/>
            <a:chOff x="5803920" y="2612880"/>
            <a:chExt cx="1553760" cy="396720"/>
          </a:xfrm>
        </p:grpSpPr>
        <p:sp>
          <p:nvSpPr>
            <p:cNvPr id="821" name=""/>
            <p:cNvSpPr/>
            <p:nvPr/>
          </p:nvSpPr>
          <p:spPr>
            <a:xfrm>
              <a:off x="5803920" y="264132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L =  477 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051320" y="261288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7354800" y="1935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6.5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1504800" y="6489720"/>
            <a:ext cx="452520" cy="427320"/>
            <a:chOff x="1504800" y="6489720"/>
            <a:chExt cx="452520" cy="427320"/>
          </a:xfrm>
        </p:grpSpPr>
        <p:sp>
          <p:nvSpPr>
            <p:cNvPr id="825" name=""/>
            <p:cNvSpPr/>
            <p:nvPr/>
          </p:nvSpPr>
          <p:spPr>
            <a:xfrm>
              <a:off x="1504800" y="6489720"/>
              <a:ext cx="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947600" y="649476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19200" y="660564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06240" y="6548760"/>
              <a:ext cx="45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3178080" y="1222200"/>
            <a:ext cx="13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ime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837560" y="568800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26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559480" y="2968560"/>
            <a:ext cx="29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TOTAL SURFACE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5549760" y="3301920"/>
            <a:ext cx="1824120" cy="540360"/>
            <a:chOff x="5549760" y="3301920"/>
            <a:chExt cx="1824120" cy="540360"/>
          </a:xfrm>
        </p:grpSpPr>
        <p:sp>
          <p:nvSpPr>
            <p:cNvPr id="833" name=""/>
            <p:cNvSpPr/>
            <p:nvPr/>
          </p:nvSpPr>
          <p:spPr>
            <a:xfrm>
              <a:off x="5549760" y="3419640"/>
              <a:ext cx="12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333399"/>
                  </a:solidFill>
                  <a:latin typeface="Times New Roman"/>
                </a:rPr>
                <a:t>T =     P</a:t>
              </a:r>
              <a:r>
                <a:rPr b="1" lang="en-US" sz="1800" spc="-1" strike="noStrike">
                  <a:solidFill>
                    <a:srgbClr val="333399"/>
                  </a:solidFill>
                  <a:latin typeface="AbcCursive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6087960" y="3301920"/>
              <a:ext cx="280440" cy="540360"/>
              <a:chOff x="6087960" y="3301920"/>
              <a:chExt cx="280440" cy="540360"/>
            </a:xfrm>
          </p:grpSpPr>
          <p:sp>
            <p:nvSpPr>
              <p:cNvPr id="835" name=""/>
              <p:cNvSpPr/>
              <p:nvPr/>
            </p:nvSpPr>
            <p:spPr>
              <a:xfrm>
                <a:off x="6087960" y="3301920"/>
                <a:ext cx="25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103440" y="3535200"/>
                <a:ext cx="264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3399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118920" y="3578040"/>
                <a:ext cx="2340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8" name=""/>
            <p:cNvSpPr/>
            <p:nvPr/>
          </p:nvSpPr>
          <p:spPr>
            <a:xfrm>
              <a:off x="6621120" y="3405240"/>
              <a:ext cx="7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+ 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5562720" y="4214880"/>
            <a:ext cx="1481040" cy="414360"/>
            <a:chOff x="5562720" y="4214880"/>
            <a:chExt cx="1481040" cy="414360"/>
          </a:xfrm>
        </p:grpSpPr>
        <p:grpSp>
          <p:nvGrpSpPr>
            <p:cNvPr id="840" name=""/>
            <p:cNvGrpSpPr/>
            <p:nvPr/>
          </p:nvGrpSpPr>
          <p:grpSpPr>
            <a:xfrm>
              <a:off x="5926320" y="4425840"/>
              <a:ext cx="139680" cy="99720"/>
              <a:chOff x="5926320" y="4425840"/>
              <a:chExt cx="139680" cy="99720"/>
            </a:xfrm>
          </p:grpSpPr>
          <p:sp>
            <p:nvSpPr>
              <p:cNvPr id="841" name=""/>
              <p:cNvSpPr/>
              <p:nvPr/>
            </p:nvSpPr>
            <p:spPr>
              <a:xfrm>
                <a:off x="5926320" y="4425840"/>
                <a:ext cx="138240" cy="56160"/>
              </a:xfrm>
              <a:custGeom>
                <a:avLst/>
                <a:gdLst/>
                <a:ahLst/>
                <a:rect l="l" t="t" r="r" b="b"/>
                <a:pathLst>
                  <a:path w="402" h="112">
                    <a:moveTo>
                      <a:pt x="0" y="78"/>
                    </a:moveTo>
                    <a:cubicBezTo>
                      <a:pt x="41" y="39"/>
                      <a:pt x="82" y="0"/>
                      <a:pt x="128" y="5"/>
                    </a:cubicBezTo>
                    <a:cubicBezTo>
                      <a:pt x="174" y="10"/>
                      <a:pt x="228" y="100"/>
                      <a:pt x="274" y="106"/>
                    </a:cubicBezTo>
                    <a:cubicBezTo>
                      <a:pt x="320" y="112"/>
                      <a:pt x="361" y="77"/>
                      <a:pt x="402" y="42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927400" y="4469400"/>
                <a:ext cx="138600" cy="56160"/>
              </a:xfrm>
              <a:custGeom>
                <a:avLst/>
                <a:gdLst/>
                <a:ahLst/>
                <a:rect l="l" t="t" r="r" b="b"/>
                <a:pathLst>
                  <a:path w="402" h="112">
                    <a:moveTo>
                      <a:pt x="0" y="78"/>
                    </a:moveTo>
                    <a:cubicBezTo>
                      <a:pt x="41" y="39"/>
                      <a:pt x="82" y="0"/>
                      <a:pt x="128" y="5"/>
                    </a:cubicBezTo>
                    <a:cubicBezTo>
                      <a:pt x="174" y="10"/>
                      <a:pt x="228" y="100"/>
                      <a:pt x="274" y="106"/>
                    </a:cubicBezTo>
                    <a:cubicBezTo>
                      <a:pt x="320" y="112"/>
                      <a:pt x="361" y="77"/>
                      <a:pt x="402" y="42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5562720" y="4214880"/>
              <a:ext cx="1481040" cy="414360"/>
              <a:chOff x="5562720" y="4214880"/>
              <a:chExt cx="1481040" cy="414360"/>
            </a:xfrm>
          </p:grpSpPr>
          <p:sp>
            <p:nvSpPr>
              <p:cNvPr id="844" name=""/>
              <p:cNvSpPr/>
              <p:nvPr/>
            </p:nvSpPr>
            <p:spPr>
              <a:xfrm>
                <a:off x="5562720" y="4260960"/>
                <a:ext cx="1481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Times New Roman"/>
                  </a:rPr>
                  <a:t>T   570.5 f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777000" y="4214880"/>
                <a:ext cx="26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6" name=""/>
          <p:cNvSpPr/>
          <p:nvPr/>
        </p:nvSpPr>
        <p:spPr>
          <a:xfrm>
            <a:off x="5734080" y="4786200"/>
            <a:ext cx="13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Times New Roman"/>
              </a:rPr>
              <a:t>VOL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5506920" y="5078520"/>
            <a:ext cx="1617120" cy="657360"/>
            <a:chOff x="5506920" y="5078520"/>
            <a:chExt cx="1617120" cy="657360"/>
          </a:xfrm>
        </p:grpSpPr>
        <p:sp>
          <p:nvSpPr>
            <p:cNvPr id="848" name=""/>
            <p:cNvSpPr/>
            <p:nvPr/>
          </p:nvSpPr>
          <p:spPr>
            <a:xfrm>
              <a:off x="5506920" y="516564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</a:rPr>
                <a:t>V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527880" y="5148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774120" y="514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6348240" y="5078520"/>
              <a:ext cx="306360" cy="657360"/>
              <a:chOff x="6348240" y="5078520"/>
              <a:chExt cx="306360" cy="657360"/>
            </a:xfrm>
          </p:grpSpPr>
          <p:sp>
            <p:nvSpPr>
              <p:cNvPr id="852" name=""/>
              <p:cNvSpPr/>
              <p:nvPr/>
            </p:nvSpPr>
            <p:spPr>
              <a:xfrm>
                <a:off x="6349680" y="50785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348240" y="53676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66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378480" y="5397480"/>
                <a:ext cx="217440" cy="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"/>
          <p:cNvGrpSpPr/>
          <p:nvPr/>
        </p:nvGrpSpPr>
        <p:grpSpPr>
          <a:xfrm>
            <a:off x="5491080" y="5568840"/>
            <a:ext cx="3255840" cy="657360"/>
            <a:chOff x="5491080" y="5568840"/>
            <a:chExt cx="3255840" cy="657360"/>
          </a:xfrm>
        </p:grpSpPr>
        <p:grpSp>
          <p:nvGrpSpPr>
            <p:cNvPr id="856" name=""/>
            <p:cNvGrpSpPr/>
            <p:nvPr/>
          </p:nvGrpSpPr>
          <p:grpSpPr>
            <a:xfrm>
              <a:off x="5491080" y="5568840"/>
              <a:ext cx="1160640" cy="657360"/>
              <a:chOff x="5491080" y="5568840"/>
              <a:chExt cx="1160640" cy="657360"/>
            </a:xfrm>
          </p:grpSpPr>
          <p:sp>
            <p:nvSpPr>
              <p:cNvPr id="857" name=""/>
              <p:cNvSpPr/>
              <p:nvPr/>
            </p:nvSpPr>
            <p:spPr>
              <a:xfrm>
                <a:off x="5491080" y="5656320"/>
                <a:ext cx="1160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66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8" name=""/>
              <p:cNvGrpSpPr/>
              <p:nvPr/>
            </p:nvGrpSpPr>
            <p:grpSpPr>
              <a:xfrm>
                <a:off x="6332400" y="5568840"/>
                <a:ext cx="306360" cy="657360"/>
                <a:chOff x="6332400" y="5568840"/>
                <a:chExt cx="306360" cy="65736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6333840" y="5568840"/>
                  <a:ext cx="304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660066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332400" y="5857920"/>
                  <a:ext cx="304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660066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362640" y="5887800"/>
                  <a:ext cx="217440" cy="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2" name=""/>
            <p:cNvSpPr/>
            <p:nvPr/>
          </p:nvSpPr>
          <p:spPr>
            <a:xfrm>
              <a:off x="6467400" y="5673600"/>
              <a:ext cx="22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Times New Roman"/>
                </a:rPr>
                <a:t>(                  )(         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5521320" y="6235560"/>
            <a:ext cx="2048040" cy="384120"/>
            <a:chOff x="5521320" y="6235560"/>
            <a:chExt cx="2048040" cy="384120"/>
          </a:xfrm>
        </p:grpSpPr>
        <p:sp>
          <p:nvSpPr>
            <p:cNvPr id="864" name=""/>
            <p:cNvSpPr/>
            <p:nvPr/>
          </p:nvSpPr>
          <p:spPr>
            <a:xfrm>
              <a:off x="5521320" y="6251400"/>
              <a:ext cx="204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Times New Roman"/>
                </a:rPr>
                <a:t>V      810.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26120" y="6235560"/>
              <a:ext cx="26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6246720" y="6400800"/>
              <a:ext cx="138240" cy="100080"/>
              <a:chOff x="6246720" y="6400800"/>
              <a:chExt cx="138240" cy="100080"/>
            </a:xfrm>
          </p:grpSpPr>
          <p:sp>
            <p:nvSpPr>
              <p:cNvPr id="867" name=""/>
              <p:cNvSpPr/>
              <p:nvPr/>
            </p:nvSpPr>
            <p:spPr>
              <a:xfrm>
                <a:off x="6246720" y="6400800"/>
                <a:ext cx="136800" cy="56160"/>
              </a:xfrm>
              <a:custGeom>
                <a:avLst/>
                <a:gdLst/>
                <a:ahLst/>
                <a:rect l="l" t="t" r="r" b="b"/>
                <a:pathLst>
                  <a:path w="402" h="112">
                    <a:moveTo>
                      <a:pt x="0" y="78"/>
                    </a:moveTo>
                    <a:cubicBezTo>
                      <a:pt x="41" y="39"/>
                      <a:pt x="82" y="0"/>
                      <a:pt x="128" y="5"/>
                    </a:cubicBezTo>
                    <a:cubicBezTo>
                      <a:pt x="174" y="10"/>
                      <a:pt x="228" y="100"/>
                      <a:pt x="274" y="106"/>
                    </a:cubicBezTo>
                    <a:cubicBezTo>
                      <a:pt x="320" y="112"/>
                      <a:pt x="361" y="77"/>
                      <a:pt x="402" y="42"/>
                    </a:cubicBezTo>
                  </a:path>
                </a:pathLst>
              </a:custGeom>
              <a:noFill/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247800" y="6444720"/>
                <a:ext cx="137160" cy="56160"/>
              </a:xfrm>
              <a:custGeom>
                <a:avLst/>
                <a:gdLst/>
                <a:ahLst/>
                <a:rect l="l" t="t" r="r" b="b"/>
                <a:pathLst>
                  <a:path w="402" h="112">
                    <a:moveTo>
                      <a:pt x="0" y="78"/>
                    </a:moveTo>
                    <a:cubicBezTo>
                      <a:pt x="41" y="39"/>
                      <a:pt x="82" y="0"/>
                      <a:pt x="128" y="5"/>
                    </a:cubicBezTo>
                    <a:cubicBezTo>
                      <a:pt x="174" y="10"/>
                      <a:pt x="228" y="100"/>
                      <a:pt x="274" y="106"/>
                    </a:cubicBezTo>
                    <a:cubicBezTo>
                      <a:pt x="320" y="112"/>
                      <a:pt x="361" y="77"/>
                      <a:pt x="402" y="42"/>
                    </a:cubicBezTo>
                  </a:path>
                </a:pathLst>
              </a:custGeom>
              <a:noFill/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9" name=""/>
          <p:cNvGrpSpPr/>
          <p:nvPr/>
        </p:nvGrpSpPr>
        <p:grpSpPr>
          <a:xfrm>
            <a:off x="0" y="5791320"/>
            <a:ext cx="1320840" cy="473400"/>
            <a:chOff x="0" y="5791320"/>
            <a:chExt cx="1320840" cy="473400"/>
          </a:xfrm>
        </p:grpSpPr>
        <p:grpSp>
          <p:nvGrpSpPr>
            <p:cNvPr id="870" name=""/>
            <p:cNvGrpSpPr/>
            <p:nvPr/>
          </p:nvGrpSpPr>
          <p:grpSpPr>
            <a:xfrm>
              <a:off x="0" y="5791320"/>
              <a:ext cx="855720" cy="473400"/>
              <a:chOff x="0" y="5791320"/>
              <a:chExt cx="855720" cy="473400"/>
            </a:xfrm>
          </p:grpSpPr>
          <p:sp>
            <p:nvSpPr>
              <p:cNvPr id="871" name=""/>
              <p:cNvSpPr/>
              <p:nvPr/>
            </p:nvSpPr>
            <p:spPr>
              <a:xfrm>
                <a:off x="0" y="5791320"/>
                <a:ext cx="85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2" name=""/>
              <p:cNvGrpSpPr/>
              <p:nvPr/>
            </p:nvGrpSpPr>
            <p:grpSpPr>
              <a:xfrm>
                <a:off x="206280" y="5865480"/>
                <a:ext cx="357120" cy="399240"/>
                <a:chOff x="206280" y="5865480"/>
                <a:chExt cx="357120" cy="399240"/>
              </a:xfrm>
            </p:grpSpPr>
            <p:grpSp>
              <p:nvGrpSpPr>
                <p:cNvPr id="873" name=""/>
                <p:cNvGrpSpPr/>
                <p:nvPr/>
              </p:nvGrpSpPr>
              <p:grpSpPr>
                <a:xfrm>
                  <a:off x="206280" y="5865480"/>
                  <a:ext cx="357120" cy="263160"/>
                  <a:chOff x="206280" y="5865480"/>
                  <a:chExt cx="357120" cy="26316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 flipV="1">
                    <a:off x="227160" y="5865480"/>
                    <a:ext cx="0" cy="263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227160" y="5865840"/>
                    <a:ext cx="336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flipH="1" flipV="1">
                    <a:off x="206280" y="6076080"/>
                    <a:ext cx="20880" cy="5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flipV="1">
                    <a:off x="563400" y="5865480"/>
                    <a:ext cx="0" cy="52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8" name=""/>
                <p:cNvSpPr/>
                <p:nvPr/>
              </p:nvSpPr>
              <p:spPr>
                <a:xfrm>
                  <a:off x="250920" y="5865840"/>
                  <a:ext cx="22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9" name=""/>
            <p:cNvSpPr/>
            <p:nvPr/>
          </p:nvSpPr>
          <p:spPr>
            <a:xfrm flipV="1">
              <a:off x="566640" y="5965560"/>
              <a:ext cx="7542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2220840" y="4597560"/>
            <a:ext cx="34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 need to find the slant height, using  the Pythagorean Theor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598840" y="5575320"/>
            <a:ext cx="2060280" cy="468000"/>
            <a:chOff x="2598840" y="5575320"/>
            <a:chExt cx="2060280" cy="468000"/>
          </a:xfrm>
        </p:grpSpPr>
        <p:sp>
          <p:nvSpPr>
            <p:cNvPr id="882" name=""/>
            <p:cNvSpPr/>
            <p:nvPr/>
          </p:nvSpPr>
          <p:spPr>
            <a:xfrm>
              <a:off x="2598840" y="5675040"/>
              <a:ext cx="206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bcCursive"/>
                </a:rPr>
                <a:t>l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 676 +  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771640" y="5575320"/>
              <a:ext cx="27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2567160" y="5979960"/>
            <a:ext cx="1029960" cy="465120"/>
            <a:chOff x="2567160" y="5979960"/>
            <a:chExt cx="1029960" cy="465120"/>
          </a:xfrm>
        </p:grpSpPr>
        <p:sp>
          <p:nvSpPr>
            <p:cNvPr id="885" name=""/>
            <p:cNvSpPr/>
            <p:nvPr/>
          </p:nvSpPr>
          <p:spPr>
            <a:xfrm>
              <a:off x="2567160" y="6076800"/>
              <a:ext cx="102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bcCursive"/>
                </a:rPr>
                <a:t>l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  7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28800" y="5979960"/>
              <a:ext cx="275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557440" y="6000840"/>
            <a:ext cx="894600" cy="349560"/>
            <a:chOff x="2557440" y="6000840"/>
            <a:chExt cx="894600" cy="349560"/>
          </a:xfrm>
        </p:grpSpPr>
        <p:grpSp>
          <p:nvGrpSpPr>
            <p:cNvPr id="888" name=""/>
            <p:cNvGrpSpPr/>
            <p:nvPr/>
          </p:nvGrpSpPr>
          <p:grpSpPr>
            <a:xfrm>
              <a:off x="2557440" y="6017400"/>
              <a:ext cx="445680" cy="333000"/>
              <a:chOff x="2557440" y="6017400"/>
              <a:chExt cx="445680" cy="333000"/>
            </a:xfrm>
          </p:grpSpPr>
          <p:sp>
            <p:nvSpPr>
              <p:cNvPr id="889" name=""/>
              <p:cNvSpPr/>
              <p:nvPr/>
            </p:nvSpPr>
            <p:spPr>
              <a:xfrm>
                <a:off x="2557440" y="6285960"/>
                <a:ext cx="44280" cy="60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2601720" y="6021720"/>
                <a:ext cx="0" cy="328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601720" y="6017400"/>
                <a:ext cx="37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973240" y="6022080"/>
                <a:ext cx="29880" cy="25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3049200" y="6000840"/>
              <a:ext cx="402840" cy="333000"/>
              <a:chOff x="3049200" y="6000840"/>
              <a:chExt cx="402840" cy="333000"/>
            </a:xfrm>
          </p:grpSpPr>
          <p:sp>
            <p:nvSpPr>
              <p:cNvPr id="894" name=""/>
              <p:cNvSpPr/>
              <p:nvPr/>
            </p:nvSpPr>
            <p:spPr>
              <a:xfrm>
                <a:off x="3049200" y="6269040"/>
                <a:ext cx="40320" cy="60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3089520" y="6005520"/>
                <a:ext cx="0" cy="32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089520" y="6000840"/>
                <a:ext cx="34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425040" y="6005520"/>
                <a:ext cx="27000" cy="25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8" name=""/>
          <p:cNvGrpSpPr/>
          <p:nvPr/>
        </p:nvGrpSpPr>
        <p:grpSpPr>
          <a:xfrm>
            <a:off x="2611440" y="6491160"/>
            <a:ext cx="1566720" cy="368280"/>
            <a:chOff x="2611440" y="6491160"/>
            <a:chExt cx="1566720" cy="368280"/>
          </a:xfrm>
        </p:grpSpPr>
        <p:sp>
          <p:nvSpPr>
            <p:cNvPr id="899" name=""/>
            <p:cNvSpPr/>
            <p:nvPr/>
          </p:nvSpPr>
          <p:spPr>
            <a:xfrm>
              <a:off x="2611440" y="6491160"/>
              <a:ext cx="15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bcCursive"/>
                </a:rPr>
                <a:t>l   </a:t>
              </a:r>
              <a:r>
                <a:rPr b="1" lang="en-US" sz="1800" spc="-1" strike="noStrike">
                  <a:solidFill>
                    <a:srgbClr val="660066"/>
                  </a:solidFill>
                  <a:latin typeface="Times New Roman"/>
                </a:rPr>
                <a:t>26.5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2955960" y="6575400"/>
              <a:ext cx="149040" cy="125280"/>
              <a:chOff x="2955960" y="6575400"/>
              <a:chExt cx="149040" cy="125280"/>
            </a:xfrm>
          </p:grpSpPr>
          <p:sp>
            <p:nvSpPr>
              <p:cNvPr id="901" name=""/>
              <p:cNvSpPr/>
              <p:nvPr/>
            </p:nvSpPr>
            <p:spPr>
              <a:xfrm>
                <a:off x="2956680" y="65754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955960" y="66366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3" name=""/>
          <p:cNvGrpSpPr/>
          <p:nvPr/>
        </p:nvGrpSpPr>
        <p:grpSpPr>
          <a:xfrm>
            <a:off x="5549760" y="3805200"/>
            <a:ext cx="2708280" cy="411120"/>
            <a:chOff x="5549760" y="3805200"/>
            <a:chExt cx="2708280" cy="411120"/>
          </a:xfrm>
        </p:grpSpPr>
        <p:sp>
          <p:nvSpPr>
            <p:cNvPr id="904" name=""/>
            <p:cNvSpPr/>
            <p:nvPr/>
          </p:nvSpPr>
          <p:spPr>
            <a:xfrm>
              <a:off x="7199280" y="3835440"/>
              <a:ext cx="105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333399"/>
                  </a:solidFill>
                  <a:latin typeface="Times New Roman"/>
                </a:rPr>
                <a:t>93.5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834320" y="3805200"/>
              <a:ext cx="33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549760" y="3836880"/>
              <a:ext cx="15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T =   477 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37480" y="3808440"/>
              <a:ext cx="26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985080" y="3848040"/>
              <a:ext cx="30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176640" y="4135320"/>
            <a:ext cx="1580760" cy="441360"/>
            <a:chOff x="3176640" y="4135320"/>
            <a:chExt cx="1580760" cy="441360"/>
          </a:xfrm>
        </p:grpSpPr>
        <p:sp>
          <p:nvSpPr>
            <p:cNvPr id="910" name=""/>
            <p:cNvSpPr/>
            <p:nvPr/>
          </p:nvSpPr>
          <p:spPr>
            <a:xfrm>
              <a:off x="3176640" y="4208400"/>
              <a:ext cx="149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B    93.5 f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7920" y="4135320"/>
              <a:ext cx="33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3479040" y="4321080"/>
              <a:ext cx="140760" cy="100080"/>
              <a:chOff x="3479040" y="4321080"/>
              <a:chExt cx="140760" cy="100080"/>
            </a:xfrm>
          </p:grpSpPr>
          <p:sp>
            <p:nvSpPr>
              <p:cNvPr id="913" name=""/>
              <p:cNvSpPr/>
              <p:nvPr/>
            </p:nvSpPr>
            <p:spPr>
              <a:xfrm>
                <a:off x="3479040" y="4321080"/>
                <a:ext cx="139320" cy="56160"/>
              </a:xfrm>
              <a:custGeom>
                <a:avLst/>
                <a:gdLst/>
                <a:ahLst/>
                <a:rect l="l" t="t" r="r" b="b"/>
                <a:pathLst>
                  <a:path w="402" h="112">
                    <a:moveTo>
                      <a:pt x="0" y="78"/>
                    </a:moveTo>
                    <a:cubicBezTo>
                      <a:pt x="41" y="39"/>
                      <a:pt x="82" y="0"/>
                      <a:pt x="128" y="5"/>
                    </a:cubicBezTo>
                    <a:cubicBezTo>
                      <a:pt x="174" y="10"/>
                      <a:pt x="228" y="100"/>
                      <a:pt x="274" y="106"/>
                    </a:cubicBezTo>
                    <a:cubicBezTo>
                      <a:pt x="320" y="112"/>
                      <a:pt x="361" y="77"/>
                      <a:pt x="402" y="4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480120" y="4365000"/>
                <a:ext cx="139680" cy="56160"/>
              </a:xfrm>
              <a:custGeom>
                <a:avLst/>
                <a:gdLst/>
                <a:ahLst/>
                <a:rect l="l" t="t" r="r" b="b"/>
                <a:pathLst>
                  <a:path w="402" h="112">
                    <a:moveTo>
                      <a:pt x="0" y="78"/>
                    </a:moveTo>
                    <a:cubicBezTo>
                      <a:pt x="41" y="39"/>
                      <a:pt x="82" y="0"/>
                      <a:pt x="128" y="5"/>
                    </a:cubicBezTo>
                    <a:cubicBezTo>
                      <a:pt x="174" y="10"/>
                      <a:pt x="228" y="100"/>
                      <a:pt x="274" y="106"/>
                    </a:cubicBezTo>
                    <a:cubicBezTo>
                      <a:pt x="320" y="112"/>
                      <a:pt x="361" y="77"/>
                      <a:pt x="402" y="4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5" name=""/>
          <p:cNvGrpSpPr/>
          <p:nvPr/>
        </p:nvGrpSpPr>
        <p:grpSpPr>
          <a:xfrm>
            <a:off x="6648480" y="5630760"/>
            <a:ext cx="1098360" cy="444600"/>
            <a:chOff x="6648480" y="5630760"/>
            <a:chExt cx="1098360" cy="444600"/>
          </a:xfrm>
        </p:grpSpPr>
        <p:sp>
          <p:nvSpPr>
            <p:cNvPr id="916" name=""/>
            <p:cNvSpPr/>
            <p:nvPr/>
          </p:nvSpPr>
          <p:spPr>
            <a:xfrm>
              <a:off x="6648480" y="5707080"/>
              <a:ext cx="104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93.5 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484760" y="5630760"/>
              <a:ext cx="26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5673600" y="2641680"/>
            <a:ext cx="1729080" cy="4003560"/>
            <a:chOff x="5673600" y="2641680"/>
            <a:chExt cx="1729080" cy="4003560"/>
          </a:xfrm>
        </p:grpSpPr>
        <p:sp>
          <p:nvSpPr>
            <p:cNvPr id="919" name=""/>
            <p:cNvSpPr/>
            <p:nvPr/>
          </p:nvSpPr>
          <p:spPr>
            <a:xfrm>
              <a:off x="5950080" y="2641680"/>
              <a:ext cx="14079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673600" y="4208400"/>
              <a:ext cx="1408320" cy="42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6224760"/>
              <a:ext cx="1611360" cy="42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1349280" y="1650960"/>
            <a:ext cx="480960" cy="1830600"/>
          </a:xfrm>
          <a:prstGeom prst="triangle">
            <a:avLst>
              <a:gd name="adj" fmla="val 1069"/>
            </a:avLst>
          </a:prstGeom>
          <a:solidFill>
            <a:srgbClr val="ff66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1363680" y="1623960"/>
            <a:ext cx="906840" cy="1901880"/>
            <a:chOff x="1363680" y="1623960"/>
            <a:chExt cx="906840" cy="1901880"/>
          </a:xfrm>
        </p:grpSpPr>
        <p:grpSp>
          <p:nvGrpSpPr>
            <p:cNvPr id="924" name=""/>
            <p:cNvGrpSpPr/>
            <p:nvPr/>
          </p:nvGrpSpPr>
          <p:grpSpPr>
            <a:xfrm>
              <a:off x="1363680" y="1623960"/>
              <a:ext cx="524160" cy="1901880"/>
              <a:chOff x="1363680" y="1623960"/>
              <a:chExt cx="524160" cy="1901880"/>
            </a:xfrm>
          </p:grpSpPr>
          <p:sp>
            <p:nvSpPr>
              <p:cNvPr id="925" name=""/>
              <p:cNvSpPr/>
              <p:nvPr/>
            </p:nvSpPr>
            <p:spPr>
              <a:xfrm>
                <a:off x="1363680" y="1623960"/>
                <a:ext cx="484560" cy="1901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>
                <a:off x="1807200" y="3311280"/>
                <a:ext cx="40680" cy="57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848240" y="3311280"/>
                <a:ext cx="39600" cy="144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1656000" y="2072520"/>
              <a:ext cx="614520" cy="565920"/>
              <a:chOff x="1656000" y="2072520"/>
              <a:chExt cx="614520" cy="565920"/>
            </a:xfrm>
          </p:grpSpPr>
          <p:sp>
            <p:nvSpPr>
              <p:cNvPr id="929" name=""/>
              <p:cNvSpPr/>
              <p:nvPr/>
            </p:nvSpPr>
            <p:spPr>
              <a:xfrm flipV="1">
                <a:off x="1656000" y="2280600"/>
                <a:ext cx="374040" cy="357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019600" y="2072520"/>
                <a:ext cx="25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bcCursive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"/>
          <p:cNvGrpSpPr/>
          <p:nvPr/>
        </p:nvGrpSpPr>
        <p:grpSpPr>
          <a:xfrm>
            <a:off x="762120" y="1628640"/>
            <a:ext cx="1212840" cy="2037960"/>
            <a:chOff x="762120" y="1628640"/>
            <a:chExt cx="1212840" cy="2037960"/>
          </a:xfrm>
        </p:grpSpPr>
        <p:sp>
          <p:nvSpPr>
            <p:cNvPr id="932" name=""/>
            <p:cNvSpPr/>
            <p:nvPr/>
          </p:nvSpPr>
          <p:spPr>
            <a:xfrm flipV="1">
              <a:off x="762120" y="1642320"/>
              <a:ext cx="604800" cy="17766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1062000" y="1694880"/>
              <a:ext cx="295200" cy="19414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1375920" y="1650600"/>
              <a:ext cx="282600" cy="19814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1359000" y="1631160"/>
              <a:ext cx="604800" cy="18147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1060560" y="1628640"/>
              <a:ext cx="295200" cy="149832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>
              <a:off x="1366920" y="1640880"/>
              <a:ext cx="295200" cy="148572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62120" y="3395520"/>
              <a:ext cx="295200" cy="2476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57320" y="3643200"/>
              <a:ext cx="600120" cy="126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1646280" y="3406320"/>
              <a:ext cx="328680" cy="260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68600" y="3147840"/>
              <a:ext cx="306360" cy="23472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57320" y="3159000"/>
              <a:ext cx="611280" cy="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762120" y="3147480"/>
              <a:ext cx="306360" cy="26028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461880" y="1638360"/>
            <a:ext cx="1056600" cy="1843920"/>
            <a:chOff x="461880" y="1638360"/>
            <a:chExt cx="1056600" cy="1843920"/>
          </a:xfrm>
        </p:grpSpPr>
        <p:grpSp>
          <p:nvGrpSpPr>
            <p:cNvPr id="945" name=""/>
            <p:cNvGrpSpPr/>
            <p:nvPr/>
          </p:nvGrpSpPr>
          <p:grpSpPr>
            <a:xfrm>
              <a:off x="1132200" y="1638360"/>
              <a:ext cx="386280" cy="1843920"/>
              <a:chOff x="1132200" y="1638360"/>
              <a:chExt cx="386280" cy="1843920"/>
            </a:xfrm>
          </p:grpSpPr>
          <p:grpSp>
            <p:nvGrpSpPr>
              <p:cNvPr id="946" name=""/>
              <p:cNvGrpSpPr/>
              <p:nvPr/>
            </p:nvGrpSpPr>
            <p:grpSpPr>
              <a:xfrm>
                <a:off x="1367640" y="1638360"/>
                <a:ext cx="150840" cy="1843920"/>
                <a:chOff x="1367640" y="1638360"/>
                <a:chExt cx="150840" cy="184392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1367640" y="1638360"/>
                  <a:ext cx="0" cy="184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1367640" y="3303720"/>
                  <a:ext cx="150840" cy="17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1132200" y="2633760"/>
                <a:ext cx="289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461880" y="2633760"/>
              <a:ext cx="9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6 ft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1373040" y="3479760"/>
            <a:ext cx="1061640" cy="527040"/>
            <a:chOff x="1373040" y="3479760"/>
            <a:chExt cx="1061640" cy="527040"/>
          </a:xfrm>
        </p:grpSpPr>
        <p:grpSp>
          <p:nvGrpSpPr>
            <p:cNvPr id="952" name=""/>
            <p:cNvGrpSpPr/>
            <p:nvPr/>
          </p:nvGrpSpPr>
          <p:grpSpPr>
            <a:xfrm>
              <a:off x="1876320" y="3556080"/>
              <a:ext cx="558360" cy="450720"/>
              <a:chOff x="1876320" y="3556080"/>
              <a:chExt cx="558360" cy="450720"/>
            </a:xfrm>
          </p:grpSpPr>
          <p:grpSp>
            <p:nvGrpSpPr>
              <p:cNvPr id="953" name=""/>
              <p:cNvGrpSpPr/>
              <p:nvPr/>
            </p:nvGrpSpPr>
            <p:grpSpPr>
              <a:xfrm>
                <a:off x="2090520" y="3607560"/>
                <a:ext cx="344160" cy="399240"/>
                <a:chOff x="2090520" y="3607560"/>
                <a:chExt cx="344160" cy="399240"/>
              </a:xfrm>
            </p:grpSpPr>
            <p:grpSp>
              <p:nvGrpSpPr>
                <p:cNvPr id="954" name=""/>
                <p:cNvGrpSpPr/>
                <p:nvPr/>
              </p:nvGrpSpPr>
              <p:grpSpPr>
                <a:xfrm>
                  <a:off x="2090520" y="3607560"/>
                  <a:ext cx="344160" cy="271080"/>
                  <a:chOff x="2090520" y="3607560"/>
                  <a:chExt cx="344160" cy="271080"/>
                </a:xfrm>
              </p:grpSpPr>
              <p:sp>
                <p:nvSpPr>
                  <p:cNvPr id="955" name=""/>
                  <p:cNvSpPr/>
                  <p:nvPr/>
                </p:nvSpPr>
                <p:spPr>
                  <a:xfrm flipV="1">
                    <a:off x="2110680" y="3607560"/>
                    <a:ext cx="0" cy="271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2110680" y="3607920"/>
                    <a:ext cx="324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 flipH="1" flipV="1">
                    <a:off x="2090520" y="3824640"/>
                    <a:ext cx="20160" cy="54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 flipV="1">
                    <a:off x="2434680" y="3607920"/>
                    <a:ext cx="0" cy="54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9" name=""/>
                <p:cNvSpPr/>
                <p:nvPr/>
              </p:nvSpPr>
              <p:spPr>
                <a:xfrm>
                  <a:off x="2133360" y="3607920"/>
                  <a:ext cx="21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0" name=""/>
              <p:cNvSpPr/>
              <p:nvPr/>
            </p:nvSpPr>
            <p:spPr>
              <a:xfrm>
                <a:off x="1876320" y="355608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 flipH="1" flipV="1">
              <a:off x="1640520" y="3556080"/>
              <a:ext cx="25092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373040" y="3479760"/>
              <a:ext cx="489600" cy="2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2627280" y="5240160"/>
            <a:ext cx="1992240" cy="519480"/>
            <a:chOff x="2627280" y="5240160"/>
            <a:chExt cx="1992240" cy="519480"/>
          </a:xfrm>
        </p:grpSpPr>
        <p:sp>
          <p:nvSpPr>
            <p:cNvPr id="964" name=""/>
            <p:cNvSpPr/>
            <p:nvPr/>
          </p:nvSpPr>
          <p:spPr>
            <a:xfrm>
              <a:off x="2627280" y="5356080"/>
              <a:ext cx="3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bcCursive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803680" y="5329080"/>
              <a:ext cx="171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 26  + (          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238560" y="5288040"/>
              <a:ext cx="27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343400" y="5318280"/>
              <a:ext cx="27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800440" y="5240160"/>
              <a:ext cx="27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3768840" y="5310360"/>
              <a:ext cx="578880" cy="449280"/>
              <a:chOff x="3768840" y="5310360"/>
              <a:chExt cx="578880" cy="449280"/>
            </a:xfrm>
          </p:grpSpPr>
          <p:grpSp>
            <p:nvGrpSpPr>
              <p:cNvPr id="970" name=""/>
              <p:cNvGrpSpPr/>
              <p:nvPr/>
            </p:nvGrpSpPr>
            <p:grpSpPr>
              <a:xfrm>
                <a:off x="3990960" y="5360760"/>
                <a:ext cx="356760" cy="398880"/>
                <a:chOff x="3990960" y="5360760"/>
                <a:chExt cx="356760" cy="398880"/>
              </a:xfrm>
            </p:grpSpPr>
            <p:grpSp>
              <p:nvGrpSpPr>
                <p:cNvPr id="971" name=""/>
                <p:cNvGrpSpPr/>
                <p:nvPr/>
              </p:nvGrpSpPr>
              <p:grpSpPr>
                <a:xfrm>
                  <a:off x="3990960" y="5360760"/>
                  <a:ext cx="356760" cy="263520"/>
                  <a:chOff x="3990960" y="5360760"/>
                  <a:chExt cx="356760" cy="263520"/>
                </a:xfrm>
              </p:grpSpPr>
              <p:sp>
                <p:nvSpPr>
                  <p:cNvPr id="972" name=""/>
                  <p:cNvSpPr/>
                  <p:nvPr/>
                </p:nvSpPr>
                <p:spPr>
                  <a:xfrm flipV="1">
                    <a:off x="4011840" y="5360760"/>
                    <a:ext cx="0" cy="26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4011840" y="5360760"/>
                    <a:ext cx="335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 flipH="1" flipV="1">
                    <a:off x="3990960" y="5571360"/>
                    <a:ext cx="20880" cy="5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 flipV="1">
                    <a:off x="4347720" y="5360760"/>
                    <a:ext cx="0" cy="5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6" name=""/>
                <p:cNvSpPr/>
                <p:nvPr/>
              </p:nvSpPr>
              <p:spPr>
                <a:xfrm>
                  <a:off x="4035600" y="5360760"/>
                  <a:ext cx="22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7" name=""/>
              <p:cNvSpPr/>
              <p:nvPr/>
            </p:nvSpPr>
            <p:spPr>
              <a:xfrm>
                <a:off x="3768840" y="5310360"/>
                <a:ext cx="29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8" name=""/>
          <p:cNvGrpSpPr/>
          <p:nvPr/>
        </p:nvGrpSpPr>
        <p:grpSpPr>
          <a:xfrm>
            <a:off x="4565520" y="5548320"/>
            <a:ext cx="1050840" cy="622440"/>
            <a:chOff x="4565520" y="5548320"/>
            <a:chExt cx="1050840" cy="622440"/>
          </a:xfrm>
        </p:grpSpPr>
        <p:grpSp>
          <p:nvGrpSpPr>
            <p:cNvPr id="979" name=""/>
            <p:cNvGrpSpPr/>
            <p:nvPr/>
          </p:nvGrpSpPr>
          <p:grpSpPr>
            <a:xfrm>
              <a:off x="5021280" y="5771880"/>
              <a:ext cx="357120" cy="398880"/>
              <a:chOff x="5021280" y="5771880"/>
              <a:chExt cx="357120" cy="398880"/>
            </a:xfrm>
          </p:grpSpPr>
          <p:grpSp>
            <p:nvGrpSpPr>
              <p:cNvPr id="980" name=""/>
              <p:cNvGrpSpPr/>
              <p:nvPr/>
            </p:nvGrpSpPr>
            <p:grpSpPr>
              <a:xfrm>
                <a:off x="5021280" y="5771880"/>
                <a:ext cx="357120" cy="263520"/>
                <a:chOff x="5021280" y="5771880"/>
                <a:chExt cx="357120" cy="263520"/>
              </a:xfrm>
            </p:grpSpPr>
            <p:sp>
              <p:nvSpPr>
                <p:cNvPr id="981" name=""/>
                <p:cNvSpPr/>
                <p:nvPr/>
              </p:nvSpPr>
              <p:spPr>
                <a:xfrm flipV="1">
                  <a:off x="5042160" y="5771880"/>
                  <a:ext cx="0" cy="26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042160" y="5771880"/>
                  <a:ext cx="336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H="1" flipV="1">
                  <a:off x="5021280" y="5982480"/>
                  <a:ext cx="20880" cy="5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V="1">
                  <a:off x="5378400" y="5771880"/>
                  <a:ext cx="0" cy="5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5" name=""/>
              <p:cNvSpPr/>
              <p:nvPr/>
            </p:nvSpPr>
            <p:spPr>
              <a:xfrm>
                <a:off x="5065920" y="5771880"/>
                <a:ext cx="22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4565520" y="5724360"/>
              <a:ext cx="311040" cy="393480"/>
              <a:chOff x="4565520" y="5724360"/>
              <a:chExt cx="311040" cy="393480"/>
            </a:xfrm>
          </p:grpSpPr>
          <p:sp>
            <p:nvSpPr>
              <p:cNvPr id="987" name=""/>
              <p:cNvSpPr/>
              <p:nvPr/>
            </p:nvSpPr>
            <p:spPr>
              <a:xfrm>
                <a:off x="4565520" y="574956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687920" y="5724360"/>
                <a:ext cx="188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9" name=""/>
            <p:cNvSpPr/>
            <p:nvPr/>
          </p:nvSpPr>
          <p:spPr>
            <a:xfrm>
              <a:off x="4949640" y="5708520"/>
              <a:ext cx="479520" cy="4060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354640" y="5548320"/>
              <a:ext cx="26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4950000" y="5573520"/>
            <a:ext cx="666720" cy="434880"/>
            <a:chOff x="4950000" y="5573520"/>
            <a:chExt cx="666720" cy="434880"/>
          </a:xfrm>
        </p:grpSpPr>
        <p:sp>
          <p:nvSpPr>
            <p:cNvPr id="992" name=""/>
            <p:cNvSpPr/>
            <p:nvPr/>
          </p:nvSpPr>
          <p:spPr>
            <a:xfrm flipV="1">
              <a:off x="5384880" y="5573520"/>
              <a:ext cx="2318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4950000" y="5616360"/>
              <a:ext cx="30456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"/>
          <p:cNvSpPr/>
          <p:nvPr/>
        </p:nvSpPr>
        <p:spPr>
          <a:xfrm>
            <a:off x="4556160" y="6066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9)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4303800" y="5560920"/>
            <a:ext cx="1457280" cy="986040"/>
            <a:chOff x="4303800" y="5560920"/>
            <a:chExt cx="1457280" cy="986040"/>
          </a:xfrm>
        </p:grpSpPr>
        <p:sp>
          <p:nvSpPr>
            <p:cNvPr id="996" name=""/>
            <p:cNvSpPr/>
            <p:nvPr/>
          </p:nvSpPr>
          <p:spPr>
            <a:xfrm flipH="1" flipV="1">
              <a:off x="4303800" y="5648040"/>
              <a:ext cx="24120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510080" y="5560920"/>
              <a:ext cx="1251000" cy="986040"/>
            </a:xfrm>
            <a:prstGeom prst="bracePair">
              <a:avLst>
                <a:gd name="adj" fmla="val 8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4719600" y="634824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1A7-A2A6-418B-B69E-37154B7305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9:18:07Z</dcterms:created>
  <dc:creator>Simon Perez</dc:creator>
  <dc:description/>
  <dc:language>en-US</dc:language>
  <cp:lastModifiedBy>Stephanie A Tirta</cp:lastModifiedBy>
  <dcterms:modified xsi:type="dcterms:W3CDTF">2009-08-26T01:30:35Z</dcterms:modified>
  <cp:revision>985</cp:revision>
  <dc:subject/>
  <dc:title>Slide 1</dc:title>
</cp:coreProperties>
</file>