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6.gif" ContentType="image/gif"/>
  <Override PartName="/ppt/media/image15.jpeg" ContentType="image/jpeg"/>
  <Override PartName="/ppt/media/image13.jpeg" ContentType="image/jpeg"/>
  <Override PartName="/ppt/media/image14.jpeg" ContentType="image/jpeg"/>
  <Override PartName="/ppt/media/Cher_IfICouldTurnBackTime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458-DC25-4A9C-9D1E-26305468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EB9-D412-4EBE-AE6D-1660D428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CD5-8C28-4BE7-A63C-0B174027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50A-B5F7-413D-BCD7-B0AAB975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0D0-B74C-4BAE-B369-93DC24DD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9F6-7F1B-4464-B88D-E42B7D81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97E-62A0-40BC-A2C2-6598A7E9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563-B60E-401A-99C5-66AC6A93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752-C6C5-45A7-A5B3-8EECCFDD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F9B-1A75-4CB7-AC82-9C054C02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EFA-AA78-45EA-9887-204E91C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B55-E846-4510-AE2D-C47295A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292-450D-4365-8DC0-E7E07C730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er_IfICouldTurnBackTim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557360"/>
            <a:ext cx="8820000" cy="31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바탕"/>
              </a:rPr>
              <a:t>HEY</a:t>
            </a:r>
            <a:endParaRPr b="0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바탕"/>
              <a:ea typeface="바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바탕"/>
              </a:rPr>
              <a:t>PSSSST....</a:t>
            </a:r>
            <a:endParaRPr b="0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바탕"/>
              <a:ea typeface="바탕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579280" y="2133720"/>
            <a:ext cx="30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odat elke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er op 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oor j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cadeau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96000" cy="485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4084560" cy="619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35280" y="2565360"/>
            <a:ext cx="48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k wil hiermee z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8880" y="5180040"/>
            <a:ext cx="40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k mag j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2349360"/>
            <a:ext cx="225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n ik h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 jij m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ok g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4775400" cy="55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145040" cy="633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80000" y="335772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 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4581360"/>
            <a:ext cx="58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heb je meerd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hte vri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31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ur dit dan naar ze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400"/>
                            </p:stCondLst>
                            <p:childTnLst>
                              <p:par>
                                <p:cTn id="16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1800" y="54936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krijg je het dan te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41300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n weet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2040" y="5667480"/>
            <a:ext cx="586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 je echte vrienden he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e jou ook graag m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8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2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4420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02280" y="4754520"/>
            <a:ext cx="21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Monotype Corsiva"/>
              </a:rPr>
              <a:t>Duvel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0920" y="573408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300"/>
                            </p:stCondLst>
                            <p:childTnLst>
                              <p:par>
                                <p:cTn id="20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0"/>
            <a:ext cx="26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Ik wil jou i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z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45360" y="4508640"/>
            <a:ext cx="19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Weet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jij ben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70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9000" y="404640"/>
            <a:ext cx="24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Jij </a:t>
            </a: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bent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 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33760" y="5373720"/>
            <a:ext cx="526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바탕"/>
              </a:rPr>
              <a:t>Uhh,ik weet niet g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바탕"/>
              </a:rPr>
              <a:t>   </a:t>
            </a:r>
            <a:r>
              <a:rPr b="1" lang="nl-NL" sz="3200" spc="-1" strike="noStrike">
                <a:solidFill>
                  <a:srgbClr val="ffffff"/>
                </a:solidFill>
                <a:latin typeface="바탕"/>
              </a:rPr>
              <a:t>hoe ik het moet z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73320" y="309600"/>
            <a:ext cx="47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바탕"/>
              </a:rPr>
              <a:t>Maar jij bent echt zo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바탕"/>
              </a:rPr>
              <a:t>           </a:t>
            </a:r>
            <a:r>
              <a:rPr b="1" lang="en-US" sz="3200" spc="-1" strike="noStrike">
                <a:solidFill>
                  <a:srgbClr val="ff3300"/>
                </a:solidFill>
                <a:latin typeface="바탕"/>
              </a:rPr>
              <a:t>ja hoe zeg ik da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73280" y="5492880"/>
            <a:ext cx="45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바탕"/>
              </a:rPr>
              <a:t>Laat ik het zo zeg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4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2200" y="2852640"/>
            <a:ext cx="313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k vind jou 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er 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riend(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ik hoop dat je mij ook een supertof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iend(in) v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91840" y="755640"/>
            <a:ext cx="444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k wens j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en wereld v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4716360"/>
            <a:ext cx="458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k wens jou een wer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7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86760" y="5219640"/>
            <a:ext cx="496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elke dag een gliml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 je gez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81080" y="18900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k wens je van a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t b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75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8560" y="1052640"/>
            <a:ext cx="406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k wens je een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ol lief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75480" y="4724280"/>
            <a:ext cx="51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een zorgen,geen tran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n geen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8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06:06:23Z</dcterms:created>
  <dc:creator>JP</dc:creator>
  <dc:description>Herbewerkte presentatie</dc:description>
  <dc:language>en-US</dc:language>
  <cp:lastModifiedBy>Smets</cp:lastModifiedBy>
  <dcterms:modified xsi:type="dcterms:W3CDTF">2008-09-30T05:01:36Z</dcterms:modified>
  <cp:revision>8</cp:revision>
  <dc:subject/>
  <dc:title>Psssst</dc:title>
</cp:coreProperties>
</file>