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6.gif" ContentType="image/gif"/>
  <Override PartName="/ppt/media/image15.jpeg" ContentType="image/jpeg"/>
  <Override PartName="/ppt/media/image13.jpeg" ContentType="image/jpeg"/>
  <Override PartName="/ppt/media/image14.jpeg" ContentType="image/jpeg"/>
  <Override PartName="/ppt/media/Cher_IfICouldTurnBackTime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74C-5D3D-4B46-A860-162F67D2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C9A-B2D8-4E3F-9759-77908B6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B86-4629-444B-BBA8-99DC3F4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731-5051-43C2-B26D-648912B4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7CD-EA65-47E7-94F3-E98187C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E66-6372-49CE-8019-0C4D1BA5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A35-9FEC-4500-A307-CEB7D70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278-2E62-4C7D-B279-A0FEBF2F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F70-0069-4A3A-ACE7-38ACB31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AD2-20B7-43B5-9B03-228987E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31A-B96E-4350-9EEE-B39E0A3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3FB-ADA8-4398-80E0-EF3F0D9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309-581B-4DD6-AA96-76BDA693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r_IfICouldTurnBackTim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557360"/>
            <a:ext cx="8820000" cy="31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바탕"/>
              </a:rPr>
              <a:t>HEY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바탕"/>
              </a:rPr>
              <a:t>PSSSST....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579280" y="2133720"/>
            <a:ext cx="30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odat elke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er op 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or 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cadeau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96000" cy="485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084560" cy="619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35280" y="2565360"/>
            <a:ext cx="48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il hiermee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880" y="5180040"/>
            <a:ext cx="40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k mag j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2349360"/>
            <a:ext cx="22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ik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 jij m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ok g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4775400" cy="55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145040" cy="633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80000" y="335772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 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581360"/>
            <a:ext cx="58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heb je meerd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hte vri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31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ur dit dan naar ze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00" y="54936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krijg je het dan te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41300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n weet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2040" y="5667480"/>
            <a:ext cx="58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echte vrienden h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e jou ook graag m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8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2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442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02280" y="4754520"/>
            <a:ext cx="21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Monotype Corsiva"/>
              </a:rPr>
              <a:t>Duvel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Ik wil jou 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45360" y="4508640"/>
            <a:ext cx="19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Weet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jij be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9000" y="404640"/>
            <a:ext cx="24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Jij 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bent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 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33760" y="5373720"/>
            <a:ext cx="526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Uhh,ik weet niet g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   </a:t>
            </a: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hoe ik het moet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73320" y="309600"/>
            <a:ext cx="47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Maar jij bent echt zo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           </a:t>
            </a: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ja hoe zeg ik da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3280" y="5492880"/>
            <a:ext cx="45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Laat ik het zo zeg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4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2200" y="2852640"/>
            <a:ext cx="313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k vind jou 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er 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riend(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ik hoop dat je mij ook een supertof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iend(in) v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91840" y="755640"/>
            <a:ext cx="444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ens 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n wereld 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471636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ens jou een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7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86760" y="5219640"/>
            <a:ext cx="496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lke dag een gliml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je ge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81080" y="1890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k wens je van a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t b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8560" y="1052640"/>
            <a:ext cx="40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k wens je een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l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5480" y="4724280"/>
            <a:ext cx="51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en zorgen,geen tran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gee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8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06:06:23Z</dcterms:created>
  <dc:creator>JP</dc:creator>
  <dc:description>Herbewerkte presentatie</dc:description>
  <dc:language>en-US</dc:language>
  <cp:lastModifiedBy>Smets</cp:lastModifiedBy>
  <dcterms:modified xsi:type="dcterms:W3CDTF">2008-09-30T05:01:36Z</dcterms:modified>
  <cp:revision>8</cp:revision>
  <dc:subject/>
  <dc:title>Psssst</dc:title>
</cp:coreProperties>
</file>