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3.png" ContentType="image/png"/>
  <Override PartName="/ppt/media/image7.jpeg" ContentType="image/jpeg"/>
  <Override PartName="/ppt/media/image11.png" ContentType="image/png"/>
  <Override PartName="/ppt/media/image6.wmf" ContentType="image/x-wmf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11984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EE7-0A9F-47A5-A6A1-EFF41F5C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957-6321-4761-8FBD-1FF8BE28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B0F-C9F1-4A1F-905B-546B89A2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FAB-5746-4A20-970E-96BA1F89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13F6-3B35-4A4A-A9D2-CA6ADA40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A1BB-9E40-43B4-ACDA-9C111532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2497-E90A-4909-8048-2BB864EE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AB54-A4A6-4858-BEEB-3E4EF478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F3F5-9877-4A8B-BC1F-799CA82F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BC27-B39C-46D4-A3DF-918F00FC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D48B-DE61-4B2E-8744-E48232B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ED7-E532-437B-8389-CA6EAEA5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9761-B02E-4C89-B7A5-DDA27F09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F865-B306-494C-BC0A-5D2E8D0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14DA-4578-434A-AECA-99F253F6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3FF0-59D4-42DF-8864-B53C6CB9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337E-4658-446F-9A8B-2276D50B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B5B-8BF9-4CFC-9ECB-A8E2BA5A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714-0E68-4AD9-A6ED-14F8187B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38B-0118-4243-AF10-2D4745D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DEF-4C34-435B-9068-A86F236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4CF-BF42-452A-AD49-77DAB0C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CA5-8401-4650-8185-923143A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A23-6E78-47D5-8AA2-1596BF4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235-CE63-47DA-914E-F25F00900F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7750-6C46-4E9C-8329-C4456B3399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8640" y="2234880"/>
            <a:ext cx="38354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KSI ORTOGRAF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KSI PARAL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KSI AXONOMET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images_010"/>
          <p:cNvPicPr/>
          <p:nvPr/>
        </p:nvPicPr>
        <p:blipFill>
          <a:blip r:embed="rId1"/>
          <a:stretch/>
        </p:blipFill>
        <p:spPr>
          <a:xfrm>
            <a:off x="279360" y="431640"/>
            <a:ext cx="4114800" cy="2691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415920" y="4888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muan ke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ROYEKSI PARAL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YEKSI M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YEKSI PLANOMETRI (Proyeksi Ilmu Ukur Bid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DE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YEKSI MI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680" y="9396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lah cara penggambaran bentuk berskala yang termodifikas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kuran tinggi, lebar dan dalam dengan perbandingan 2 : 2 : 1 (untuk memberikan kesan ny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yeksi cara ini juga disebut perspektif kavaler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ut kemiringan dibua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± 45 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scan0022"/>
          <p:cNvPicPr/>
          <p:nvPr/>
        </p:nvPicPr>
        <p:blipFill>
          <a:blip r:embed="rId1"/>
          <a:stretch/>
        </p:blipFill>
        <p:spPr>
          <a:xfrm>
            <a:off x="2552760" y="3736800"/>
            <a:ext cx="3824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 PLANO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lah bentuk rencana berskala yang termodifika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kuran tinggi, lebar dan dalam, untuk memberikan kesan nyata dg perbandingan 1:2: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dang disebut juga perspektif mili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scan0023"/>
          <p:cNvPicPr/>
          <p:nvPr/>
        </p:nvPicPr>
        <p:blipFill>
          <a:blip r:embed="rId1"/>
          <a:stretch/>
        </p:blipFill>
        <p:spPr>
          <a:xfrm>
            <a:off x="2882880" y="3583080"/>
            <a:ext cx="278136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NGAN DET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52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lam produksi suatu benda sering dijumpai kesulitan-kesulitan untuk menunjukkan konstruksi atau susunannya, karena itu dibuat gambar proyeksi parale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ring digunakan dalam konstruksi atap (sambungan kuda-kuda), industri mesin dan desain produksi. Untuk memperlihatkan bagaimana suatu benda dibuat atau dirak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scan0024"/>
          <p:cNvPicPr/>
          <p:nvPr/>
        </p:nvPicPr>
        <p:blipFill>
          <a:blip r:embed="rId1"/>
          <a:stretch/>
        </p:blipFill>
        <p:spPr>
          <a:xfrm>
            <a:off x="5753160" y="2143080"/>
            <a:ext cx="30924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 AXONO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alah sebuah sebutan umum bagi pandangan yang dihasilkan oleh garis-garis proyeksi suatu bend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cam2 Proyeksi Axonometri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Isomet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Dimet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Trimet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8400" y="240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O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5640" y="1193400"/>
            <a:ext cx="84834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atu bentuk proyeksi axonometri yang didatarkan, sehingga sudut-sudut sisi sebuah bujur sangkar menjadi 12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an 6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kuran tinggi, lebar dan dalam dalam perbandingan 1 : 1 :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ometri berarti satu uku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979640" y="4038480"/>
            <a:ext cx="56433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2080" y="1117440"/>
            <a:ext cx="79880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alah bentuk isometri yang termodifikasi, dengan ukuran tinggi, lebar dan dalam diubah untuk memberikan kesan ny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lam perbandingan 2:2:1 atau 3:3: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metri berarti dua uku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7960" y="3684600"/>
            <a:ext cx="5776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0560" y="3297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ME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86960" y="1485720"/>
            <a:ext cx="764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lah suatu modifikasi lebih jauh daripada isomet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ggi, lebar dan dalam disesuaikan dengan perbandingan 10:9:5 atau 6:5: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04640" y="3895560"/>
            <a:ext cx="5564520" cy="207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scan0028"/>
          <p:cNvPicPr/>
          <p:nvPr/>
        </p:nvPicPr>
        <p:blipFill>
          <a:blip r:embed="rId2"/>
          <a:stretch/>
        </p:blipFill>
        <p:spPr>
          <a:xfrm>
            <a:off x="5807160" y="4140360"/>
            <a:ext cx="31082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EL PERBANDING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362320"/>
          <a:ext cx="7580520" cy="4084560"/>
        </p:xfrm>
        <a:graphic>
          <a:graphicData uri="http://schemas.openxmlformats.org/drawingml/2006/table">
            <a:tbl>
              <a:tblPr/>
              <a:tblGrid>
                <a:gridCol w="2616480"/>
                <a:gridCol w="858600"/>
                <a:gridCol w="671760"/>
                <a:gridCol w="679320"/>
                <a:gridCol w="1433520"/>
                <a:gridCol w="1320840"/>
              </a:tblGrid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.Axonome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: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ME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1,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,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: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: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ME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124" descr="scan0029"/>
          <p:cNvPicPr/>
          <p:nvPr/>
        </p:nvPicPr>
        <p:blipFill>
          <a:blip r:embed="rId1"/>
          <a:stretch/>
        </p:blipFill>
        <p:spPr>
          <a:xfrm>
            <a:off x="6435720" y="263520"/>
            <a:ext cx="24782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PROYEKSI ORTOGRA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suatu penyajian gambar yang lebih dikenal dengan kata proyeksi sa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bar proyeksi menyajikan gambar suatu obyek dengan skala yang tep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kuran yang terdapat pada bidang proyeksi adalah ukuran yang terlihat dalam kenyataanny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CAM PROYEKSI ORTOGRAF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yeksi Standar Erop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yeksi Standar Amer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yeksi kombinasi kedua standar (Eropa dan Amerik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 STANDAR E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bagian dari Proyeksi Ortogonal, dengan tujuan agar mahasiwa bisa memahami teknik menggambar proyeksi dengan mengunakan sistem Eropa sesuai dengan petunjuk yang ben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utan proyeksi : Pengamat, obyek, bidang proyeksi --- (garis proyeksi ditarik menjauhi pengam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254160" y="1879560"/>
            <a:ext cx="2479680" cy="3786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DANG GAMBAR SEAKAN-AKAN SEBAGAI KU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1920960" y="1782720"/>
            <a:ext cx="3448080" cy="444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5156280" y="1716120"/>
            <a:ext cx="3830400" cy="29829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5003640" y="3762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DANG GAMBAR DIBENTANG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OH BENDA YANG DIPROYEKSIKAN DG SISTEM E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663560" y="1071720"/>
            <a:ext cx="46767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YEKSI STANDAR AMER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elah mengikuti pembelajaran dalam kegiatan belajar , mahasiswa diharapkan mampu untuk menggambar proyeksi dengan sistim Ameri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utan proyeksi : Pengamat, bidang proyeksi, obyek --- (garis proyeksi ditarik menuju pengam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MBENTANG BIDANG GAMB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981080" y="706320"/>
            <a:ext cx="496584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BENTANGAN BIDANG-BIDANG PROYEK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depan tetap berada didepa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atas berada di sebelah atas pandangan depa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samping kanan berada di sebelah kanan pandangan depa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ngan samping kiri berada di sebelah kiri pandangan dep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0:54:14Z</dcterms:created>
  <dc:creator>Admin</dc:creator>
  <dc:description/>
  <dc:language>en-US</dc:language>
  <cp:lastModifiedBy>mok</cp:lastModifiedBy>
  <dcterms:modified xsi:type="dcterms:W3CDTF">2012-10-31T04:47:32Z</dcterms:modified>
  <cp:revision>18</cp:revision>
  <dc:subject/>
  <dc:title>PROYEKSI</dc:title>
</cp:coreProperties>
</file>