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3.png" ContentType="image/png"/>
  <Override PartName="/ppt/media/image7.jpeg" ContentType="image/jpeg"/>
  <Override PartName="/ppt/media/image11.png" ContentType="image/png"/>
  <Override PartName="/ppt/media/image6.wmf" ContentType="image/x-wmf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11984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74F-5040-40C8-93B3-0CAF4AE2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2DC-5048-4C0A-86C0-C3ABF7EC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E6C-D482-4D35-AFB3-9E5BC1A4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6A0-9342-4D7C-9420-F05B89C5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3D07-9185-4B58-B3B7-651B003A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A1B-1648-424E-B904-31C128E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FC1-5220-4DB2-9057-24719181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3AF-11FF-4FFD-8050-4EB4B144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D38-4C7A-46A5-AB7E-9C750F2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D46-B2B3-45E5-AB44-C5F93E6A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0BB-C222-4059-8FA7-2DBA75E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618-D8F4-4E1B-A2AA-3B020DB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AAA-2CA6-4656-8AD3-5CCEA73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3401-98B9-447E-8C02-9EE82D7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6786-CC2B-4902-8FAD-879AFCFC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791-22D5-40CF-ACD8-C9DF70B2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17D-F9C0-47DC-9DE7-DEBC55BF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FCB-824D-435E-A242-7F0E4D9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16C-3387-4A66-8F52-A247C7E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62A-FAA5-457C-B7A2-0D88BE8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C71-AC2D-46B1-BF3E-3310737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BE8-DE75-4594-8178-0A03D74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116-6DD5-4C6D-B0DD-34C4DD55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9A2-59E4-478B-94F6-E2EF612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57A3-6BCE-465C-9BDA-3E487371A9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7F6-BE9F-42EF-BDBC-2E034F57FF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8640" y="2234880"/>
            <a:ext cx="38354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ORTOGRAF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PARAL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AXONOMET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images_010"/>
          <p:cNvPicPr/>
          <p:nvPr/>
        </p:nvPicPr>
        <p:blipFill>
          <a:blip r:embed="rId1"/>
          <a:stretch/>
        </p:blipFill>
        <p:spPr>
          <a:xfrm>
            <a:off x="279360" y="431640"/>
            <a:ext cx="4114800" cy="2691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415920" y="4888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muan k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ROYEKSI PARAL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YEKSI M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YEKSI PLANOMETRI (Proyeksi Ilmu Ukur Bid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YEKSI MI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939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lah cara penggambaran bentuk berskala yang termodifikas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kuran tinggi, lebar dan dalam dengan perbandingan 2 : 2 : 1 (untuk memberikan kesan ny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cara ini juga disebut perspektif kavaler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ut kemiringan dibu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± 45 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scan0022"/>
          <p:cNvPicPr/>
          <p:nvPr/>
        </p:nvPicPr>
        <p:blipFill>
          <a:blip r:embed="rId1"/>
          <a:stretch/>
        </p:blipFill>
        <p:spPr>
          <a:xfrm>
            <a:off x="2552760" y="3736800"/>
            <a:ext cx="382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PLAN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lah bentuk rencana berskala yang termodifika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kuran tinggi, lebar dan dalam, untuk memberikan kesan nyata dg perbandingan 1:2: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dang disebut juga perspektif mili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scan0023"/>
          <p:cNvPicPr/>
          <p:nvPr/>
        </p:nvPicPr>
        <p:blipFill>
          <a:blip r:embed="rId1"/>
          <a:stretch/>
        </p:blipFill>
        <p:spPr>
          <a:xfrm>
            <a:off x="2882880" y="3583080"/>
            <a:ext cx="27813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NGAN DE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52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lam produksi suatu benda sering dijumpai kesulitan-kesulitan untuk menunjukkan konstruksi atau susunannya, karena itu dibuat gambar proyeksi parale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ing digunakan dalam konstruksi atap (sambungan kuda-kuda), industri mesin dan desain produksi. Untuk memperlihatkan bagaimana suatu benda dibuat atau dirak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scan0024"/>
          <p:cNvPicPr/>
          <p:nvPr/>
        </p:nvPicPr>
        <p:blipFill>
          <a:blip r:embed="rId1"/>
          <a:stretch/>
        </p:blipFill>
        <p:spPr>
          <a:xfrm>
            <a:off x="5753160" y="2143080"/>
            <a:ext cx="30924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AXON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alah sebuah sebutan umum bagi pandangan yang dihasilkan oleh garis-garis proyeksi suatu bend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am2 Proyeksi Axonometr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Iso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Di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Tri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400" y="240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5640" y="1193400"/>
            <a:ext cx="84834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atu bentuk proyeksi axonometri yang didatarkan, sehingga sudut-sudut sisi sebuah bujur sangkar menjadi 1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n 6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kuran tinggi, lebar dan dalam dalam perbandingan 1 : 1 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ometri berarti satu uku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79640" y="4038480"/>
            <a:ext cx="56433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2080" y="1117440"/>
            <a:ext cx="79880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lah bentuk isometri yang termodifikasi, dengan ukuran tinggi, lebar dan dalam diubah untuk memberikan kesan ny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lam perbandingan 2:2:1 atau 3:3: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etri berarti dua uku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7960" y="3684600"/>
            <a:ext cx="5776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0560" y="3297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6960" y="1485720"/>
            <a:ext cx="764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lah suatu modifikasi lebih jauh daripada isomet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ggi, lebar dan dalam disesuaikan dengan perbandingan 10:9:5 atau 6:5: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04640" y="3895560"/>
            <a:ext cx="5564520" cy="207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scan0028"/>
          <p:cNvPicPr/>
          <p:nvPr/>
        </p:nvPicPr>
        <p:blipFill>
          <a:blip r:embed="rId2"/>
          <a:stretch/>
        </p:blipFill>
        <p:spPr>
          <a:xfrm>
            <a:off x="5807160" y="4140360"/>
            <a:ext cx="31082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EL PERBANDING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362320"/>
          <a:ext cx="7580520" cy="4084560"/>
        </p:xfrm>
        <a:graphic>
          <a:graphicData uri="http://schemas.openxmlformats.org/drawingml/2006/table">
            <a:tbl>
              <a:tblPr/>
              <a:tblGrid>
                <a:gridCol w="2616480"/>
                <a:gridCol w="858600"/>
                <a:gridCol w="671760"/>
                <a:gridCol w="679320"/>
                <a:gridCol w="1433520"/>
                <a:gridCol w="132084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.Axono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: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1,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: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24" descr="scan0029"/>
          <p:cNvPicPr/>
          <p:nvPr/>
        </p:nvPicPr>
        <p:blipFill>
          <a:blip r:embed="rId1"/>
          <a:stretch/>
        </p:blipFill>
        <p:spPr>
          <a:xfrm>
            <a:off x="6435720" y="263520"/>
            <a:ext cx="24782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YEKSI ORTOGRA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suatu penyajian gambar yang lebih dikenal dengan kata proyeksi sa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proyeksi menyajikan gambar suatu obyek dengan skala yang tep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kuran yang terdapat pada bidang proyeksi adalah ukuran yang terlihat dalam kenyataan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AM PROYEKSI ORTOGRA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Standar Erop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Standar Amer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kombinasi kedua standar (Eropa dan Amerik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STANDAR E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bagian dari Proyeksi Ortogonal, dengan tujuan agar mahasiwa bisa memahami teknik menggambar proyeksi dengan mengunakan sistem Eropa sesuai dengan petunjuk yang ben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utan proyeksi : Pengamat, obyek, bidang proyeksi --- (garis proyeksi ditarik menjauhi pengam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254160" y="1879560"/>
            <a:ext cx="2479680" cy="3786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DANG GAMBAR SEAKAN-AKAN SEBAGAI KU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920960" y="1782720"/>
            <a:ext cx="3448080" cy="444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156280" y="1716120"/>
            <a:ext cx="3830400" cy="2982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5003640" y="3762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DANG GAMBAR DIBENTANG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OH BENDA YANG DIPROYEKSIKAN DG SISTEM E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63560" y="1071720"/>
            <a:ext cx="46767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STANDAR AMER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elah mengikuti pembelajaran dalam kegiatan belajar , mahasiswa diharapkan mampu untuk menggambar proyeksi dengan sistim Ameri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utan proyeksi : Pengamat, bidang proyeksi, obyek --- (garis proyeksi ditarik menuju pengam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MBENTANG BIDANG GAMB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981080" y="706320"/>
            <a:ext cx="49658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BENTANGAN BIDANG-BIDANG PROYEK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depan tetap berada di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atas berada di sebelah atas pandangan 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samping kanan berada di sebelah kanan pandangan 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samping kiri berada di sebelah kiri pandangan de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54:14Z</dcterms:created>
  <dc:creator>Admin</dc:creator>
  <dc:description/>
  <dc:language>en-US</dc:language>
  <cp:lastModifiedBy>mok</cp:lastModifiedBy>
  <dcterms:modified xsi:type="dcterms:W3CDTF">2012-10-31T04:47:32Z</dcterms:modified>
  <cp:revision>18</cp:revision>
  <dc:subject/>
  <dc:title>PROYEKSI</dc:title>
</cp:coreProperties>
</file>