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1F3-2D30-402B-B763-63212109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5B9-124B-4EE2-8390-51AB339B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BA4-5779-4D10-BA32-7645F33E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5EC-9AAE-45C7-8B07-219640CA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C50-F8B3-4720-87DE-F11D9A45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053-03D6-47D6-9BDC-9EBF8174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CA2-258E-4D42-B094-13666430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1F0-5719-4437-B096-0EFFCDA2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6FE-B45E-4FF3-B4A5-ECA8BA11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CFC-D244-41CA-9502-B5B9C22D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ED0-7DDD-479B-81BF-AEBE3669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3AE-3DBC-4A9E-90AF-09F8A841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CCC0-FAEA-4841-9FBA-DFB1C32CE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83560"/>
            <a:chOff x="0" y="0"/>
            <a:chExt cx="9144000" cy="68835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0" t="14947" r="0" b="7872"/>
            <a:stretch/>
          </p:blipFill>
          <p:spPr>
            <a:xfrm>
              <a:off x="0" y="3441600"/>
              <a:ext cx="4572000" cy="344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0" t="9869" r="0" b="0"/>
            <a:stretch/>
          </p:blipFill>
          <p:spPr>
            <a:xfrm>
              <a:off x="0" y="0"/>
              <a:ext cx="4572000" cy="34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0" t="10633" r="0" b="0"/>
            <a:stretch/>
          </p:blipFill>
          <p:spPr>
            <a:xfrm>
              <a:off x="4572000" y="0"/>
              <a:ext cx="4572000" cy="34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rcRect l="0" t="0" r="0" b="2603"/>
            <a:stretch/>
          </p:blipFill>
          <p:spPr>
            <a:xfrm>
              <a:off x="457200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-3320640"/>
            <a:ext cx="9144000" cy="13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الدعام</a:t>
            </a:r>
            <a:r>
              <a:rPr b="1" lang="ar-DZ" sz="11000" spc="-1" strike="noStrike">
                <a:solidFill>
                  <a:srgbClr val="333399"/>
                </a:solidFill>
                <a:latin typeface="Arial"/>
              </a:rPr>
              <a:t>ـــــــــــــــــــ</a:t>
            </a: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ة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النسيجي</a:t>
            </a:r>
            <a:r>
              <a:rPr b="1" lang="ar-DZ" sz="11000" spc="-1" strike="noStrike">
                <a:solidFill>
                  <a:srgbClr val="333399"/>
                </a:solidFill>
                <a:latin typeface="Arial"/>
              </a:rPr>
              <a:t>ــــــــــــــــــ</a:t>
            </a: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ة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للسيال</a:t>
            </a:r>
            <a:r>
              <a:rPr b="1" lang="ar-DZ" sz="11000" spc="-1" strike="noStrike">
                <a:solidFill>
                  <a:srgbClr val="333399"/>
                </a:solidFill>
                <a:latin typeface="Arial"/>
              </a:rPr>
              <a:t>ـــــــــــــــــــــ</a:t>
            </a: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ة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العصبي</a:t>
            </a:r>
            <a:r>
              <a:rPr b="1" lang="ar-DZ" sz="11000" spc="-1" strike="noStrike">
                <a:solidFill>
                  <a:srgbClr val="333399"/>
                </a:solidFill>
                <a:latin typeface="Arial"/>
              </a:rPr>
              <a:t>ـــــــــــــــــــ</a:t>
            </a: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ة</a:t>
            </a:r>
            <a:r>
              <a:rPr b="0" lang="fr-FR" sz="11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14947" r="0" b="787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11280" y="44280"/>
            <a:ext cx="67327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6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عصبونات متعددة الأقطا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9869" r="0" b="0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59280" y="5827680"/>
            <a:ext cx="5976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6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عصبونات ثنائية القط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0633" r="0" b="0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33760" y="115920"/>
            <a:ext cx="5467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6000" spc="-1" strike="noStrike">
                <a:solidFill>
                  <a:srgbClr val="000080"/>
                </a:solidFill>
                <a:latin typeface="Times New Roman"/>
                <a:cs typeface="Simplified Arabic"/>
              </a:rPr>
              <a:t>مقطع في العصــ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6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19280" y="106200"/>
            <a:ext cx="7343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6000" spc="-1" strike="noStrike">
                <a:solidFill>
                  <a:srgbClr val="000080"/>
                </a:solidFill>
                <a:latin typeface="Times New Roman"/>
                <a:cs typeface="Simplified Arabic"/>
              </a:rPr>
              <a:t>جزء مكبر لمقطع في العص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0631" t="0" r="0" b="0"/>
          <a:stretch/>
        </p:blipFill>
        <p:spPr>
          <a:xfrm>
            <a:off x="0" y="86508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82720" y="5508720"/>
            <a:ext cx="75056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6000" spc="-1" strike="noStrike">
                <a:solidFill>
                  <a:srgbClr val="000080"/>
                </a:solidFill>
                <a:latin typeface="Times New Roman"/>
                <a:cs typeface="Simplified Arabic"/>
              </a:rPr>
              <a:t>عصب مفكك ( ألياف عصبية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40000" y="558720"/>
            <a:ext cx="20520" cy="70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16360" y="1109520"/>
            <a:ext cx="15840" cy="209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3760" y="692280"/>
            <a:ext cx="0" cy="102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187280" y="1368360"/>
            <a:ext cx="168480" cy="199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87440"/>
            <a:ext cx="20520" cy="704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-27000"/>
            <a:ext cx="117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ور أسطوا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81400" y="3357720"/>
            <a:ext cx="12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غمد شو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41360" y="30240"/>
            <a:ext cx="10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غمد النخاع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9120" y="3314880"/>
            <a:ext cx="139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ختناق رنف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7160" y="20520"/>
            <a:ext cx="85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اة شو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123920" y="6101640"/>
            <a:ext cx="113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000" spc="-1" strike="noStrike">
                <a:solidFill>
                  <a:srgbClr val="333399"/>
                </a:solidFill>
                <a:latin typeface="Arial"/>
              </a:rPr>
              <a:t>الإستحالة والتجديد على مستوى الليف العص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600"/>
                            </p:stCondLst>
                            <p:childTnLst>
                              <p:par>
                                <p:cTn id="10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60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6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860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4200"/>
                            </p:stCondLst>
                            <p:childTnLst>
                              <p:par>
                                <p:cTn id="1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0T07:42:09Z</dcterms:created>
  <dc:creator>SOFIANE YAHIAOUI</dc:creator>
  <dc:description/>
  <dc:language>en-US</dc:language>
  <cp:lastModifiedBy>SOFIANE YAHIAOUI</cp:lastModifiedBy>
  <dcterms:modified xsi:type="dcterms:W3CDTF">2006-07-30T07:56:00Z</dcterms:modified>
  <cp:revision>2</cp:revision>
  <dc:subject/>
  <dc:title>Diapositive 1</dc:title>
</cp:coreProperties>
</file>