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0B8E-468F-4E5F-AB99-6369177B1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6E35-058E-4916-A17B-AC550C43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91A9-4FEF-4173-BB26-90BCAC7B2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C055-B329-4907-9899-C75C34A0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79C4-B7D0-4088-AF87-12194A62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995E-1A42-4D1E-8BF6-AC57C2FB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4AF0-8E37-458D-9AD9-68FC102B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32D4-D98C-4388-A014-42EAF9B1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7D19-9686-4E2E-8422-4948A273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5100-9091-444D-AA83-97F5669C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3532-D7EC-41D4-B695-8910504E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24EE-0B35-4C9D-BC2E-804D96C1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768D-972D-4B1F-AD4B-B00465154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83560"/>
            <a:chOff x="0" y="0"/>
            <a:chExt cx="9144000" cy="6883560"/>
          </a:xfrm>
        </p:grpSpPr>
        <p:pic>
          <p:nvPicPr>
            <p:cNvPr id="42" name="" descr=""/>
            <p:cNvPicPr/>
            <p:nvPr/>
          </p:nvPicPr>
          <p:blipFill>
            <a:blip r:embed="rId1"/>
            <a:srcRect l="0" t="14947" r="0" b="7872"/>
            <a:stretch/>
          </p:blipFill>
          <p:spPr>
            <a:xfrm>
              <a:off x="0" y="3441600"/>
              <a:ext cx="4572000" cy="344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rcRect l="0" t="9869" r="0" b="0"/>
            <a:stretch/>
          </p:blipFill>
          <p:spPr>
            <a:xfrm>
              <a:off x="0" y="0"/>
              <a:ext cx="4572000" cy="344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rcRect l="0" t="10633" r="0" b="0"/>
            <a:stretch/>
          </p:blipFill>
          <p:spPr>
            <a:xfrm>
              <a:off x="4572000" y="0"/>
              <a:ext cx="4572000" cy="343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rcRect l="0" t="0" r="0" b="2603"/>
            <a:stretch/>
          </p:blipFill>
          <p:spPr>
            <a:xfrm>
              <a:off x="4572000" y="3429000"/>
              <a:ext cx="4572000" cy="342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/>
          <p:cNvSpPr/>
          <p:nvPr/>
        </p:nvSpPr>
        <p:spPr>
          <a:xfrm>
            <a:off x="0" y="-3320640"/>
            <a:ext cx="9144000" cy="13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333399"/>
                </a:solidFill>
                <a:latin typeface="Arial"/>
              </a:rPr>
              <a:t>الدعام</a:t>
            </a:r>
            <a:r>
              <a:rPr b="1" lang="ar-DZ" sz="11000" spc="-1" strike="noStrike">
                <a:solidFill>
                  <a:srgbClr val="333399"/>
                </a:solidFill>
                <a:latin typeface="Arial"/>
              </a:rPr>
              <a:t>ـــــــــــــــــــ</a:t>
            </a:r>
            <a:r>
              <a:rPr b="1" lang="ar-SA" sz="11000" spc="-1" strike="noStrike">
                <a:solidFill>
                  <a:srgbClr val="333399"/>
                </a:solidFill>
                <a:latin typeface="Arial"/>
              </a:rPr>
              <a:t>ة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333399"/>
                </a:solidFill>
                <a:latin typeface="Arial"/>
              </a:rPr>
              <a:t>النسيجي</a:t>
            </a:r>
            <a:r>
              <a:rPr b="1" lang="ar-DZ" sz="11000" spc="-1" strike="noStrike">
                <a:solidFill>
                  <a:srgbClr val="333399"/>
                </a:solidFill>
                <a:latin typeface="Arial"/>
              </a:rPr>
              <a:t>ــــــــــــــــــ</a:t>
            </a:r>
            <a:r>
              <a:rPr b="1" lang="ar-SA" sz="11000" spc="-1" strike="noStrike">
                <a:solidFill>
                  <a:srgbClr val="333399"/>
                </a:solidFill>
                <a:latin typeface="Arial"/>
              </a:rPr>
              <a:t>ة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333399"/>
                </a:solidFill>
                <a:latin typeface="Arial"/>
              </a:rPr>
              <a:t>للسيال</a:t>
            </a:r>
            <a:r>
              <a:rPr b="1" lang="ar-DZ" sz="11000" spc="-1" strike="noStrike">
                <a:solidFill>
                  <a:srgbClr val="333399"/>
                </a:solidFill>
                <a:latin typeface="Arial"/>
              </a:rPr>
              <a:t>ـــــــــــــــــــــ</a:t>
            </a:r>
            <a:r>
              <a:rPr b="1" lang="ar-SA" sz="11000" spc="-1" strike="noStrike">
                <a:solidFill>
                  <a:srgbClr val="333399"/>
                </a:solidFill>
                <a:latin typeface="Arial"/>
              </a:rPr>
              <a:t>ة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333399"/>
                </a:solidFill>
                <a:latin typeface="Arial"/>
              </a:rPr>
              <a:t>العصبي</a:t>
            </a:r>
            <a:r>
              <a:rPr b="1" lang="ar-DZ" sz="11000" spc="-1" strike="noStrike">
                <a:solidFill>
                  <a:srgbClr val="333399"/>
                </a:solidFill>
                <a:latin typeface="Arial"/>
              </a:rPr>
              <a:t>ـــــــــــــــــــ</a:t>
            </a:r>
            <a:r>
              <a:rPr b="1" lang="ar-SA" sz="11000" spc="-1" strike="noStrike">
                <a:solidFill>
                  <a:srgbClr val="333399"/>
                </a:solidFill>
                <a:latin typeface="Arial"/>
              </a:rPr>
              <a:t>ة</a:t>
            </a:r>
            <a:r>
              <a:rPr b="0" lang="fr-FR" sz="11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14947" r="0" b="787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11280" y="44280"/>
            <a:ext cx="673272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6000" spc="-1" strike="noStrike">
                <a:solidFill>
                  <a:srgbClr val="333399"/>
                </a:solidFill>
                <a:latin typeface="Times New Roman"/>
                <a:cs typeface="Simplified Arabic"/>
              </a:rPr>
              <a:t>عصبونات متعددة الأقطا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9869" r="0" b="0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59280" y="5827680"/>
            <a:ext cx="59767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6000" spc="-1" strike="noStrike">
                <a:solidFill>
                  <a:srgbClr val="333399"/>
                </a:solidFill>
                <a:latin typeface="Times New Roman"/>
                <a:cs typeface="Simplified Arabic"/>
              </a:rPr>
              <a:t>عصبونات ثنائية القط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10633" r="0" b="0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633760" y="115920"/>
            <a:ext cx="54673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6000" spc="-1" strike="noStrike">
                <a:solidFill>
                  <a:srgbClr val="000080"/>
                </a:solidFill>
                <a:latin typeface="Times New Roman"/>
                <a:cs typeface="Simplified Arabic"/>
              </a:rPr>
              <a:t>مقطع في العصــ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260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19280" y="106200"/>
            <a:ext cx="734364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6000" spc="-1" strike="noStrike">
                <a:solidFill>
                  <a:srgbClr val="000080"/>
                </a:solidFill>
                <a:latin typeface="Times New Roman"/>
                <a:cs typeface="Simplified Arabic"/>
              </a:rPr>
              <a:t>جزء مكبر لمقطع في العص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10631" t="0" r="0" b="0"/>
          <a:stretch/>
        </p:blipFill>
        <p:spPr>
          <a:xfrm>
            <a:off x="0" y="865080"/>
            <a:ext cx="9144000" cy="407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82720" y="5508720"/>
            <a:ext cx="750564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6000" spc="-1" strike="noStrike">
                <a:solidFill>
                  <a:srgbClr val="000080"/>
                </a:solidFill>
                <a:latin typeface="Times New Roman"/>
                <a:cs typeface="Simplified Arabic"/>
              </a:rPr>
              <a:t>عصب مفكك ( ألياف عصبية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403200"/>
            <a:ext cx="9144000" cy="6121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340000" y="558720"/>
            <a:ext cx="20520" cy="70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916360" y="1109520"/>
            <a:ext cx="15840" cy="2092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33760" y="692280"/>
            <a:ext cx="0" cy="1028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187280" y="1368360"/>
            <a:ext cx="168480" cy="199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487440"/>
            <a:ext cx="20520" cy="704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-27000"/>
            <a:ext cx="117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حور أسطوان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81400" y="3357720"/>
            <a:ext cx="12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غمد شو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41360" y="30240"/>
            <a:ext cx="10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غمد النخاع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9120" y="3314880"/>
            <a:ext cx="139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ختناق رنف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7160" y="20520"/>
            <a:ext cx="85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واة شو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1123920" y="6101640"/>
            <a:ext cx="1137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4000" spc="-1" strike="noStrike">
                <a:solidFill>
                  <a:srgbClr val="333399"/>
                </a:solidFill>
                <a:latin typeface="Arial"/>
              </a:rPr>
              <a:t>الإستحالة والتجديد على مستوى الليف العصب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7000"/>
                            </p:stCondLst>
                            <p:childTnLst>
                              <p:par>
                                <p:cTn id="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9000"/>
                            </p:stCondLst>
                            <p:childTnLst>
                              <p:par>
                                <p:cTn id="9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2600"/>
                            </p:stCondLst>
                            <p:childTnLst>
                              <p:par>
                                <p:cTn id="10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4600"/>
                            </p:stCondLst>
                            <p:childTnLst>
                              <p:par>
                                <p:cTn id="1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66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8600"/>
                            </p:stCondLst>
                            <p:childTnLst>
                              <p:par>
                                <p:cTn id="12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4200"/>
                            </p:stCondLst>
                            <p:childTnLst>
                              <p:par>
                                <p:cTn id="1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30T07:42:09Z</dcterms:created>
  <dc:creator>SOFIANE YAHIAOUI</dc:creator>
  <dc:description/>
  <dc:language>en-US</dc:language>
  <cp:lastModifiedBy>SOFIANE YAHIAOUI</cp:lastModifiedBy>
  <dcterms:modified xsi:type="dcterms:W3CDTF">2006-07-30T07:56:00Z</dcterms:modified>
  <cp:revision>2</cp:revision>
  <dc:subject/>
  <dc:title>Diapositive 1</dc:title>
</cp:coreProperties>
</file>