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95D-B79E-4933-98F2-4835B701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AB71-FC61-4C75-B053-509BFA3D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9303-2398-45B4-BBF2-43D64EEF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E2D-5BB4-4C5B-92D1-4E10AF2A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6CF-E392-4DAF-97EC-585C0B0D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E4C-F722-4EA6-9263-60F23A69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929-69C1-4B23-805B-B14D1E7F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8D63-DB76-4FBB-B738-CE3EAF9F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25E-AEE7-4B4A-9792-28631D32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9B2-3363-40FE-AD2B-B4D8FDED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741-7C33-4C78-872D-639168BB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170-5A4B-4325-8896-5DBB0CF0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DB30F-9684-4271-8428-D7F6D282D6A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F900F-A19E-47A6-9064-64114AB4D168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6:12:25Z</dcterms:created>
  <dc:creator>최봉수</dc:creator>
  <dc:description/>
  <dc:language>en-US</dc:language>
  <cp:lastModifiedBy>맛있다 군만두</cp:lastModifiedBy>
  <dcterms:modified xsi:type="dcterms:W3CDTF">2024-10-01T03:00:53Z</dcterms:modified>
  <cp:revision>3</cp:revision>
  <dc:subject/>
  <dc:title>슬라이드 1</dc:title>
</cp:coreProperties>
</file>