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9A7E-7E84-42A4-BA28-2FD5C095C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7F09-5469-4FDC-AC35-B8F9B3484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2F3A-F087-46FC-A4D7-66D772B18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0FF3-5CF3-4BA9-ADBC-911150FAE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5AEA-1DC2-49FA-82AF-0F85C7E29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BCE4-36A0-49FB-9094-1092F35AF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EE7E-7ACC-44AF-A825-729C23A74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EEED-E961-4B31-885F-CE949FBB9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AE1E-1C7A-4454-A79B-BCEB240A3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CD36-D8D5-48A8-BC52-4D2EE88E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6BEA-AA4B-4CE3-BF13-1190CA476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862D-E763-462A-975F-B8C13040D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5AC35C-E2F1-4179-B9BC-77AE54D3D73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DFF19B-54E3-4E64-BE07-9C718B2999C3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" Target="slide1.xm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4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7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0" name="Picture 12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3">
              <a:hlinkClick r:id="rId6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4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7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0" name="Picture 12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3T16:12:25Z</dcterms:created>
  <dc:creator>최봉수</dc:creator>
  <dc:description/>
  <dc:language>en-US</dc:language>
  <cp:lastModifiedBy>맛있다 군만두</cp:lastModifiedBy>
  <dcterms:modified xsi:type="dcterms:W3CDTF">2024-10-01T03:00:53Z</dcterms:modified>
  <cp:revision>3</cp:revision>
  <dc:subject/>
  <dc:title>슬라이드 1</dc:title>
</cp:coreProperties>
</file>