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1.gif" ContentType="image/gif"/>
  <Override PartName="/ppt/media/image8.wmf" ContentType="image/x-wmf"/>
  <Override PartName="/ppt/media/image13.wmf" ContentType="image/x-wmf"/>
  <Override PartName="/ppt/media/image2.gif" ContentType="image/gi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34.png" ContentType="image/png"/>
  <Override PartName="/ppt/media/image17.wmf" ContentType="image/x-wmf"/>
  <Override PartName="/ppt/media/image35.png" ContentType="image/png"/>
  <Override PartName="/ppt/media/image18.wmf" ContentType="image/x-wmf"/>
  <Override PartName="/ppt/media/image6.wmf" ContentType="image/x-wmf"/>
  <Override PartName="/ppt/media/image36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0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788E-FD97-4609-B9D9-F8163380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D739-546E-4328-A174-F1AC37AF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9344-3F37-42FB-A702-80489F13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FF75-164A-4725-855D-4C4E84F0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8221-0CE1-492F-B3B3-222FF0E0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65B4-FE01-42F0-A41D-31186C92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4632-187C-4626-A2F1-37FC415E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037B-9ADF-4187-8E56-3FC1F0C7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9282-C5C6-4BC0-8AB6-6616FE47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A9EA-C9B5-45F9-B4B0-AF4FABB5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5804-004D-4751-BCE4-A7E918B9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2E90-45E3-4D16-B1B1-C6C46F8C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7362-B3CA-4BBC-9562-F79995FC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5C81-6651-48CB-95D0-8E26DBEA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2322-45BC-435A-AED7-1E47341C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CB19-4686-4540-8BAF-84888445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219D-10D5-473E-9FB7-29A45B8C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B0A1-790F-41F6-B22C-FA69E951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17A8-1AFD-4B41-8744-1C658B67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4C96-34DF-4C1F-A97D-7D5E2F55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FE62-3E45-48E5-9FC0-1B4F53B3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5395-6E03-4D26-8597-E3C6440B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1FA4-B573-4DB3-94DC-48FCD428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3C3D-BE77-4B0A-8F58-42B48385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A5F1-A349-41DB-AAED-255AF086A33A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B426-9579-41A5-AA20-8F7F77F883C1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1680" y="393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7772400" cy="4724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eec94"/>
                </a:solidFill>
                <a:latin typeface="Times New Roman"/>
              </a:rPr>
              <a:t>مثال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: احسب النسبة المئوية الوزنية لمحلول تم تحضيره بإذابة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5g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 نترات فضة في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100mL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من الماء باعتبار كثافة الماء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1g/mL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2000" y="2467080"/>
            <a:ext cx="519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t.(g) of solv.=100 mL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g/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g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t.(g) of sol.= 100g+5g=105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295280" y="3962520"/>
                <a:ext cx="624852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W/W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2438280" y="57902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plified Arabic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plified Arabic"/>
              </a:rPr>
              <a:t>4.76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40080" y="277920"/>
            <a:ext cx="62467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 النسبة المئوية الحجمية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/V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) %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28600" y="3581280"/>
          <a:ext cx="891540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581280"/>
                    <a:ext cx="89154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058400" y="960120"/>
            <a:ext cx="71208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تعرف بحجم المذاب بـ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L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المذابة ف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0mL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من المحلول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1360" y="447480"/>
            <a:ext cx="807732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eec94"/>
                </a:solidFill>
                <a:latin typeface="Times New Roman"/>
              </a:rPr>
              <a:t>مثال: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 احسب النسبة المئوية الحجمية لمحلول تم تحضيره بإضافة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50mL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ميثانول إلى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200mL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ماء.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1922400"/>
            <a:ext cx="6519960" cy="21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V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Arial"/>
                <a:ea typeface="Simplified Arabic"/>
              </a:rPr>
              <a:t>m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of sol.=50 + 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250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784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219320" y="3733920"/>
                <a:ext cx="647676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/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2057400" y="5866560"/>
            <a:ext cx="14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2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-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- النسبة المئوية 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W/V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) %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76320" y="3733920"/>
          <a:ext cx="9067680" cy="15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733920"/>
                    <a:ext cx="906768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914400" y="1828440"/>
            <a:ext cx="7238880" cy="11912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ويعبر عنها بوزن المادة بـ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المذابة ف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0mL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من المحلول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0" lang="ar-SA" sz="4400" spc="-1" strike="noStrike">
                <a:solidFill>
                  <a:srgbClr val="feec94"/>
                </a:solidFill>
                <a:latin typeface="Times New Roman"/>
              </a:rPr>
              <a:t>المولارية</a:t>
            </a: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    (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</a:t>
            </a: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)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larity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219320" y="2438280"/>
          <a:ext cx="5638680" cy="14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438280"/>
                    <a:ext cx="563868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143000" y="4038480"/>
          <a:ext cx="5562720" cy="123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038480"/>
                    <a:ext cx="5562720" cy="12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762120" y="5410080"/>
          <a:ext cx="6476760" cy="115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410080"/>
                    <a:ext cx="647676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685800" y="822240"/>
            <a:ext cx="769608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تعرف بعدد المولات (عدد الجزيئات الجرامية 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مذابة في لتر من المحلول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eec94"/>
                </a:solidFill>
                <a:latin typeface="Times New Roman"/>
              </a:rPr>
              <a:t>مثال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:  احسب التركيز المولاري لـ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4g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 من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aOH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 مذاب في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500mL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 من المحلول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o.wt.= 40 g mole-1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828800" y="1758960"/>
                <a:ext cx="380988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0" y="4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133720" y="3505320"/>
                <a:ext cx="350496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20960" y="533304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392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4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0" lang="ar-SA" sz="3600" spc="-1" strike="noStrike">
                <a:solidFill>
                  <a:srgbClr val="feec94"/>
                </a:solidFill>
                <a:latin typeface="Times New Roman"/>
              </a:rPr>
              <a:t> العيارية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     (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N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)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Normality</a:t>
            </a:r>
            <a:br>
              <a:rPr sz="3600"/>
            </a:b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752480" y="2514600"/>
          <a:ext cx="5791320" cy="14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514600"/>
                    <a:ext cx="579132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752480" y="4038480"/>
          <a:ext cx="6019920" cy="12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038480"/>
                    <a:ext cx="601992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905120" y="5334120"/>
          <a:ext cx="5638680" cy="103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5334120"/>
                    <a:ext cx="56386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-754560" y="1142640"/>
            <a:ext cx="105105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تعرف بعدد الجرامات المكافئة (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.eq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) من المادة المذاب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في لتر من المحلول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eec94"/>
                </a:solidFill>
                <a:latin typeface="Times New Roman"/>
              </a:rPr>
              <a:t>مثال: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 احسب عيارية محلول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HCl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الذي يحتوي على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4.01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g/L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286000" y="2057400"/>
                <a:ext cx="4419720" cy="17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743200" y="4191120"/>
                <a:ext cx="3352680" cy="21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heel spokes="8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5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  المولالية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Molality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(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m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)</a:t>
            </a:r>
            <a:br>
              <a:rPr sz="3600"/>
            </a:br>
            <a:br>
              <a:rPr sz="3600"/>
            </a:b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وتعرف بعدد مولات المذاب في كيلوجرام من المذيب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47920" y="2895480"/>
          <a:ext cx="5410080" cy="9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895480"/>
                    <a:ext cx="541008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62120" y="4191120"/>
          <a:ext cx="6553080" cy="97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191120"/>
                    <a:ext cx="655308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914400" y="5486400"/>
          <a:ext cx="6172200" cy="97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5486400"/>
                    <a:ext cx="617220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3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eec94"/>
                </a:solidFill>
                <a:latin typeface="Times New Roman"/>
              </a:rPr>
              <a:t>مثال: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كم تكون المولالية لمحلول من هيدروكسيد الصوديوم يحتوي على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8g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من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NaOH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في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500g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من الماء.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286000" y="2666880"/>
                <a:ext cx="37339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of sol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286000" y="3886200"/>
                <a:ext cx="274320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1981080" y="52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0.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2392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6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eec94"/>
                </a:solidFill>
                <a:latin typeface="Times New Roman"/>
              </a:rPr>
              <a:t> الكسر الجزيئي ألجرامي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(الكسر المولي)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ole fraction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14400" y="2590920"/>
          <a:ext cx="6324480" cy="15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90920"/>
                    <a:ext cx="632448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762120" y="793080"/>
            <a:ext cx="73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عرف الكسر الجزيئي  الجرامي لأي مكون من مكونات محلول بأنه عدد مولات ذلك المكون مقسوما على العدد الكلي لمولات جميع مكونات المحل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62120" y="4495680"/>
          <a:ext cx="6172200" cy="14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495680"/>
                    <a:ext cx="617220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eec94"/>
                </a:solidFill>
                <a:latin typeface="Times New Roman"/>
              </a:rPr>
              <a:t>مثال: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يحتوي محلول على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moles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من الكحول الايثيلي و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moles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من الماء احسب الكسر المولي لكل مكون.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209680" y="2438280"/>
          <a:ext cx="4648320" cy="11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464832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209680" y="4419720"/>
          <a:ext cx="4572000" cy="113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4419720"/>
                    <a:ext cx="457200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7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0" lang="ar-SA" sz="40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0" lang="ar-SA" sz="4000" spc="-1" strike="noStrike">
                <a:solidFill>
                  <a:srgbClr val="feec94"/>
                </a:solidFill>
                <a:latin typeface="Times New Roman"/>
              </a:rPr>
              <a:t>- </a:t>
            </a: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7</a:t>
            </a: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ar-SA" sz="4000" spc="-1" strike="noStrike">
                <a:solidFill>
                  <a:srgbClr val="feec94"/>
                </a:solidFill>
                <a:latin typeface="Times New Roman"/>
              </a:rPr>
              <a:t>نسبة التخفيف      </a:t>
            </a: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dilution ratio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958680"/>
            <a:ext cx="81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مكن التعبير عن تركيز الحوامض والقواعد المخففة بواسطة نسبة تخفيف الحام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أو القاعدة المركزة بالما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507960" y="2600280"/>
            <a:ext cx="10161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مثال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Cl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يتم تحضيره بإضافة حجم من حامض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Cl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إلى حجم واحد من الما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: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يتم تحضيره بإضافة حجم واحد من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إلى أربعة حجوم من الما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: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يتم تحضيره بإضافة حجمين من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إلى ثلاثة حجوم من الما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eec94"/>
                </a:solidFill>
                <a:uFillTx/>
                <a:latin typeface="Times New Roman"/>
              </a:rPr>
              <a:t>العلاقة بين المولارية (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M</a:t>
            </a:r>
            <a:r>
              <a:rPr b="1" lang="ar-SA" sz="4400" spc="-1" strike="noStrike" u="sng">
                <a:solidFill>
                  <a:srgbClr val="feec94"/>
                </a:solidFill>
                <a:uFillTx/>
                <a:latin typeface="Times New Roman"/>
              </a:rPr>
              <a:t>) والعيارية (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N</a:t>
            </a:r>
            <a:r>
              <a:rPr b="1" lang="ar-SA" sz="4400" spc="-1" strike="noStrike" u="sng">
                <a:solidFill>
                  <a:srgbClr val="feec94"/>
                </a:solidFill>
                <a:uFillTx/>
                <a:latin typeface="Times New Roman"/>
              </a:rPr>
              <a:t> )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2895480"/>
          <a:ext cx="8991720" cy="15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95480"/>
                    <a:ext cx="8991720" cy="15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eec94"/>
                </a:solidFill>
                <a:uFillTx/>
                <a:latin typeface="Times New Roman"/>
              </a:rPr>
              <a:t>العلاقة بين التركيز والعيارية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28600" y="1981080"/>
          <a:ext cx="8763120" cy="40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8763120" cy="40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838080" y="1066680"/>
          <a:ext cx="662940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662940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76320" y="4191120"/>
          <a:ext cx="8915400" cy="103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4191120"/>
                    <a:ext cx="891540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3886200" y="227880"/>
            <a:ext cx="474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بما أ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61360" y="3344040"/>
            <a:ext cx="46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من المعادلة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26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) في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25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43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eec94"/>
                </a:solidFill>
                <a:uFillTx/>
                <a:latin typeface="Times New Roman"/>
              </a:rPr>
              <a:t>العلاقة بين التركيز والمولارية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0" y="2895480"/>
          <a:ext cx="8839080" cy="9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95480"/>
                    <a:ext cx="88390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eec94"/>
                </a:solidFill>
                <a:uFillTx/>
                <a:latin typeface="Times New Roman"/>
              </a:rPr>
              <a:t>العلاقة بين التركيز بـ 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g/L</a:t>
            </a:r>
            <a:r>
              <a:rPr b="1" lang="ar-SA" sz="4000" spc="-1" strike="noStrike" u="sng">
                <a:solidFill>
                  <a:srgbClr val="feec94"/>
                </a:solidFill>
                <a:uFillTx/>
                <a:latin typeface="Times New Roman"/>
              </a:rPr>
              <a:t> والنسبة المئوية الوزنية 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(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W/W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)%</a:t>
            </a:r>
            <a:r>
              <a:rPr b="1" lang="ar-SA" sz="4000" spc="-1" strike="noStrike" u="sng">
                <a:solidFill>
                  <a:srgbClr val="feec94"/>
                </a:solidFill>
                <a:uFillTx/>
                <a:latin typeface="Times New Roman"/>
              </a:rPr>
              <a:t>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52280" y="3719520"/>
          <a:ext cx="883944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719520"/>
                    <a:ext cx="883944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eec94"/>
                </a:solidFill>
                <a:uFillTx/>
                <a:latin typeface="Times New Roman"/>
              </a:rPr>
              <a:t>العلاقة بين العيارية والنسبة المئوية الوزنية 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(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W/W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)%</a:t>
            </a:r>
            <a:r>
              <a:rPr b="1" lang="ar-SA" sz="4000" spc="-1" strike="noStrike" u="sng">
                <a:solidFill>
                  <a:srgbClr val="feec94"/>
                </a:solidFill>
                <a:uFillTx/>
                <a:latin typeface="Times New Roman"/>
              </a:rPr>
              <a:t>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76320" y="2503440"/>
          <a:ext cx="8915400" cy="16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503440"/>
                    <a:ext cx="891540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1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eec94"/>
                </a:solidFill>
                <a:uFillTx/>
                <a:latin typeface="Times New Roman"/>
              </a:rPr>
              <a:t>العلاقة بين المولارية والنسبة المئوية الوزنية 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(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W/W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)%</a:t>
            </a:r>
            <a:r>
              <a:rPr b="1" lang="ar-SA" sz="4000" spc="-1" strike="noStrike" u="sng">
                <a:solidFill>
                  <a:srgbClr val="feec94"/>
                </a:solidFill>
                <a:uFillTx/>
                <a:latin typeface="Times New Roman"/>
              </a:rPr>
              <a:t>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28600" y="3048120"/>
          <a:ext cx="8610480" cy="14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8120"/>
                    <a:ext cx="861048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eec94"/>
                </a:solidFill>
                <a:latin typeface="Times New Roman"/>
              </a:rPr>
              <a:t>طرق التعبير عن التركيز 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Methods Expressing Concentration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905120" y="2133720"/>
          <a:ext cx="5410080" cy="15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133720"/>
                    <a:ext cx="5410080" cy="15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733920" y="1523160"/>
            <a:ext cx="50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ffffff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تعبير عن التركيز ب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Simplified Arabic"/>
              </a:rPr>
              <a:t>g/L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Simplified Arabic"/>
              </a:rPr>
              <a:t> ويمثل بالعلاقة الآتي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656520"/>
            <a:ext cx="476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buClr>
                <a:srgbClr val="ffffff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تعبير عن التركيز ب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Simplified Arabic"/>
              </a:rPr>
              <a:t>mg/mL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Simplified Arabic"/>
              </a:rPr>
              <a:t> ويمثل بالعلاقة الآتي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3880" y="4648320"/>
          <a:ext cx="5867640" cy="191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4648320"/>
                    <a:ext cx="586764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eec94"/>
                </a:solidFill>
                <a:uFillTx/>
                <a:latin typeface="Times New Roman"/>
              </a:rPr>
              <a:t>العلاقة بين النسبة المئوية 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(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V/W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)%</a:t>
            </a:r>
            <a:r>
              <a:rPr b="1" lang="ar-SA" sz="4000" spc="-1" strike="noStrike" u="sng">
                <a:solidFill>
                  <a:srgbClr val="feec94"/>
                </a:solidFill>
                <a:uFillTx/>
                <a:latin typeface="Times New Roman"/>
              </a:rPr>
              <a:t> و 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(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W/W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)%</a:t>
            </a:r>
            <a:r>
              <a:rPr b="1" lang="ar-SA" sz="4000" spc="-1" strike="noStrike" u="sng">
                <a:solidFill>
                  <a:srgbClr val="feec94"/>
                </a:solidFill>
                <a:uFillTx/>
                <a:latin typeface="Times New Roman"/>
              </a:rPr>
              <a:t>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243756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/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% = (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/W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%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d of sol.          (37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eec94"/>
                </a:solidFill>
                <a:uFillTx/>
                <a:latin typeface="Times New Roman"/>
              </a:rPr>
              <a:t>العلاقة النسبة المئوية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(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V/W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)%</a:t>
            </a:r>
            <a:r>
              <a:rPr b="1" lang="ar-SA" sz="4400" spc="-1" strike="noStrike" u="sng">
                <a:solidFill>
                  <a:srgbClr val="feec94"/>
                </a:solidFill>
                <a:uFillTx/>
                <a:latin typeface="Times New Roman"/>
              </a:rPr>
              <a:t> و العياري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-76320" y="2209680"/>
          <a:ext cx="914400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2209680"/>
                    <a:ext cx="914400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eec94"/>
                </a:solidFill>
                <a:uFillTx/>
                <a:latin typeface="Times New Roman"/>
              </a:rPr>
              <a:t>العلاقة النسبة المئوية 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(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V/W</a:t>
            </a: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)%</a:t>
            </a:r>
            <a:r>
              <a:rPr b="1" lang="ar-SA" sz="4000" spc="-1" strike="noStrike" u="sng">
                <a:solidFill>
                  <a:srgbClr val="feec94"/>
                </a:solidFill>
                <a:uFillTx/>
                <a:latin typeface="Times New Roman"/>
              </a:rPr>
              <a:t> والمولارية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-76320" y="2930400"/>
          <a:ext cx="9144000" cy="17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2930400"/>
                    <a:ext cx="9144000" cy="17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4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تخفيف المحاليل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2057040"/>
            <a:ext cx="8001000" cy="14644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Times New Roman"/>
              </a:rPr>
              <a:t>يمكن حساب كمية المادة المذابة في محلول ذي تركيز معين من العلاقة الآتية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Times New Roman"/>
              </a:rPr>
              <a:t>كمية المادة المذابة = الحجم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ar-SA" sz="3000" spc="-1" strike="noStrike">
                <a:solidFill>
                  <a:srgbClr val="ffffff"/>
                </a:solidFill>
                <a:latin typeface="Times New Roman"/>
              </a:rPr>
              <a:t> التركي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346480" y="4571280"/>
            <a:ext cx="37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2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2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1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28600" y="15120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مثال: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محلول من مادة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OH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حجمه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mL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وتركيزه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/mL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) احسب تركيز المحلول إذا خفف  بالماء المقطر إلى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L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07600" y="2560680"/>
            <a:ext cx="452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2 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2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1 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V1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2 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5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5 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0.5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/mL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قاعدة المزج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8000" y="668160"/>
            <a:ext cx="90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يمكن تحضير محلول له نسبة مئوية معينة من محلول آخر من نفس المادة له نسبة مئوية معروفة، أو من محلولين من نفس المادة لكل منهم  نسبة مئويةمعروفة ، حيث تستخدم  قاعدة المزج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Mixing Rul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، فإذا مزج محلول تركيزه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%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) مع محلول تركيزه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%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) تكون محلول تركيزه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%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)، فإذا كان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a&gt;b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فان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a&gt;c&gt;b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-4292640" y="3297240"/>
          <a:ext cx="111456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292640" y="3297240"/>
                    <a:ext cx="11145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-4292640" y="412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819520" y="3886200"/>
          <a:ext cx="3809880" cy="28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886200"/>
                    <a:ext cx="380988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مثال: كيف يتم تحضير محلول يحتوي على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40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%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 من حامض النتريك من محلول نسبة حامض النتريك به تبلغ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96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%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 وكثافته النوعية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d=1.495 g/mL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)</a:t>
            </a: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352680" y="1828800"/>
          <a:ext cx="2971800" cy="18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828800"/>
                    <a:ext cx="297180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-1093680" y="3978360"/>
            <a:ext cx="114188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Times New Roman"/>
              </a:rPr>
              <a:t>نأخذ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ar-SA" sz="3000" spc="-1" strike="noStrike">
                <a:solidFill>
                  <a:srgbClr val="ffffff"/>
                </a:solidFill>
                <a:latin typeface="Times New Roman"/>
              </a:rPr>
              <a:t> من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NO3 96%</a:t>
            </a:r>
            <a:r>
              <a:rPr b="0" lang="ar-SA" sz="3000" spc="-1" strike="noStrike">
                <a:solidFill>
                  <a:srgbClr val="ffffff"/>
                </a:solidFill>
                <a:latin typeface="Times New Roman"/>
              </a:rPr>
              <a:t> ونضيف اليه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56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ar-SA" sz="3000" spc="-1" strike="noStrike">
                <a:solidFill>
                  <a:srgbClr val="ffffff"/>
                </a:solidFill>
                <a:latin typeface="Times New Roman"/>
              </a:rPr>
              <a:t> ماء مقطر نحصل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Times New Roman"/>
              </a:rPr>
              <a:t>على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%</a:t>
            </a:r>
            <a:r>
              <a:rPr b="0" lang="ar-SA" sz="3000" spc="-1" strike="noStrike">
                <a:solidFill>
                  <a:srgbClr val="ffffff"/>
                </a:solidFill>
                <a:latin typeface="Times New Roman"/>
              </a:rPr>
              <a:t> من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NO3</a:t>
            </a:r>
            <a:r>
              <a:rPr b="0" lang="ar-SA" sz="30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Times New Roman"/>
              </a:rPr>
              <a:t>بما إن الحجم يساوي الكتلة على الكثافة لذلك نأخذ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26.76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L</a:t>
            </a:r>
            <a:r>
              <a:rPr b="0" lang="ar-SA" sz="3000" spc="-1" strike="noStrike">
                <a:solidFill>
                  <a:srgbClr val="ffffff"/>
                </a:solidFill>
                <a:latin typeface="Times New Roman"/>
              </a:rPr>
              <a:t> من محلول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NO3</a:t>
            </a:r>
            <a:r>
              <a:rPr b="0" lang="ar-SA" sz="3000" spc="-1" strike="noStrike">
                <a:solidFill>
                  <a:srgbClr val="ffffff"/>
                </a:solidFill>
                <a:latin typeface="Times New Roman"/>
              </a:rPr>
              <a:t> ونضيف اليه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56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L</a:t>
            </a:r>
            <a:r>
              <a:rPr b="0" lang="ar-SA" sz="3000" spc="-1" strike="noStrike">
                <a:solidFill>
                  <a:srgbClr val="ffffff"/>
                </a:solidFill>
                <a:latin typeface="Times New Roman"/>
              </a:rPr>
              <a:t>  من الماء المقطر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9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مثال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: كيف تحضر محلول نسبته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%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من محلولين من حامض النتريك نسبتهما المئوية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علما ان كثافة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NO3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الذي تركيزة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هي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49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/mL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و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NO3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الذي  تركيزة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هي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45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/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eec94"/>
                </a:solidFill>
                <a:uFillTx/>
                <a:latin typeface="Times New Roman"/>
              </a:rPr>
              <a:t>طرق تحضير تراكيز مختلفة من الأحماض والقواعد السائلة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6840" y="1788480"/>
            <a:ext cx="8624880" cy="22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يتضمن الوعاء الذي يحتوي على المادة معلومات مثل النسبة المئوية للمادة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) والكثافة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) والوزن الجزيئي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.wt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)،.... ومن خلال هذه المعلومات يمكننا أن نحصل على المولارية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) والعيارية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) لمحلول المادة السائلة كما يل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523880" y="4040280"/>
                <a:ext cx="6324840" cy="28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eec94"/>
                </a:solidFill>
                <a:latin typeface="Times New Roman"/>
              </a:rPr>
              <a:t>الأخطاء والمعاملات الإحصائية للمعطيات التحليلية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151560"/>
            <a:ext cx="648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buClr>
                <a:srgbClr val="ffffff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تعبير عن التركيز ب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Simplified Arabic"/>
              </a:rPr>
              <a:t>mg/L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Simplified Arabic"/>
              </a:rPr>
              <a:t>  أو ماتعرف ب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Simplified Arabic"/>
              </a:rPr>
              <a:t>ppm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Simplified Arabic"/>
              </a:rPr>
              <a:t> ويمثل بالعلاقة الآتي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62120" y="838080"/>
          <a:ext cx="7467480" cy="21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838080"/>
                    <a:ext cx="7467480" cy="21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335600" y="3275640"/>
            <a:ext cx="720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buClr>
                <a:srgbClr val="ffffff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تعبير عن التركيز بـ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Simplified Arabic"/>
              </a:rPr>
              <a:t>g/L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أو ماتعرف بـ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ppb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ويمثل بالعلاقة الآتي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914400" y="4343400"/>
                <a:ext cx="7391520" cy="20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g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71680" y="387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-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 الأرقام المعنوية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Significant Figure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114800" y="1219320"/>
            <a:ext cx="4572000" cy="40384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عبر عن النتائج التحليلية بواسطة عدد من الأرقام، بواسطة الأداة المستخدمة، عند قراءة حجم ماء في مخبار مدرج قد تقرأ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3.4mL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أ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3.5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 أ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3.4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  يعني انه يجب أن يكون هناك شك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certainty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حول الرقم الأخير من العدد ويطلق على جميع الأرقام الصحيحة والمشكوك بها بالأرقام المعنوي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2781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153280" cy="5715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Times New Roman"/>
              </a:rPr>
              <a:t>فيما يأتي بعض القواعد التي يجب مراعاتها عند استعمال الأرقام المعنوي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- يمكن أن يكون الصفر رقم معنوي كما في النتيجة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1.2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ذو ثلاثة أرقام معنوية أو قد يستخدم في تحديد موقع الفاصلة العشرية فمثلاً في المثال السابق حجم الماء مثلا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3.5mL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و يساو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.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35L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فالرقم الأخير أيضاً ذو ثلاثة أرقام معنوي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- أن الأصفار المكتوبة بطريقة الأسس لا تعتبر أرقام معنوية فمثلا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20X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فيحتوي على ثلاثة أرقام معنوية بينما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,21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0,000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فهو يحتوي على سبعة أرقام معنوية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- عندما يراد تقريب قيمة إلى الرقم المعنوي المطلوب يراعى ما يلي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إذا كان الرقم على يمين الرقم المطلوب الاحتفاظ به أقل من خمسة فأن الرقم المطلوب الاحتفاظ به يبقى كما هو.مثلا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325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8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عند تقريبه إلي أربعة أرقام معنوية فأنه يصب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325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715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إذا كان الرقم على يمين الرقم المطلوب الاحتفاظ به أكبر من خمسة فيضاف واحد إلى الرقم المطلوب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3.235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خمسة أرقام معنوية يصبح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3.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إذا كان الرقم على يمين الرقم المطلوب الاحتفاظ ب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فأننا نضيف إلى الرقم المطلوب الاحتفاظ به واحد صحيح إذا كان فرديا أو يهمل دون إضافة إذا كان زوجياً فمثلاً عند تقريب العددين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373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أو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37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إلى أربعة أرقام معنوية يصبح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37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37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على التوالي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- عند إقرار الجمع والطرح لمجموعة من النتائج التحليلية أولاً يقرب النتائج جميعها إلى عدد من المراتب العشرية يساوي أقلها ثم تجري عملية الجمع والطرح فمثلا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.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و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216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025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تصبح أولاً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.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ثم نجري العملية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-عند إقرار النتائج في عملية الضرب والقسمة يراعى نفس السياق السابق مثا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3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1872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36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تصبح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ويقرب الجواب إلى الرقم معنوي واحد بعد الفاصل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-في اللوغاريتم يجب أن لا يتضمن الجزء العشري منه على عدد من الأرقام المعنوية أكثر من الموجود في الرقم الأصلي مثلاً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7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اللوغاريتم له يساوي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1038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يقرب هذا الرقم إلى ثلاثة أرقام معنوية كما في الرقم الأصلي فيصبح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10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-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 الأخطاء ومصادرها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30481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أخطاء المحددة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terminate errors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وتسمى أحيانا ًبالأخطاء النظامية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*الأخطاء غير المحددة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determinate errors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وتسمى بالأخطاء العشوائية أيضاً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2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7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 .ويتم معالجة هذا النوع من الأخطاء ببعض الطرق أهمها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-تحليل نماذج قياسية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-أجراء التحاليل بطرق مختلفة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-استعمال تحليلات ضابطة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-استعمال تحليلات لنماذج مختلفة الأوزان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3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8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3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8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3" dur="2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-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 -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ً</a:t>
            </a: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  الأخطاء غير المحددة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هي الأخطاء التي يصعب معرفة مصادرها ومقدارها وهذا النوع من الأخطاء تتبع قوانين وقواعد الإحصاء لتقرير الثقة في النتائج المستحصلة 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-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–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 المصطلحات والحسابات الإحصائية المستخدمة في الحسابات التحليلية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5306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دقة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curac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r" rtl="1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هي مقياس لمدى التقارب بين القيمة المقاسة مختبرياً والقيمة الحقيقية وكلما زاد التقارب بين القيمة المقاسية والقيمة الحقيقية زادت دقة القياس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r" rtl="1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توافق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cisi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r" rtl="1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مقياس مدى تقارب نتائج مجموعه من بعضها وكلما كان الاختلاف بين القيم المقاسة صغير كان التوافق كبير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قيمة الحقيقية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ue val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r" rtl="1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هي القيمة التي تعبر عن حقيقة القياس ويرمز لها بالرمز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وعندما يصعب معرفتها نستخدم عوضاً عنها القيمة ألأكثر احتمالاً   والتي يكون فيها احتمال الخطأ صغيرا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r" rtl="1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قيمة الملاحظة أو المقاسة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bserved val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r" rtl="1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هي القيمة الملاحظة بالتجربة فإذا كان عدد القيم المقاسة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فيمكن للقياسات الملاحظة  إن تأخذ قيم هي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،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،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X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2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7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2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7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خطأ المطلق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rro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هو الاختلاف بين القيمة الحقيقية والقيمة الملاحظة ويمكن أن تكون قيمتهُ موجبة أو سالبة ويرمز لهُ بالرمز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خطأ النسبي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llative err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نسبة بين الخطأ المطلق والقيمة الحقيقية مضروبة في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وسط أو المعدل الحسابي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en 0r Ave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هو مجموع القيم الملاحظة مقسوماً على عددها ويرمز له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514600" y="4800600"/>
                <a:ext cx="47242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0" y="362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منوال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هو القيمة الأكثر تكرار من مجموع قيم ملاحظة(مقاس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مدى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هو الفرق بين أكبر قيمة وأصغر قيمة ملاحظة (مقاس)ويعتبر من مقاييس الدق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وسيط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d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هو القيمة أو التنقية المقاسة التي يسببها عدد من القيم مساوي لعدد القيم التي تفقهها بعد ترتيب هذهِ القيم تصاعدياً أو تنازليا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8229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مثال: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حضر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محلول لكلوريد الصوديوم باذابة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g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منه في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00mL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من الماء المقطر، ، عبر عن تركيز المحلول بـ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/L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،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pm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و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p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381880" cy="62485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الانحراف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v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هو الاختلاف (الفرق)بين أي قيمة ملاحظة والوسط الحسابي ويرمز لهُ بالرمز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(بصرف النظر عن الإشارة الجبرية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متوسط الانحراف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verage dev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هو متوسط مجموع الانحراف للقيم عن الوسط الحسابي ويرمز لهُ بالرمز بــ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429000" y="1676520"/>
                <a:ext cx="280656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7010280" y="4114800"/>
                <a:ext cx="2397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d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666880" y="4800600"/>
                <a:ext cx="444528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d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d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X</m:t>
                                </m:r>
                              </m:e>
                              <m:lim>
                                <m:r>
                                  <m:t xml:space="preserve">−</m:t>
                                </m:r>
                              </m:lim>
                            </m:limUpp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5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5" dur="2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0" dur="2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الانحراف القياس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tandard devi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صطلح للتغير عن عقلانية النتائج ويرمز لهُ بالرم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إذا كان عدد القيم الملاحظة صغير ويرمز لهُ بالرمز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إذا كان عدد القيم المقاسة كبير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&gt;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2590920" y="3352680"/>
                <a:ext cx="493056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X</m:t>
                                    </m:r>
                                  </m:e>
                                  <m:lim>
                                    <m:r>
                                      <m:t xml:space="preserve">−</m:t>
                                    </m:r>
                                  </m:lim>
                                </m:limUp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438280" y="5105520"/>
                <a:ext cx="50292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X</m:t>
                                    </m:r>
                                  </m:e>
                                  <m:lim>
                                    <m:r>
                                      <m:t xml:space="preserve">−</m:t>
                                    </m:r>
                                  </m:lim>
                                </m:limUp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3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الانحراف القياسي النسبي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Relative Standard deviation(r.s.d 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يمثل النسبة المئوية للانحراف القياسي عن  المعدل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2590920" y="2449440"/>
                <a:ext cx="4344840" cy="19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limUpp>
                          <m:e>
                            <m:r>
                              <m:t xml:space="preserve">x</m:t>
                            </m:r>
                          </m:e>
                          <m:lim>
                            <m:r>
                              <m:t xml:space="preserve">−</m:t>
                            </m:r>
                          </m:lim>
                        </m:limUp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2590920" y="4495680"/>
                <a:ext cx="4343400" cy="19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limUpp>
                          <m:e>
                            <m:r>
                              <m:t xml:space="preserve">x</m:t>
                            </m:r>
                          </m:e>
                          <m:lim>
                            <m:r>
                              <m:t xml:space="preserve">−</m:t>
                            </m:r>
                          </m:lim>
                        </m:limUp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2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-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–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4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 التوزيع الاعتيادي للأخطاء العشوائية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380880" y="4572000"/>
                <a:ext cx="472464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π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0" y="36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181120" y="1218960"/>
            <a:ext cx="3505320" cy="525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حيث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= التكرار الناتج من قياس نفس العينة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= الانحراف القياسي لعدد كبير من القياسات ، يلاحظ للمنحنى السمات الآتي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– تحدث الانحرافات الصغيرة بصورة متكررة بينما  الانحرافات الكبيرة يكون ناد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- تحدث الانحرافات الموجبة والسالبة بنفس التكرار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– المساحة الكلية تحت المنحنى وأعلى الخط الأفقي تساوي وحدة مربعة مهما كان الانحراف القياسي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– توزيع القيم ( تكرارها) يكون منتظما أي أن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 من المساحة تقع على يمين القيمة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) و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 على اليسا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62120" y="1219320"/>
            <a:ext cx="3733560" cy="3276000"/>
            <a:chOff x="762120" y="1219320"/>
            <a:chExt cx="3733560" cy="327600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762120" y="1219320"/>
              <a:ext cx="3562200" cy="258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948600" y="3955320"/>
              <a:ext cx="3547080" cy="5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منحنى الطبيعي لتوزيع الأخطاء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1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4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3" dur="5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143000" y="319320"/>
            <a:ext cx="7467480" cy="584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076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– يمتد منحنى التوزيع الطبيعي نظر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بين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+3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إلى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-3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-العلاقة بين الانحراف القياسي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والمساح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تحت المنحنى على النحو التالي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إن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68.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%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من المساحة تقع ضم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المنطقة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-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،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+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وا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5.4%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من المساحة تقع ضم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المنطقة المحددة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-2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،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+2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وان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9.7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%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من المساحة تق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ضمن المنطقة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-3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،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+3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اذا كانت قيمة الانحراف القياسي لتحليل عينة هو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وان نتائج التحليل لهذه العينة هو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28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نقول وبثقة حدودها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68.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%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إن نتيجة التحليل الحقيقية هي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286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وبثقة حدودها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5.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%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فان القيمة الحقيقية هي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286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وبثقة حدودها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9.7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%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فان القيمة الحقيقية هي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286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3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5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مثال: عند تقدير النحاس في عينة حصلنا على النتائج التالي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3108240"/>
            <a:ext cx="890748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.4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.6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.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.9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.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.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.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.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.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.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0.5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μ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/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39840" y="4648320"/>
            <a:ext cx="69548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eec94"/>
                </a:solidFill>
                <a:latin typeface="Times New Roman"/>
              </a:rPr>
              <a:t>أحسب الانحراف القياسي النسبي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3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"/>
          <p:cNvGrpSpPr/>
          <p:nvPr/>
        </p:nvGrpSpPr>
        <p:grpSpPr>
          <a:xfrm>
            <a:off x="228600" y="228600"/>
            <a:ext cx="3086280" cy="3276720"/>
            <a:chOff x="228600" y="228600"/>
            <a:chExt cx="3086280" cy="3276720"/>
          </a:xfrm>
        </p:grpSpPr>
        <p:sp>
          <p:nvSpPr>
            <p:cNvPr id="356" name=""/>
            <p:cNvSpPr/>
            <p:nvPr/>
          </p:nvSpPr>
          <p:spPr>
            <a:xfrm>
              <a:off x="228600" y="228600"/>
              <a:ext cx="3086280" cy="327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                       (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- )            (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- )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.4                      -0.6                  0.3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9.6                       0.6                  0.3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.5                      -0.5                  0.2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.9                      -0.1                  0.0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9.5                       0.5                  0.2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9.1                       0.1                  0.0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.5                      -0.5                  0.2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9.0                       0.0                  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.5                      -0.5                  0.2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.5                      -0.5                  0.2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0.5                     1.5                  2.2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4267080" y="380880"/>
                <a:ext cx="396252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1905120" y="3200400"/>
            <a:ext cx="2514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4343400" y="1523880"/>
                <a:ext cx="312408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limUpp>
                                  <m:e>
                                    <m:r>
                                      <m:t xml:space="preserve">X</m:t>
                                    </m:r>
                                  </m:e>
                                  <m:lim>
                                    <m:r>
                                      <m:t xml:space="preserve">−</m:t>
                                    </m:r>
                                  </m:lim>
                                </m:limUp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572000" y="2895480"/>
                <a:ext cx="2666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4876920" y="411480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limUpp>
                          <m:e>
                            <m:r>
                              <m:t xml:space="preserve">x</m:t>
                            </m:r>
                          </m:e>
                          <m:lim>
                            <m:r>
                              <m:t xml:space="preserve">−</m:t>
                            </m:r>
                          </m:lim>
                        </m:limUp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-99072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2007800" y="2560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41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3886200" y="5334120"/>
                <a:ext cx="41911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100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0" y="36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-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–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5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 حدود الثقة :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he Confidenece Limit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1447920" y="2514600"/>
                <a:ext cx="62481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fidene Limits</m:t>
                    </m:r>
                    <m:r>
                      <m:t xml:space="preserve">=</m:t>
                    </m:r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s</m:t>
                        </m:r>
                      </m:num>
                      <m:den>
                        <m:rad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3794760"/>
            <a:ext cx="7564320" cy="283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</a:rPr>
              <a:t>حيث أن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</a:rPr>
              <a:t> ترمز لمعامل إحصائي يعتمد على عد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</a:rPr>
              <a:t> درجات الحرية وعلى مستوى الثقة المطلو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</a:rPr>
              <a:t> ويستخرج قيمته من الجدول الإحصائي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مثال: عند معايرة عينة من كربونات الصوديوم  بمحلول قياسي من حامض وتكرار المعايرة ثلاث مرات حصلنا على النتائج التالية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93.58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%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 ،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93.43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%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 و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93.50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%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 من كربونات الصوديوم في العينة. احسب حدود الثقة للقيمة الحقيقية عند مستوى ثقة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95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%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590920" y="152280"/>
                <a:ext cx="464796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/L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286000" y="1676520"/>
                <a:ext cx="5029200" cy="17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/L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223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2600" y="2706120"/>
            <a:ext cx="232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3657600"/>
            <a:ext cx="2373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301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g/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301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100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mg/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301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10000pp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301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Simplified Arabic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/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01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Simplified Arabic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pp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304920" y="685800"/>
          <a:ext cx="4114800" cy="7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41148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698040" y="1463040"/>
            <a:ext cx="18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= 0.07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04920" y="2209680"/>
                <a:ext cx="38862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fidene Limits</m:t>
                    </m:r>
                    <m:r>
                      <m:t xml:space="preserve">=</m:t>
                    </m:r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s</m:t>
                        </m:r>
                      </m:num>
                      <m:den>
                        <m:rad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0" y="365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152280" y="3429000"/>
                <a:ext cx="4267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fidene Limit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 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3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ad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0" y="365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5561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93.50 ±0.19%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4648320" y="380880"/>
            <a:ext cx="4228920" cy="4800600"/>
            <a:chOff x="4648320" y="380880"/>
            <a:chExt cx="4228920" cy="4800600"/>
          </a:xfrm>
        </p:grpSpPr>
        <p:sp>
          <p:nvSpPr>
            <p:cNvPr id="388" name=""/>
            <p:cNvSpPr/>
            <p:nvPr/>
          </p:nvSpPr>
          <p:spPr>
            <a:xfrm>
              <a:off x="4648320" y="380880"/>
              <a:ext cx="4228920" cy="48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2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              حدود الثقة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            (n-1)           90%            95%            99%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     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.314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2.706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6.65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92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.303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9.92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353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.18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5.84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13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776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.60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015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57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.003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7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943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447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.70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7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895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365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.49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9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86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306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.35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9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833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26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.25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81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228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.16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796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20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.10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3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78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179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.05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4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3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177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16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.0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5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4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76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145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97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6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5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753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..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3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94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725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086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84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6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5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708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06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78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967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04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75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684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2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70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67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00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66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        1.654            1.960         2.576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                            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762440" y="633240"/>
              <a:ext cx="354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762440" y="1138680"/>
              <a:ext cx="354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62440" y="4928760"/>
              <a:ext cx="38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05440" y="885960"/>
              <a:ext cx="240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5" dur="indefinite" restart="never" nodeType="tmRoot">
          <p:childTnLst>
            <p:seq>
              <p:cTn id="1556" dur="indefinite" nodeType="mainSeq">
                <p:childTnLst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ar-SA" sz="28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28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ar-SA" sz="2800" spc="-1" strike="noStrike">
                <a:solidFill>
                  <a:srgbClr val="feec94"/>
                </a:solidFill>
                <a:latin typeface="Times New Roman"/>
              </a:rPr>
              <a:t>  طريقة النسبة المئوية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ar-SA" sz="28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</a:t>
            </a:r>
            <a:r>
              <a:rPr b="1" lang="ar-SA" sz="2800" spc="-1" strike="noStrike">
                <a:solidFill>
                  <a:srgbClr val="feec94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ar-SA" sz="2800" spc="-1" strike="noStrike">
                <a:solidFill>
                  <a:srgbClr val="feec94"/>
                </a:solidFill>
                <a:latin typeface="Times New Roman"/>
              </a:rPr>
              <a:t> -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ar-SA" sz="2800" spc="-1" strike="noStrike">
                <a:solidFill>
                  <a:srgbClr val="feec94"/>
                </a:solidFill>
                <a:latin typeface="Times New Roman"/>
              </a:rPr>
              <a:t> النسبة المئوية الوزنية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W/W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) %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80880" y="3809880"/>
          <a:ext cx="8610840" cy="15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9880"/>
                    <a:ext cx="861084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58920" y="1676160"/>
            <a:ext cx="78768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تعرف  بوزن المذاب بالجرامات الموجود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0g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من المحلول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eec94"/>
                </a:solidFill>
                <a:latin typeface="Times New Roman"/>
              </a:rPr>
              <a:t>مثال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:  عبر عن التركيز بالنسبة المئوية الوزنية لمحلول يزن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00g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 ويحتوي على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5g</a:t>
            </a: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 من كبريتات الصوديوم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66680" y="2057400"/>
                <a:ext cx="6629400" cy="29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/W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g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0" y="37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22:38:33Z</dcterms:created>
  <dc:creator>bassam badar</dc:creator>
  <dc:description/>
  <dc:language>en-US</dc:language>
  <cp:lastModifiedBy>egyptian hak</cp:lastModifiedBy>
  <dcterms:modified xsi:type="dcterms:W3CDTF">2009-02-27T02:46:20Z</dcterms:modified>
  <cp:revision>82</cp:revision>
  <dc:subject/>
  <dc:title>1-3 طرق التعبير عن التركيز  Methods Expressing Concentration </dc:title>
</cp:coreProperties>
</file>