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ineJ.Lennon.wav" ContentType="audio/x-wav"/>
  <Override PartName="/ppt/media/image28.jpeg" ContentType="image/jpeg"/>
  <Override PartName="/ppt/media/image7.jpeg" ContentType="image/jpeg"/>
  <Override PartName="/ppt/media/image35.gif" ContentType="image/gif"/>
  <Override PartName="/ppt/media/image19.jpeg" ContentType="image/jpeg"/>
  <Override PartName="/ppt/media/image11.png" ContentType="image/png"/>
  <Override PartName="/ppt/media/image8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1F8-34B2-42F0-B561-75D88880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7B1-7FEB-4B36-B974-2442243D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61E-F227-43FD-ACBD-B449B745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21C-5672-4FA5-A505-FF5C3825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00A-23A5-445A-A546-8CA45898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998-860C-4561-9ECD-143040AE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28A-8B3B-49E3-93D5-04B81E35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E9B-44CE-48B0-A123-F7F511FF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BC3-830C-489C-897A-8ADA4052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C14-638D-4CA0-B4AB-BAF6E13A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F5B-C9B8-4F41-92CF-81B3F37A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BAE-7BD8-458C-BEF0-57AA3E1B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288A-49A9-4F69-9F92-FD0886A10F0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spps.com/" TargetMode="External"/><Relationship Id="rId3" Type="http://schemas.openxmlformats.org/officeDocument/2006/relationships/audio" Target="../media/ImagineJ.Lenno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332000" y="692280"/>
            <a:ext cx="338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99"/>
                </a:solidFill>
                <a:latin typeface="Andy"/>
              </a:rPr>
              <a:t>IMAG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50920" y="1557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ndy"/>
              </a:rPr>
              <a:t>John LE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024360" y="60213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Comic Sans MS"/>
              </a:rPr>
              <a:t>(Pour que les paroles écrites correspondent à la chanson, laissez les pages se dérouler sans interven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500120" y="3071880"/>
            <a:ext cx="66438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Présenté par le site </a:t>
            </a:r>
            <a:r>
              <a:rPr b="0" lang="en-GB" sz="36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Mespps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Amusez-vous avec vos amis en leur envoyant nos pps par e-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diamond/>
    <p:sndAc>
      <p:stSnd>
        <p:snd r:embed="rId3" name="ImagineJ.Lenno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mains1"/>
          <p:cNvPicPr/>
          <p:nvPr/>
        </p:nvPicPr>
        <p:blipFill>
          <a:blip r:embed="rId1"/>
          <a:stretch/>
        </p:blipFill>
        <p:spPr>
          <a:xfrm>
            <a:off x="539640" y="-33480"/>
            <a:ext cx="7740720" cy="68914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550160" y="189000"/>
            <a:ext cx="5961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You may say I'm a dreamer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t I'm not the only one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 hope someday you'll join us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d the world will be as one...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631600" y="2492280"/>
            <a:ext cx="396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Tu peux dire que je suis un rêveur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mais je ne suis pas le seul,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j'espère qu'un jour tu nous rejoindras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et que le monde sera ainsi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235960" y="404640"/>
            <a:ext cx="488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magine no possessions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 wonder if you can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921040" y="170028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Imagine aucune possession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je me demande si tu peux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2378520" y="260280"/>
            <a:ext cx="58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need for greed or hu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846880" y="98100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ul sentiment d'avidité ou de fai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mage1"/>
          <p:cNvPicPr/>
          <p:nvPr/>
        </p:nvPicPr>
        <p:blipFill>
          <a:blip r:embed="rId1"/>
          <a:stretch/>
        </p:blipFill>
        <p:spPr>
          <a:xfrm>
            <a:off x="1905120" y="1600200"/>
            <a:ext cx="5333760" cy="36576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imoges_chaine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2463480" y="260280"/>
            <a:ext cx="45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brotherhood of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05800" y="105264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ne fraternité d'hommes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onde2"/>
          <p:cNvPicPr/>
          <p:nvPr/>
        </p:nvPicPr>
        <p:blipFill>
          <a:blip r:embed="rId1"/>
          <a:stretch/>
        </p:blipFill>
        <p:spPr>
          <a:xfrm>
            <a:off x="250920" y="227664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monde3"/>
          <p:cNvPicPr/>
          <p:nvPr/>
        </p:nvPicPr>
        <p:blipFill>
          <a:blip r:embed="rId2"/>
          <a:stretch/>
        </p:blipFill>
        <p:spPr>
          <a:xfrm>
            <a:off x="4788000" y="227664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220480" y="260280"/>
            <a:ext cx="456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magine all the peopl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aring all the worl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06160" y="1484280"/>
            <a:ext cx="27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magine que les gens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se partagent le monde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ains0"/>
          <p:cNvPicPr/>
          <p:nvPr/>
        </p:nvPicPr>
        <p:blipFill>
          <a:blip r:embed="rId1"/>
          <a:stretch/>
        </p:blipFill>
        <p:spPr>
          <a:xfrm>
            <a:off x="0" y="0"/>
            <a:ext cx="4578480" cy="6861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300120" y="260280"/>
            <a:ext cx="5920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may say I'm a dream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t I'm not the only one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hope someday you'll join u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the world will be as one..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720680" y="2852640"/>
            <a:ext cx="396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u peux dire que je suis un rêveur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ais je ne suis pas le seul,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j'espère qu'un jour tu nous rejoindras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t que le monde sera ainsi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488160" y="62064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dy"/>
              </a:rPr>
              <a:t>Thème musical -IMA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546480" y="134136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dy"/>
              </a:rPr>
              <a:t>John LE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79280" y="508464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dy"/>
              </a:rPr>
              <a:t>Création – Josette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dy"/>
              </a:rPr>
              <a:t>18 MAR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plus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35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350"/>
                            </p:stCondLst>
                            <p:childTnLst>
                              <p:par>
                                <p:cTn id="5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95600" y="549360"/>
            <a:ext cx="53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magine there's no heaven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's easy if you try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767240" y="2133720"/>
            <a:ext cx="37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Imagine qu'il n'y ait pas de paradis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C'est facile si tu essaies,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4963320" y="476280"/>
            <a:ext cx="344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 hell below u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295600" y="1628640"/>
            <a:ext cx="29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Pas d'enfer sous nos pied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4624920" y="54936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bove us only sky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289760" y="1484280"/>
            <a:ext cx="40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eulement le ciel au-dessus de nous,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Surrounding%20Dhaka%20%20033%20%20DSC_0517"/>
          <p:cNvPicPr/>
          <p:nvPr/>
        </p:nvPicPr>
        <p:blipFill>
          <a:blip r:embed="rId1"/>
          <a:stretch/>
        </p:blipFill>
        <p:spPr>
          <a:xfrm>
            <a:off x="539640" y="700200"/>
            <a:ext cx="8136000" cy="5408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52120" y="961920"/>
            <a:ext cx="456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magine all the people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iving for today...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13440" y="2565360"/>
            <a:ext cx="25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Imagine que les gens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vivent au jour le jour 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"/>
          <p:cNvGrpSpPr/>
          <p:nvPr/>
        </p:nvGrpSpPr>
        <p:grpSpPr>
          <a:xfrm>
            <a:off x="395280" y="476280"/>
            <a:ext cx="8172360" cy="5670360"/>
            <a:chOff x="395280" y="476280"/>
            <a:chExt cx="8172360" cy="5670360"/>
          </a:xfrm>
        </p:grpSpPr>
        <p:pic>
          <p:nvPicPr>
            <p:cNvPr id="55" name="Picture 5" descr="48f8_2"/>
            <p:cNvPicPr/>
            <p:nvPr/>
          </p:nvPicPr>
          <p:blipFill>
            <a:blip r:embed="rId2"/>
            <a:stretch/>
          </p:blipFill>
          <p:spPr>
            <a:xfrm>
              <a:off x="6948360" y="476280"/>
              <a:ext cx="161928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6" descr="568a_2"/>
            <p:cNvPicPr/>
            <p:nvPr/>
          </p:nvPicPr>
          <p:blipFill>
            <a:blip r:embed="rId3"/>
            <a:stretch/>
          </p:blipFill>
          <p:spPr>
            <a:xfrm>
              <a:off x="395280" y="3213000"/>
              <a:ext cx="179064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7" descr="112b"/>
            <p:cNvPicPr/>
            <p:nvPr/>
          </p:nvPicPr>
          <p:blipFill>
            <a:blip r:embed="rId4"/>
            <a:stretch/>
          </p:blipFill>
          <p:spPr>
            <a:xfrm>
              <a:off x="2266920" y="4724280"/>
              <a:ext cx="2369880" cy="14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8" descr="110b"/>
            <p:cNvPicPr/>
            <p:nvPr/>
          </p:nvPicPr>
          <p:blipFill>
            <a:blip r:embed="rId5"/>
            <a:stretch/>
          </p:blipFill>
          <p:spPr>
            <a:xfrm>
              <a:off x="6372000" y="1228680"/>
              <a:ext cx="187164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104b"/>
            <p:cNvPicPr/>
            <p:nvPr/>
          </p:nvPicPr>
          <p:blipFill>
            <a:blip r:embed="rId6"/>
            <a:stretch/>
          </p:blipFill>
          <p:spPr>
            <a:xfrm>
              <a:off x="4643280" y="2924280"/>
              <a:ext cx="200988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0" descr="118b"/>
            <p:cNvPicPr/>
            <p:nvPr/>
          </p:nvPicPr>
          <p:blipFill>
            <a:blip r:embed="rId7"/>
            <a:stretch/>
          </p:blipFill>
          <p:spPr>
            <a:xfrm>
              <a:off x="682560" y="549360"/>
              <a:ext cx="208116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1" descr="135b"/>
            <p:cNvPicPr/>
            <p:nvPr/>
          </p:nvPicPr>
          <p:blipFill>
            <a:blip r:embed="rId8"/>
            <a:stretch/>
          </p:blipFill>
          <p:spPr>
            <a:xfrm>
              <a:off x="1474560" y="1773360"/>
              <a:ext cx="208116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2" descr="93_2"/>
            <p:cNvPicPr/>
            <p:nvPr/>
          </p:nvPicPr>
          <p:blipFill>
            <a:blip r:embed="rId9"/>
            <a:stretch/>
          </p:blipFill>
          <p:spPr>
            <a:xfrm>
              <a:off x="5722920" y="4653000"/>
              <a:ext cx="212076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3" descr="d9d2_2"/>
            <p:cNvPicPr/>
            <p:nvPr/>
          </p:nvPicPr>
          <p:blipFill>
            <a:blip r:embed="rId10"/>
            <a:stretch/>
          </p:blipFill>
          <p:spPr>
            <a:xfrm>
              <a:off x="1979280" y="3357720"/>
              <a:ext cx="190512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4" descr="c553_2"/>
            <p:cNvPicPr/>
            <p:nvPr/>
          </p:nvPicPr>
          <p:blipFill>
            <a:blip r:embed="rId11"/>
            <a:stretch/>
          </p:blipFill>
          <p:spPr>
            <a:xfrm>
              <a:off x="6804000" y="2492280"/>
              <a:ext cx="161928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5" descr="141b"/>
            <p:cNvPicPr/>
            <p:nvPr/>
          </p:nvPicPr>
          <p:blipFill>
            <a:blip r:embed="rId12"/>
            <a:stretch/>
          </p:blipFill>
          <p:spPr>
            <a:xfrm>
              <a:off x="3922560" y="1052640"/>
              <a:ext cx="208116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6" descr="134b"/>
            <p:cNvPicPr/>
            <p:nvPr/>
          </p:nvPicPr>
          <p:blipFill>
            <a:blip r:embed="rId13"/>
            <a:stretch/>
          </p:blipFill>
          <p:spPr>
            <a:xfrm>
              <a:off x="6372000" y="1197000"/>
              <a:ext cx="1866960" cy="112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Rectangle 17"/>
          <p:cNvSpPr/>
          <p:nvPr/>
        </p:nvSpPr>
        <p:spPr>
          <a:xfrm>
            <a:off x="1988640" y="404640"/>
            <a:ext cx="578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magine there's no countries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isn't hard to do,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2630520" y="1916280"/>
            <a:ext cx="376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Imagine qu'il n'y ait plus de nations 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ce n'est pas difficile à faire,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xit" presetID="2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mage1"/>
          <p:cNvPicPr/>
          <p:nvPr/>
        </p:nvPicPr>
        <p:blipFill>
          <a:blip r:embed="rId1"/>
          <a:stretch/>
        </p:blipFill>
        <p:spPr>
          <a:xfrm>
            <a:off x="4211640" y="1125360"/>
            <a:ext cx="4572000" cy="5158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91320" y="620640"/>
            <a:ext cx="485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hing to kill or die fo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24000" y="17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Rien à tuer, ni nulle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our laquelle mouri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glise-lieu-culte-villes-mosquee-380576"/>
          <p:cNvPicPr/>
          <p:nvPr/>
        </p:nvPicPr>
        <p:blipFill>
          <a:blip r:embed="rId2"/>
          <a:stretch/>
        </p:blipFill>
        <p:spPr>
          <a:xfrm rot="20803200">
            <a:off x="395280" y="476280"/>
            <a:ext cx="4103640" cy="271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eglise-lieu-culte-chretien-campagne-920522"/>
          <p:cNvPicPr/>
          <p:nvPr/>
        </p:nvPicPr>
        <p:blipFill>
          <a:blip r:embed="rId3"/>
          <a:stretch/>
        </p:blipFill>
        <p:spPr>
          <a:xfrm rot="616800">
            <a:off x="2268000" y="256536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temple-bouddhisme-villes-pagode-asie-682070"/>
          <p:cNvPicPr/>
          <p:nvPr/>
        </p:nvPicPr>
        <p:blipFill>
          <a:blip r:embed="rId4"/>
          <a:stretch/>
        </p:blipFill>
        <p:spPr>
          <a:xfrm>
            <a:off x="6377040" y="2708280"/>
            <a:ext cx="2766960" cy="4149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997200" y="4994280"/>
            <a:ext cx="40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d no religion too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480320" y="5942160"/>
            <a:ext cx="29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Et pas de religion non plus,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psp-a14-im1"/>
          <p:cNvPicPr/>
          <p:nvPr/>
        </p:nvPicPr>
        <p:blipFill>
          <a:blip r:embed="rId1"/>
          <a:stretch/>
        </p:blipFill>
        <p:spPr>
          <a:xfrm rot="20523600">
            <a:off x="755640" y="1052280"/>
            <a:ext cx="5111640" cy="3119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4236480" y="3789360"/>
            <a:ext cx="456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magine all the peopl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ing life in peace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943240" y="508464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magine que les gens </a:t>
            </a:r>
            <a:br>
              <a:rPr sz="1800"/>
            </a:b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ivent leur vie en paix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7:05:49Z</dcterms:created>
  <dc:creator>JGhs</dc:creator>
  <dc:description>dimanche 6 mai 2007</dc:description>
  <dc:language>en-US</dc:language>
  <cp:lastModifiedBy>Smets</cp:lastModifiedBy>
  <dcterms:modified xsi:type="dcterms:W3CDTF">2010-01-14T04:29:57Z</dcterms:modified>
  <cp:revision>9</cp:revision>
  <dc:subject>***</dc:subject>
  <dc:title>Imagine</dc:title>
</cp:coreProperties>
</file>